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2280" y="6238800"/>
            <a:ext cx="281628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  <a:ea typeface="GillSans"/>
              </a:rPr>
              <a:t>IPv6: Migration to a new Interne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61880" y="6469200"/>
            <a:ext cx="19224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© 1996 SCO  All Rights Reserved - Slide </a:t>
            </a:r>
            <a:fld id="{8D715E98-D24D-49A3-89DD-F550EAA5BD30}" type="slidenum">
              <a:rPr b="0" lang="en-US" sz="800" spc="-1" strike="noStrike">
                <a:solidFill>
                  <a:srgbClr val="000000"/>
                </a:solidFill>
                <a:latin typeface="GillSans"/>
                <a:ea typeface="GillSan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91640" y="6067440"/>
            <a:ext cx="814320" cy="5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32520" y="5257800"/>
            <a:ext cx="1720800" cy="1104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83200" y="5029200"/>
            <a:ext cx="77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4731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Pv6: Migration to a new</a:t>
            </a:r>
            <a:br>
              <a:rPr sz="4000"/>
            </a:b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Internet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2800" spc="-1" strike="noStrike">
                <a:solidFill>
                  <a:srgbClr val="0038ef"/>
                </a:solidFill>
                <a:latin typeface="GillSans"/>
                <a:ea typeface="GillSans"/>
              </a:rPr>
              <a:t>Harvey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lang="en-US" sz="2400" spc="-1" strike="noStrike">
                <a:solidFill>
                  <a:srgbClr val="0038ef"/>
                </a:solidFill>
                <a:latin typeface="GillSans"/>
                <a:ea typeface="GillSans"/>
              </a:rPr>
              <a:t>Software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o cre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F_INET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e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s tak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_i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(), conn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msg(), sendt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unctions return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_i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pt(), recvfrom(), recvms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eername(), getsock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Support in socke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Usually written as eight 16 bit hex numbers, separated by a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0000:0000:0000:0008:0800:0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eading zeroes in each field not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0:0:0:8:800: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ne group of multiple 16 bit zeroes may be written as two co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0::8:800:200c:4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1)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IPv6 Address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 case for IPv4 embedded addresses, last two fields can be written in IPv4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150.126.25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FFFF:150.126.25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6 tunneled over IPv4 uses former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(or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4-compatible IPv6 address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6 talking to IPv4 uses l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(or </a:t>
            </a:r>
            <a:r>
              <a:rPr b="1" i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Pv4-mapped IPv6 address</a:t>
            </a: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2)</a:t>
            </a:r>
            <a:br>
              <a:rPr sz="4000"/>
            </a:br>
            <a:r>
              <a:rPr b="1" lang="en-US" sz="3200" spc="-1" strike="noStrike">
                <a:solidFill>
                  <a:srgbClr val="0038ef"/>
                </a:solidFill>
                <a:latin typeface="GillSans"/>
                <a:ea typeface="GillSans"/>
              </a:rPr>
              <a:t>IPv6 Address Notatio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hostname to address(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addrinfo()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(POSIX 1003.1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to 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name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heck for embedded IPv4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6_isipv4add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string to addres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pt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nvert address structure to addres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ntop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_ADDRSTR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6_ADDRSTR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name/address function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3640" y="1523880"/>
            <a:ext cx="7416720" cy="46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low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FLOWINFO_FLOWLABEL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24 bit m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FLOWINFO_PRIORITY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4 bit m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PRIORITY_*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8 congestion, 8 rea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ocket optio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IPPROTO_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ADD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UNICAST_HOPS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IF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HOPS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MULTICAST_LOO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ther featur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ADD_MEMBERSHI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in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_DROP_MEMBERSHIP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(in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pv6_mreq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432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multicast grou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432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interfa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2352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6addr_any, IN6ADDR_ANY_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  <a:tabLst>
                <a:tab algn="l" pos="188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6addr_loopback, IN6ADDR_LOOPBACK_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ther featur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63640" y="1523880"/>
            <a:ext cx="7416720" cy="44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API definitions are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draft will eventually become an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standards have room for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Keep an eye on new RFCs that update or outdate existing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is means things will probabl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urther Reading is probably out of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is presentation is probably out of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CO’s plans for IPv6 may well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is is out of dat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63640" y="1523880"/>
            <a:ext cx="7416720" cy="44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Png Home Page” 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playground.sun.com/pub/ipng/html/ipng-m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Basic Socket Interface Extensions for IPv6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internet-drafts/draft-ietf-ipngwg-bsd-api-05.txt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net Protocol, Version 6 (IPv6) Specification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P Version 6 Addressing Architecture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4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Internet Control Message Protocol (ICMPv6) for the Internet Protocol Version 6 (IPv6)”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1885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Plus many more…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rfc/rfc-index.tx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ds.internic.net/internet-drafts/1id-index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Further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at is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y is IPv6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When will IPv6 become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How do we migrate to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version of the Internet Protocol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Larger address space (128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mproved address hierarchies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implified head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Improved op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Compatible with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at is IPv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3640" y="1536840"/>
            <a:ext cx="74167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The Internet is growing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IPv4 address space will run out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backbone routers may collapse so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upport for new and futur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y is IPv6 nee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63640" y="1536840"/>
            <a:ext cx="741672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From SCO, partially in Gemini (mid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user level socket APIs will support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he O/S services will be “IPv6 read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Later on SCO will ship ful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Protocol (device and kernel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itional IPv6 services and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Industry support over nex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When will IPv6 become avai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63640" y="1523880"/>
            <a:ext cx="74167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igrate existing networked applications in mi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Add support for IPv6 address formats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Test using IPv4 node address (::FFFF:d.d.d.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Most migrated applications should “just work” when full implementation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pecialised applications may then need more changes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How do we migrate to IPv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Extends existing BSD style socke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address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Support in socke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name/addres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44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Oth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Flow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ocke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peci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228600"/>
            <a:ext cx="8839080" cy="12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The IPv6 socket API Draf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protocol and addres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F_INET6</a:t>
            </a: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F_INE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IPv6 addres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6_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s of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address data structur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52388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90000"/>
              </a:lnSpc>
              <a:spcBef>
                <a:spcPts val="1919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GillSans"/>
                <a:ea typeface="GillSans"/>
              </a:rPr>
              <a:t>New sockadd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kaddr_in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6 bit family (or 8 bit length, 8 bit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6 bit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32 bit flow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38ef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GillSans"/>
                <a:ea typeface="GillSans"/>
              </a:rPr>
              <a:t>128 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38ef"/>
                </a:solidFill>
                <a:latin typeface="GillSans"/>
                <a:ea typeface="GillSans"/>
              </a:rPr>
              <a:t>New address data structur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i Nakada, John Lehmann</dc:creator>
  <dc:description/>
  <dc:language>en-US</dc:language>
  <cp:lastModifiedBy>Niki Nakada, John Lehmann</cp:lastModifiedBy>
  <cp:revision>0</cp:revision>
  <dc:subject/>
  <dc:title>Black and White Template</dc:title>
</cp:coreProperties>
</file>