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299104-DFE0-4A1C-B216-7F62A2B09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70120"/>
                <a:tab algn="l" pos="110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(to signal audience the presentation is about to star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Drivers are now 30-50% smaller (in terms of lines of coded and object file size), and many drivers are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ell “remove more code” jok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We have also uncovered man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GillSans"/>
                <a:ea typeface="GillSans"/>
              </a:rPr>
              <a:t>long-standing bugs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 when converting LLI drivers to M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he overall benefit of MDI is </a:t>
            </a:r>
            <a:r>
              <a:rPr b="0" lang="en-US" sz="1200" spc="-1" strike="noStrike" u="sng">
                <a:solidFill>
                  <a:srgbClr val="fc0128"/>
                </a:solidFill>
                <a:uFillTx/>
                <a:latin typeface="GillSans"/>
                <a:ea typeface="GillSans"/>
              </a:rPr>
              <a:t>higher quality drivers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, developed at a </a:t>
            </a:r>
            <a:r>
              <a:rPr b="0" lang="en-US" sz="1200" spc="-1" strike="noStrike" u="sng">
                <a:solidFill>
                  <a:srgbClr val="fc0128"/>
                </a:solidFill>
                <a:uFillTx/>
                <a:latin typeface="GillSans"/>
                <a:ea typeface="GillSans"/>
              </a:rPr>
              <a:t>reduced exp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We belive strongly that high-performance should be something that is built-in to a driver from the start, and that there should not have to be a great deal of additional effort needed to add performance to a driver after the f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Another important benefit of the Gemini MDI/DLPI architecture is the extensibility to multiple network media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(read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(read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Junior developer with no driver experience ported MDI driver </a:t>
            </a:r>
            <a:r>
              <a:rPr b="0" lang="en-US" sz="1200" spc="-1" strike="noStrike" u="sng">
                <a:solidFill>
                  <a:srgbClr val="fc0128"/>
                </a:solidFill>
                <a:uFillTx/>
                <a:latin typeface="GillSans"/>
                <a:ea typeface="GillSans"/>
              </a:rPr>
              <a:t>in 4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Converting an existing driver from  DLPI to MDI is easy - we have found that most of the work consists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GillSans"/>
                <a:ea typeface="GillSans"/>
              </a:rPr>
              <a:t>removing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(read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(read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(read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All in all, network drivers should be easier to test than ever bef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Int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My name is Rob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I’m the Engineering Manager responsible for Network Drivers and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Please feel free to ask question during the presentation if anything is un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I will leave a question and answer period at the end of the presentation to take any additional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Let me state that since these slides are not included in the Forum ‘96 Proceedings book, we have provided hard copy hando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Now I’d like to focus on X server features and graphics driver architecture for Gem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(read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Our well-established X driver interface is already a very simplified model for driver develop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Our toolkit has many advantages to other X porting layers or even Microsoft Wind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he driver interface is called NFB, which stands for “No Frame Buff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It allows the driver developer to focus exlusively on programming the hardware, with virtually no knowledge of X Windows requ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(read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An SCO X driver can be developed very quickly because it lends itself to stepwise-optim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Our developers tell us that developing an SCO X driver is easier than developing a driver for MS Window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(read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(read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(read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hat’s it for my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I encourage you to take home a copy of the Gemini Forum DK CD, and dig into the preliminary documentation for more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Now I’d be happy to take a few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My talk today will discuss the high level features and driver architectures we’re working on for Gemini in the area of networking and graph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As always, one of our highest priorities for Gemini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o enable vendors to develop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GillSans"/>
                <a:ea typeface="GillSans"/>
              </a:rPr>
              <a:t>better drivers in les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Reduce the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GillSans"/>
                <a:ea typeface="GillSans"/>
              </a:rPr>
              <a:t>cost of developing and maintaining drivers for 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I’ll also provide some details about what we’ve provided in the Forum snapshot of the Gemini DK and how you can us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he goal of my talk is to provide a good overview of what it takes to develop graphics and network drivers for Gemi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(read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We’ve found that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GillSans"/>
                <a:ea typeface="GillSans"/>
              </a:rPr>
              <a:t>vast majorit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y of problems that customers encounter turn out to be configuration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Unfortunately, UnixWare network configuration still uses different commands and user interfaces for the setup of network protocols and hardware, with no clear indication of bindings between cards and sta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But we’ve had great success in reducing customer configuration problems in OpenServer by providing an easy-to-use, single point configuration manager for initial networking set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herefore, the SCOadmin-based OpenServer configuration interface is being migrated to Gemini and being further impr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his interface includes an extensible facility for detection (and optional read/write hardware configuration)  of programmable ISA adapters, which unifies hardware configuration with software setup under a one-step, graphical configurat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(read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he most significant improvement for network driver developers is the MDI driver architecture, first developed for OpenSer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his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GillSans"/>
                <a:ea typeface="GillSans"/>
              </a:rPr>
              <a:t>greatly improved driver architecture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 provide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GillSans"/>
                <a:ea typeface="GillSans"/>
              </a:rPr>
              <a:t>reduced driver complexity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 and other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Small, simplified drivers are sometimes called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illSans"/>
                <a:ea typeface="GillSans"/>
              </a:rPr>
              <a:t>mini-port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hen new MDI/DLPI driver architecture protects the driver from protocol stack changes, and allows developers to leverage their OpenServer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Most importantly, it allows IHV’s to maintain one set of driver code for both OpenServer and Gemi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Eliminating complexity for driver developers is the key to the new MDI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54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Legacy driver compatibility is intended to ease the transition while IHV’s migrate their drivers to the Gemini MDI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r>
              <a:rPr b="0" lang="en-US" sz="1400" spc="-1" strike="noStrike" u="sng">
                <a:solidFill>
                  <a:srgbClr val="fc0128"/>
                </a:solidFill>
                <a:uFillTx/>
                <a:latin typeface="GillSans"/>
                <a:ea typeface="GillSans"/>
              </a:rPr>
              <a:t>Why ODI is Bad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  ODI driver emulation does not make sense for SCO because it does not provide for robust, scalable Unix networking for business critical servers.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GillSans"/>
                <a:ea typeface="GillSans"/>
              </a:rPr>
              <a:t>Infrastructure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 ODI-on-Unix requires joint technical &amp; certification efforts between SCO &amp; Novell which are not practical.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GillSans"/>
                <a:ea typeface="GillSans"/>
              </a:rPr>
              <a:t>Maintainability and Debugging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 Transmogrification produces "hit-and-miss" compatibility, resulting in problems which are very difficult to debug and fix.  The maintenance cycle is slow and cos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GillSans"/>
                <a:ea typeface="GillSans"/>
              </a:rPr>
              <a:t>Reliability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 Emulation of ODI drivers designed and compiled for a non-protected, non-STREAMS environment raises questions about reliability and robustness.  The current network ODI driver bug rate is too hi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GillSans"/>
                <a:ea typeface="GillSans"/>
              </a:rPr>
              <a:t>Performance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 ODI emulation will always be slower than native Netware.  Optimized native Unix drivers can provide much better overall network driver perform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GillSans"/>
                <a:ea typeface="GillSans"/>
              </a:rPr>
              <a:t>Scalability and MP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 ODI drivers are single-threaded and not MP aware, greatly limiting concurrency and scalability.  Multi-threaded native Unix drivers can transfer multiple packets to an adapter at the same time, or process transfer and reception of packet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11592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GillSans"/>
                <a:ea typeface="GillSans"/>
              </a:rPr>
              <a:t>Evolutionary Improvements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 A dependency on NetWare greatly limits SCO's abilities to adopt new hardware standards and technolo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2865600" y="6213600"/>
            <a:ext cx="344340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Developing Network &amp; Graphics Drivers for Gem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610080" y="6443640"/>
            <a:ext cx="192240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GillSans"/>
                <a:ea typeface="GillSans"/>
              </a:rPr>
              <a:t>© 1996 SCO  All Rights Reserved - Slide </a:t>
            </a:r>
            <a:fld id="{63EA9187-807D-461F-B3BF-9487ED421F2E}" type="slidenum">
              <a:rPr b="0" lang="en-US" sz="800" spc="-1" strike="noStrike">
                <a:solidFill>
                  <a:srgbClr val="000000"/>
                </a:solidFill>
                <a:latin typeface="GillSans"/>
                <a:ea typeface="GillSans"/>
              </a:rPr>
              <a:t>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74760" y="5959440"/>
            <a:ext cx="1011240" cy="6508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91640" y="6067440"/>
            <a:ext cx="814320" cy="528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44496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</a:pPr>
            <a:r>
              <a:rPr b="1" lang="en-US" sz="4400" spc="-1" strike="noStrike">
                <a:solidFill>
                  <a:srgbClr val="0038ef"/>
                </a:solidFill>
                <a:latin typeface="GillSans"/>
                <a:ea typeface="GillSans"/>
              </a:rPr>
              <a:t>Developing Network &amp; Graphics Drivers for Gem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83200" y="5029200"/>
            <a:ext cx="77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077840"/>
            <a:ext cx="6746760" cy="2468520"/>
          </a:xfrm>
          <a:prstGeom prst="rect">
            <a:avLst/>
          </a:prstGeom>
          <a:solidFill>
            <a:srgbClr val="ffd80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75080" y="1077840"/>
            <a:ext cx="4172040" cy="2193840"/>
          </a:xfrm>
          <a:prstGeom prst="rect">
            <a:avLst/>
          </a:prstGeom>
          <a:solidFill>
            <a:srgbClr val="0038e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20960" y="863640"/>
            <a:ext cx="37432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152280"/>
            <a:ext cx="777240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Benefits of the Gemini Network Driver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562040"/>
            <a:ext cx="91425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Preserves OpenServer &amp; UnixWare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OpenServer MDI drivers port to Gemini in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UnixWare DLPI &amp; OpenServer LLI port to MDI in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IHV’s want common code for both Gemini &amp; Open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MDI Greatly Reduces Complexity over DLPI &amp; 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0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MDI drivers are 30-50% 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SAP demultiplexing code is eliminated from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Also eliminates LLC framing &amp; SNAP logic from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Token-Ring drivers don't need source routin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5800" y="380880"/>
            <a:ext cx="7772400" cy="16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Benefits of the Gemini </a:t>
            </a:r>
            <a:br>
              <a:rPr sz="4000"/>
            </a:b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Network  Driver Architecture </a:t>
            </a:r>
            <a:r>
              <a:rPr b="1" lang="en-US" sz="2400" spc="-1" strike="noStrike">
                <a:solidFill>
                  <a:srgbClr val="618ffd"/>
                </a:solidFill>
                <a:latin typeface="GillSans"/>
                <a:ea typeface="GillSans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1960" y="1943280"/>
            <a:ext cx="88012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Driver Interface Isolated from Stack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Avoids UnixWare </a:t>
            </a:r>
            <a:r>
              <a:rPr b="1" lang="en-US" sz="2400" spc="-1" strike="noStrike">
                <a:solidFill>
                  <a:srgbClr val="919191"/>
                </a:solidFill>
                <a:latin typeface="Courier New"/>
                <a:ea typeface="Courier New"/>
              </a:rPr>
              <a:t>dlpi_ether.c</a:t>
            </a: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 interface maintenanc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Reduced Development/Testing/Maintenanc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0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Overall highe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0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Long standing bugs are ex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0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Common utility functions provided for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0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Facilitates more comprehensive, lightweight automated driver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85800" y="380880"/>
            <a:ext cx="7772400" cy="16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Benefits of the Gemini </a:t>
            </a:r>
            <a:br>
              <a:rPr sz="4000"/>
            </a:b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Network  Driver Architecture </a:t>
            </a:r>
            <a:r>
              <a:rPr b="1" lang="en-US" sz="2400" spc="-1" strike="noStrike">
                <a:solidFill>
                  <a:srgbClr val="618ffd"/>
                </a:solidFill>
                <a:latin typeface="GillSans"/>
                <a:ea typeface="GillSans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03040" y="2362320"/>
            <a:ext cx="8939160" cy="34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Increased Driver Reliability/Scalability/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Minimized Effort to Optimize Drive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Defines Interface for Various Network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1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Ethernet, Token-Ring, FDDI, 100Base-T, 100VG, IS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1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Architecture is extensible to other media in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upplied in Gemini Forum D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9800" y="16509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Guide material and man pages for developing MDI LAN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Material on porting MDI drivers from OpenServer to Gem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Note that porting README file has ty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rv_getparam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should b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rv_getp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mn_error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should b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mn_e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Material on porting DLPI/LLI drivers from UnixWare/OpenServer to Gem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upplied in Gemini Forum DK</a:t>
            </a:r>
            <a:br>
              <a:rPr sz="4000"/>
            </a:br>
            <a:r>
              <a:rPr b="1" lang="en-US" sz="2400" spc="-1" strike="noStrike">
                <a:solidFill>
                  <a:srgbClr val="0038ef"/>
                </a:solidFill>
                <a:latin typeface="GillSans"/>
                <a:ea typeface="GillSans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57480" y="1917720"/>
            <a:ext cx="661680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ample source code to working MDI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lpha DLPI subsystem to run MDI driver on UnixWare 2.1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Guide material and man pages for developing ISDN network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What You Can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98400" y="1841400"/>
            <a:ext cx="8077320" cy="38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ort Your OpenServer MDI LAN Driver to UnixWare Kernel &amp; Begin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Convert SCO OpenServer SVR3 kernel primitives to UnixWare/SVR4 functions  (DDI version 7/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Utilize functions to access of configuration data stored in kernel Resource Manage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Re-compile driver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Run with alpha DLPI subsystem, debug, manually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What You Can Do</a:t>
            </a:r>
            <a:br>
              <a:rPr sz="4000"/>
            </a:br>
            <a:r>
              <a:rPr b="1" lang="en-US" sz="2400" spc="-1" strike="noStrike">
                <a:solidFill>
                  <a:srgbClr val="0038ef"/>
                </a:solidFill>
                <a:latin typeface="GillSans"/>
                <a:ea typeface="GillSans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30400" y="1676520"/>
            <a:ext cx="716292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ort Your UnixWare DLPI Driver to MDI and Begin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Remove code and adop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Sans"/>
                <a:ea typeface="GillSans"/>
              </a:rPr>
              <a:t>simplified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STREAM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Re-compile driver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Run with alpha DLPI subsystem, debug, manually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Begin Coding A Preliminary MDI ISDN Driver on UnixWare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No runtime support in Forum 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Additions for Beta/Final D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90720" y="182880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utomated ANT test suite for MDI LAN &amp; ISDN drivers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possibly in suppl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cripts and doc on creating installable MDI driver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User level API &amp; doc for developing ISDN voice-enabled apps 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(proj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DK will not address certification testing or packaging for DLPI or ODI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228600"/>
            <a:ext cx="883908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Focus on the Gemini</a:t>
            </a:r>
            <a:br>
              <a:rPr sz="4000"/>
            </a:b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 Network Driver Test Su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5760" y="1676520"/>
            <a:ext cx="8686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Best-of-breed test suite - UnixWare/Open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1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Look and feel of UnixWare Certifica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0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Expanded DLPI-level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0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"mdi_unit" and "ncard" tests from OpenServer 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0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est suite 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0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Extensions for FDDI &amp; ISDN driver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High code coverage for kernel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0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bout 70-80% statement coverage is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52280" y="152280"/>
            <a:ext cx="883908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Focus on the Gemini</a:t>
            </a:r>
            <a:br>
              <a:rPr sz="4000"/>
            </a:b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 Network Driver Test Su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46120" y="1943280"/>
            <a:ext cx="3124080" cy="24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Multi-tiered architecture tests drivers from different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6320" y="4724280"/>
            <a:ext cx="9067680" cy="13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e Gemini netdriver test suite will NOT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he UnixWare NUCFS test (no native Netware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esting for ODI or DLPI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114800" y="1320840"/>
            <a:ext cx="4800600" cy="3168360"/>
            <a:chOff x="4114800" y="1320840"/>
            <a:chExt cx="4800600" cy="3168360"/>
          </a:xfrm>
        </p:grpSpPr>
        <p:sp>
          <p:nvSpPr>
            <p:cNvPr id="225" name=""/>
            <p:cNvSpPr txBox="1"/>
            <p:nvPr/>
          </p:nvSpPr>
          <p:spPr>
            <a:xfrm>
              <a:off x="4753080" y="4046400"/>
              <a:ext cx="4054320" cy="442800"/>
            </a:xfrm>
            <a:prstGeom prst="rect">
              <a:avLst/>
            </a:prstGeom>
            <a:solidFill>
              <a:srgbClr val="ffd80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GillSans"/>
                  <a:ea typeface="GillSans"/>
                </a:rPr>
                <a:t>MDI Dr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4753080" y="3360600"/>
              <a:ext cx="2155680" cy="5284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illSans"/>
                  <a:ea typeface="GillSans"/>
                </a:rPr>
                <a:t>DLPI Modu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4114800" y="312408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LP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4146480" y="3774960"/>
              <a:ext cx="549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D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4753080" y="2333520"/>
              <a:ext cx="668160" cy="8715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illSans"/>
                  <a:ea typeface="GillSans"/>
                </a:rPr>
                <a:t>TC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43280" y="3967200"/>
              <a:ext cx="4272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3280" y="3282840"/>
              <a:ext cx="237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43280" y="2170080"/>
              <a:ext cx="4272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5364000" y="2573280"/>
              <a:ext cx="331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796000" y="1795320"/>
              <a:ext cx="119160" cy="490680"/>
              <a:chOff x="5796000" y="1795320"/>
              <a:chExt cx="119160" cy="490680"/>
            </a:xfrm>
          </p:grpSpPr>
          <p:sp>
            <p:nvSpPr>
              <p:cNvPr id="235" name=""/>
              <p:cNvSpPr/>
              <p:nvPr/>
            </p:nvSpPr>
            <p:spPr>
              <a:xfrm>
                <a:off x="5861160" y="1806480"/>
                <a:ext cx="0" cy="42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5800680" y="1795320"/>
                <a:ext cx="114480" cy="169920"/>
                <a:chOff x="5800680" y="1795320"/>
                <a:chExt cx="114480" cy="169920"/>
              </a:xfrm>
            </p:grpSpPr>
            <p:sp>
              <p:nvSpPr>
                <p:cNvPr id="237" name=""/>
                <p:cNvSpPr/>
                <p:nvPr/>
              </p:nvSpPr>
              <p:spPr>
                <a:xfrm flipV="1">
                  <a:off x="5800680" y="1795320"/>
                  <a:ext cx="5544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856120" y="1795320"/>
                  <a:ext cx="5904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5796000" y="2116080"/>
                <a:ext cx="115920" cy="169920"/>
                <a:chOff x="5796000" y="2116080"/>
                <a:chExt cx="115920" cy="16992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5854680" y="2116080"/>
                  <a:ext cx="5724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>
                  <a:off x="5796000" y="2116080"/>
                  <a:ext cx="5868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4979880" y="1784520"/>
              <a:ext cx="122400" cy="490320"/>
              <a:chOff x="4979880" y="1784520"/>
              <a:chExt cx="122400" cy="490320"/>
            </a:xfrm>
          </p:grpSpPr>
          <p:sp>
            <p:nvSpPr>
              <p:cNvPr id="243" name=""/>
              <p:cNvSpPr/>
              <p:nvPr/>
            </p:nvSpPr>
            <p:spPr>
              <a:xfrm>
                <a:off x="5043600" y="1795320"/>
                <a:ext cx="0" cy="42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4984920" y="1784520"/>
                <a:ext cx="117360" cy="169560"/>
                <a:chOff x="4984920" y="1784520"/>
                <a:chExt cx="117360" cy="169560"/>
              </a:xfrm>
            </p:grpSpPr>
            <p:sp>
              <p:nvSpPr>
                <p:cNvPr id="245" name=""/>
                <p:cNvSpPr/>
                <p:nvPr/>
              </p:nvSpPr>
              <p:spPr>
                <a:xfrm flipV="1">
                  <a:off x="4984920" y="1784520"/>
                  <a:ext cx="56880" cy="16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041800" y="1784520"/>
                  <a:ext cx="60480" cy="16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4979880" y="2104920"/>
                <a:ext cx="114480" cy="169920"/>
                <a:chOff x="4979880" y="2104920"/>
                <a:chExt cx="114480" cy="169920"/>
              </a:xfrm>
            </p:grpSpPr>
            <p:sp>
              <p:nvSpPr>
                <p:cNvPr id="248" name=""/>
                <p:cNvSpPr/>
                <p:nvPr/>
              </p:nvSpPr>
              <p:spPr>
                <a:xfrm flipH="1">
                  <a:off x="5038560" y="2104920"/>
                  <a:ext cx="5580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 flipV="1">
                  <a:off x="4979880" y="2104920"/>
                  <a:ext cx="5868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6553080" y="1795320"/>
              <a:ext cx="120600" cy="1454400"/>
              <a:chOff x="6553080" y="1795320"/>
              <a:chExt cx="120600" cy="145440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6553080" y="3079800"/>
                <a:ext cx="115920" cy="169920"/>
                <a:chOff x="6553080" y="3079800"/>
                <a:chExt cx="115920" cy="169920"/>
              </a:xfrm>
            </p:grpSpPr>
            <p:sp>
              <p:nvSpPr>
                <p:cNvPr id="252" name=""/>
                <p:cNvSpPr/>
                <p:nvPr/>
              </p:nvSpPr>
              <p:spPr>
                <a:xfrm flipH="1">
                  <a:off x="6613560" y="3079800"/>
                  <a:ext cx="5544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flipV="1">
                  <a:off x="6553080" y="3079800"/>
                  <a:ext cx="6048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556320" y="1795320"/>
                <a:ext cx="117360" cy="169920"/>
                <a:chOff x="6556320" y="1795320"/>
                <a:chExt cx="117360" cy="169920"/>
              </a:xfrm>
            </p:grpSpPr>
            <p:sp>
              <p:nvSpPr>
                <p:cNvPr id="255" name=""/>
                <p:cNvSpPr/>
                <p:nvPr/>
              </p:nvSpPr>
              <p:spPr>
                <a:xfrm flipV="1">
                  <a:off x="6556320" y="1795320"/>
                  <a:ext cx="5868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615000" y="1795320"/>
                  <a:ext cx="5868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 flipV="1">
                <a:off x="6616800" y="1795320"/>
                <a:ext cx="0" cy="141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199360" y="1806480"/>
              <a:ext cx="120600" cy="2149560"/>
              <a:chOff x="8199360" y="1806480"/>
              <a:chExt cx="120600" cy="214956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8199360" y="3786120"/>
                <a:ext cx="114480" cy="169920"/>
                <a:chOff x="8199360" y="3786120"/>
                <a:chExt cx="114480" cy="169920"/>
              </a:xfrm>
            </p:grpSpPr>
            <p:sp>
              <p:nvSpPr>
                <p:cNvPr id="260" name=""/>
                <p:cNvSpPr/>
                <p:nvPr/>
              </p:nvSpPr>
              <p:spPr>
                <a:xfrm flipH="1">
                  <a:off x="8258040" y="3786120"/>
                  <a:ext cx="5580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>
                  <a:off x="8199360" y="3786120"/>
                  <a:ext cx="5868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8204040" y="1806480"/>
                <a:ext cx="115920" cy="168480"/>
                <a:chOff x="8204040" y="1806480"/>
                <a:chExt cx="115920" cy="168480"/>
              </a:xfrm>
            </p:grpSpPr>
            <p:sp>
              <p:nvSpPr>
                <p:cNvPr id="263" name=""/>
                <p:cNvSpPr/>
                <p:nvPr/>
              </p:nvSpPr>
              <p:spPr>
                <a:xfrm flipV="1">
                  <a:off x="8204040" y="1806480"/>
                  <a:ext cx="55800" cy="1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259840" y="1806480"/>
                  <a:ext cx="60120" cy="1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 flipV="1">
                <a:off x="8264520" y="1816200"/>
                <a:ext cx="0" cy="210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7472520" y="1795320"/>
              <a:ext cx="120600" cy="2149560"/>
              <a:chOff x="7472520" y="1795320"/>
              <a:chExt cx="120600" cy="214956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7472520" y="3774960"/>
                <a:ext cx="115560" cy="169920"/>
                <a:chOff x="7472520" y="3774960"/>
                <a:chExt cx="115560" cy="169920"/>
              </a:xfrm>
            </p:grpSpPr>
            <p:sp>
              <p:nvSpPr>
                <p:cNvPr id="268" name=""/>
                <p:cNvSpPr/>
                <p:nvPr/>
              </p:nvSpPr>
              <p:spPr>
                <a:xfrm flipH="1">
                  <a:off x="7531200" y="3774960"/>
                  <a:ext cx="5688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7472520" y="3774960"/>
                  <a:ext cx="5868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7477200" y="1795320"/>
                <a:ext cx="115920" cy="169920"/>
                <a:chOff x="7477200" y="1795320"/>
                <a:chExt cx="115920" cy="169920"/>
              </a:xfrm>
            </p:grpSpPr>
            <p:sp>
              <p:nvSpPr>
                <p:cNvPr id="271" name=""/>
                <p:cNvSpPr/>
                <p:nvPr/>
              </p:nvSpPr>
              <p:spPr>
                <a:xfrm flipV="1">
                  <a:off x="7477200" y="1795320"/>
                  <a:ext cx="5724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534440" y="1795320"/>
                  <a:ext cx="5868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 flipV="1">
                <a:off x="7537320" y="1806480"/>
                <a:ext cx="0" cy="210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 txBox="1"/>
            <p:nvPr/>
          </p:nvSpPr>
          <p:spPr>
            <a:xfrm>
              <a:off x="5634000" y="2333520"/>
              <a:ext cx="669960" cy="8715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illSans"/>
                  <a:ea typeface="GillSans"/>
                </a:rPr>
                <a:t>IP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4826160" y="132084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GillSans"/>
                  <a:ea typeface="GillSans"/>
                </a:rPr>
                <a:t>tc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5651640" y="133344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GillSans"/>
                  <a:ea typeface="GillSans"/>
                </a:rPr>
                <a:t>ip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6388200" y="133344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GillSans"/>
                  <a:ea typeface="GillSans"/>
                </a:rPr>
                <a:t>dl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7315200" y="133344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GillSans"/>
                  <a:ea typeface="GillSans"/>
                </a:rPr>
                <a:t>md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7899480" y="1333440"/>
              <a:ext cx="7113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GillSans"/>
                  <a:ea typeface="GillSans"/>
                </a:rPr>
                <a:t>nca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867280" y="5029200"/>
            <a:ext cx="3276720" cy="1371600"/>
          </a:xfrm>
          <a:prstGeom prst="rect">
            <a:avLst/>
          </a:prstGeom>
          <a:solidFill>
            <a:srgbClr val="ffd80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5029200"/>
            <a:ext cx="2438280" cy="1219320"/>
          </a:xfrm>
          <a:prstGeom prst="rect">
            <a:avLst/>
          </a:prstGeom>
          <a:solidFill>
            <a:srgbClr val="0038e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83200" y="5029200"/>
            <a:ext cx="77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206360"/>
            <a:ext cx="777240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Developing Network &amp; Graphics Drivers for Gemi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314172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2800" spc="-1" strike="noStrike">
                <a:solidFill>
                  <a:srgbClr val="0038ef"/>
                </a:solidFill>
                <a:latin typeface="GillSans"/>
                <a:ea typeface="GillSans"/>
              </a:rPr>
              <a:t>W. Rob M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lang="en-US" sz="2400" spc="-1" strike="noStrike">
                <a:solidFill>
                  <a:srgbClr val="0038ef"/>
                </a:solidFill>
                <a:latin typeface="GillSans"/>
                <a:ea typeface="GillSans"/>
              </a:rPr>
              <a:t>Engineering Section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lang="en-US" sz="2400" spc="-1" strike="noStrike">
                <a:solidFill>
                  <a:srgbClr val="0038ef"/>
                </a:solidFill>
                <a:latin typeface="GillSans"/>
                <a:ea typeface="GillSans"/>
              </a:rPr>
              <a:t>Network Drivers &amp;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0" lang="en-US" sz="1600" spc="-1" strike="noStrike">
                <a:solidFill>
                  <a:srgbClr val="0038ef"/>
                </a:solidFill>
                <a:latin typeface="GillSans"/>
                <a:ea typeface="GillSans"/>
              </a:rPr>
              <a:t>E-mail: robm@sc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64200" y="4867200"/>
            <a:ext cx="2125800" cy="1368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0" y="380880"/>
            <a:ext cx="7397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2000" spc="-1" strike="noStrike" u="sng">
                <a:solidFill>
                  <a:srgbClr val="0038ef"/>
                </a:solidFill>
                <a:uFillTx/>
                <a:latin typeface="GillSans"/>
                <a:ea typeface="GillSans"/>
              </a:rPr>
              <a:t>Gemini Device Driver Environment: Network and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038240" y="5051520"/>
            <a:ext cx="3471840" cy="1349280"/>
            <a:chOff x="1038240" y="5051520"/>
            <a:chExt cx="3471840" cy="1349280"/>
          </a:xfrm>
        </p:grpSpPr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038240" y="5051520"/>
              <a:ext cx="1376280" cy="13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2054160" y="5076720"/>
              <a:ext cx="1376280" cy="13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3133800" y="5076720"/>
              <a:ext cx="1376280" cy="132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685800" y="152280"/>
            <a:ext cx="777240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Gemini Graphics Features</a:t>
            </a:r>
            <a:br>
              <a:rPr sz="4000"/>
            </a:br>
            <a:r>
              <a:rPr b="1" lang="en-US" sz="3200" spc="-1" strike="noStrike">
                <a:solidFill>
                  <a:srgbClr val="618ffd"/>
                </a:solidFill>
                <a:latin typeface="GillSans"/>
                <a:ea typeface="GillSans"/>
              </a:rPr>
              <a:t>-</a:t>
            </a: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 </a:t>
            </a:r>
            <a:r>
              <a:rPr b="1" lang="en-US" sz="3200" spc="-1" strike="noStrike">
                <a:solidFill>
                  <a:srgbClr val="618ffd"/>
                </a:solidFill>
                <a:latin typeface="GillSans"/>
                <a:ea typeface="GillSans"/>
              </a:rPr>
              <a:t>X Server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3120" y="2286000"/>
            <a:ext cx="88390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OpenServer NFB drive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Updated with X11 R6.1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Dynamic loading of drivers and X extensions</a:t>
            </a: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OpenServer run-while-switched &amp; multi-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UnixWare SPX connection support</a:t>
            </a: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X Extensions from OpenServer, UnixWare &amp; R6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R6.1 internation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41200" y="1727280"/>
            <a:ext cx="883908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720"/>
              </a:spcBef>
            </a:pPr>
            <a:r>
              <a:rPr b="1" lang="en-US" sz="2800" spc="-1" strike="noStrike" u="sng">
                <a:solidFill>
                  <a:srgbClr val="919191"/>
                </a:solidFill>
                <a:uFillTx/>
                <a:latin typeface="GillSans"/>
                <a:ea typeface="GillSans"/>
              </a:rPr>
              <a:t>Best of breed features from OpenServer/Unix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Gemini Graphics Features</a:t>
            </a:r>
            <a:br>
              <a:rPr sz="4000"/>
            </a:br>
            <a:r>
              <a:rPr b="1" lang="en-US" sz="2000" spc="-1" strike="noStrike">
                <a:solidFill>
                  <a:srgbClr val="618ffd"/>
                </a:solidFill>
                <a:latin typeface="GillSans"/>
                <a:ea typeface="GillSans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0840" y="1866960"/>
            <a:ext cx="899172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NFB graphics drivers for all supported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Consolidated graphics device sup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UnixWare + OpenServer + new devices TBD         (minus support for some legacy dev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SCOadmin Video Configuration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Easy-to-use UI, context sensitive online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UnixWare test mode &amp; OpenServer hardwar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Device selection based on card name (not dri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144440" y="177840"/>
            <a:ext cx="683424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Gemini</a:t>
            </a:r>
            <a:br>
              <a:rPr sz="4000"/>
            </a:b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X Driver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08080" y="1352520"/>
            <a:ext cx="6243480" cy="33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1040" indent="-3110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Provides simplified interface and reduced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4912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SCO X Driver interface and tool    kit compares favorably to other       X porting layers and Microsoft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4912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NFB is user-level drive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4912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Drivers are dynamically loa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400800" y="1281240"/>
            <a:ext cx="2441520" cy="3149280"/>
            <a:chOff x="6400800" y="1281240"/>
            <a:chExt cx="2441520" cy="3149280"/>
          </a:xfrm>
        </p:grpSpPr>
        <p:sp>
          <p:nvSpPr>
            <p:cNvPr id="288" name=""/>
            <p:cNvSpPr txBox="1"/>
            <p:nvPr/>
          </p:nvSpPr>
          <p:spPr>
            <a:xfrm>
              <a:off x="6400800" y="1281240"/>
              <a:ext cx="2422440" cy="1598760"/>
            </a:xfrm>
            <a:prstGeom prst="rect">
              <a:avLst/>
            </a:prstGeom>
            <a:solidFill>
              <a:srgbClr val="618ffd"/>
            </a:solidFill>
            <a:ln w="2556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919191"/>
                  </a:solidFill>
                  <a:latin typeface="GillSans"/>
                  <a:ea typeface="GillSans"/>
                </a:rPr>
                <a:t>X Ser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919191"/>
                  </a:solidFill>
                  <a:latin typeface="GillSans"/>
                  <a:ea typeface="GillSans"/>
                </a:rPr>
                <a:t>DIX Lay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6400800" y="2984400"/>
              <a:ext cx="2441520" cy="832680"/>
            </a:xfrm>
            <a:prstGeom prst="rect">
              <a:avLst/>
            </a:prstGeom>
            <a:solidFill>
              <a:srgbClr val="cecece"/>
            </a:solidFill>
            <a:ln w="2556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919191"/>
                  </a:solidFill>
                  <a:latin typeface="GillSans"/>
                  <a:ea typeface="GillSans"/>
                </a:rPr>
                <a:t>SCO NF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919191"/>
                  </a:solidFill>
                  <a:latin typeface="GillSans"/>
                  <a:ea typeface="GillSans"/>
                </a:rPr>
                <a:t>X Dri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6400800" y="3860640"/>
              <a:ext cx="2441520" cy="569880"/>
            </a:xfrm>
            <a:prstGeom prst="rect">
              <a:avLst/>
            </a:prstGeom>
            <a:solidFill>
              <a:srgbClr val="cecece"/>
            </a:solidFill>
            <a:ln w="2556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919191"/>
                  </a:solidFill>
                  <a:latin typeface="GillSans"/>
                  <a:ea typeface="GillSans"/>
                </a:rPr>
                <a:t>Graphics Hard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 txBox="1"/>
          <p:nvPr/>
        </p:nvSpPr>
        <p:spPr>
          <a:xfrm>
            <a:off x="163440" y="4686120"/>
            <a:ext cx="8839080" cy="12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NFB API enables developer to focus on the hardware interface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Virtually no knowledge of X Windows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5800" y="152280"/>
            <a:ext cx="777240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Benefits of the Gemini</a:t>
            </a:r>
            <a:br>
              <a:rPr sz="4000"/>
            </a:b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X Driver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1846440"/>
            <a:ext cx="914256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1040" indent="-311040">
              <a:lnSpc>
                <a:spcPct val="11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Preserves OpenServer driver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49120">
              <a:lnSpc>
                <a:spcPct val="11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OpenServer NFB drivers re-compile and run on Gem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49120">
              <a:lnSpc>
                <a:spcPct val="11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IHVs want common code for both Gemini &amp; Open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1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NFB API based on a small set of graphics 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1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Basic driver works after coding only two required primi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4912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Courier New"/>
                <a:ea typeface="Courier New"/>
              </a:rPr>
              <a:t>DrawImage()</a:t>
            </a: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 and </a:t>
            </a:r>
            <a:r>
              <a:rPr b="1" lang="en-US" sz="2800" spc="-1" strike="noStrike">
                <a:solidFill>
                  <a:srgbClr val="919191"/>
                </a:solidFill>
                <a:latin typeface="Courier New"/>
                <a:ea typeface="Courier New"/>
              </a:rPr>
              <a:t>ReadImag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5800" y="152280"/>
            <a:ext cx="7772400" cy="16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Benefits of the Gemini </a:t>
            </a:r>
            <a:br>
              <a:rPr sz="4000"/>
            </a:b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X Driver Architecture</a:t>
            </a:r>
            <a:br>
              <a:rPr sz="4000"/>
            </a:br>
            <a:r>
              <a:rPr b="1" lang="en-US" sz="2400" spc="-1" strike="noStrike">
                <a:solidFill>
                  <a:srgbClr val="618ffd"/>
                </a:solidFill>
                <a:latin typeface="GillSans"/>
                <a:ea typeface="GillSans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00200" y="1909800"/>
            <a:ext cx="8177040" cy="39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1040" indent="-311040">
              <a:lnSpc>
                <a:spcPct val="11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Step-wise optimization &amp; performance improvement by coding additional 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1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Use of video BIOS execution eliminates complex hardware initialization driv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1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SCO driver is much easier to develop than Microsoft Windows dri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upplied in Gemini Forum D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231920" y="1536840"/>
            <a:ext cx="7162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ore R6.1 X application libraries for compiling Gemini R6.1 X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Guide material and man pages for developing NFB graphics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ample source code to working NFB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lpha Gemini/R6 X server/link-kit (suppl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39680" y="4064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What You Can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90720" y="2324160"/>
            <a:ext cx="7467480" cy="26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Re-compile Your OpenServer NFB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ome small modifications to Imakefiles may b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Run with alpha Gemini/R6 X server, debug, manually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39680" y="216000"/>
            <a:ext cx="88390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Additions for Beta/Final D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77920" y="1434960"/>
            <a:ext cx="886464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utomated test suite for testing NFB graphics drivers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possibly in suppl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0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Best-of-breed from UnixWare and Open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Graphics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Draw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Utility to create NFB driver source code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cripts and doc to create installable NFB driver package for end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52280" y="216000"/>
            <a:ext cx="88390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200240" y="0"/>
            <a:ext cx="7287120" cy="6553440"/>
            <a:chOff x="1200240" y="0"/>
            <a:chExt cx="7287120" cy="6553440"/>
          </a:xfrm>
        </p:grpSpPr>
        <p:sp>
          <p:nvSpPr>
            <p:cNvPr id="304" name=""/>
            <p:cNvSpPr/>
            <p:nvPr/>
          </p:nvSpPr>
          <p:spPr>
            <a:xfrm>
              <a:off x="1638360" y="1332000"/>
              <a:ext cx="6061320" cy="4739040"/>
            </a:xfrm>
            <a:custGeom>
              <a:avLst/>
              <a:gdLst/>
              <a:ahLst/>
              <a:rect l="0" t="0" r="r" b="b"/>
              <a:pathLst>
                <a:path w="16837" h="13164">
                  <a:moveTo>
                    <a:pt x="0" y="0"/>
                  </a:moveTo>
                  <a:lnTo>
                    <a:pt x="0" y="13164"/>
                  </a:lnTo>
                  <a:lnTo>
                    <a:pt x="16837" y="13164"/>
                  </a:lnTo>
                  <a:lnTo>
                    <a:pt x="168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00240" y="0"/>
              <a:ext cx="7287120" cy="6553440"/>
            </a:xfrm>
            <a:custGeom>
              <a:avLst/>
              <a:gdLst/>
              <a:ahLst/>
              <a:rect l="0" t="0" r="r" b="b"/>
              <a:pathLst>
                <a:path w="20242" h="18204">
                  <a:moveTo>
                    <a:pt x="0" y="11766"/>
                  </a:moveTo>
                  <a:lnTo>
                    <a:pt x="4215" y="9548"/>
                  </a:lnTo>
                  <a:lnTo>
                    <a:pt x="6977" y="12921"/>
                  </a:lnTo>
                  <a:lnTo>
                    <a:pt x="14623" y="956"/>
                  </a:lnTo>
                  <a:lnTo>
                    <a:pt x="20242" y="0"/>
                  </a:lnTo>
                  <a:lnTo>
                    <a:pt x="8736" y="17622"/>
                  </a:lnTo>
                  <a:lnTo>
                    <a:pt x="4947" y="18204"/>
                  </a:lnTo>
                  <a:lnTo>
                    <a:pt x="0" y="11766"/>
                  </a:lnTo>
                  <a:close/>
                </a:path>
              </a:pathLst>
            </a:custGeom>
            <a:solidFill>
              <a:srgbClr val="33ea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10280" y="2982960"/>
              <a:ext cx="181440" cy="192600"/>
            </a:xfrm>
            <a:custGeom>
              <a:avLst/>
              <a:gdLst/>
              <a:ahLst/>
              <a:rect l="0" t="0" r="r" b="b"/>
              <a:pathLst>
                <a:path w="504" h="535">
                  <a:moveTo>
                    <a:pt x="504" y="217"/>
                  </a:moveTo>
                  <a:lnTo>
                    <a:pt x="495" y="274"/>
                  </a:lnTo>
                  <a:lnTo>
                    <a:pt x="478" y="322"/>
                  </a:lnTo>
                  <a:lnTo>
                    <a:pt x="451" y="375"/>
                  </a:lnTo>
                  <a:lnTo>
                    <a:pt x="416" y="420"/>
                  </a:lnTo>
                  <a:lnTo>
                    <a:pt x="375" y="460"/>
                  </a:lnTo>
                  <a:lnTo>
                    <a:pt x="327" y="491"/>
                  </a:lnTo>
                  <a:lnTo>
                    <a:pt x="278" y="517"/>
                  </a:lnTo>
                  <a:lnTo>
                    <a:pt x="225" y="531"/>
                  </a:lnTo>
                  <a:lnTo>
                    <a:pt x="164" y="535"/>
                  </a:lnTo>
                  <a:lnTo>
                    <a:pt x="110" y="531"/>
                  </a:lnTo>
                  <a:lnTo>
                    <a:pt x="74" y="509"/>
                  </a:lnTo>
                  <a:lnTo>
                    <a:pt x="39" y="482"/>
                  </a:lnTo>
                  <a:lnTo>
                    <a:pt x="22" y="447"/>
                  </a:lnTo>
                  <a:lnTo>
                    <a:pt x="8" y="407"/>
                  </a:lnTo>
                  <a:lnTo>
                    <a:pt x="0" y="362"/>
                  </a:lnTo>
                  <a:lnTo>
                    <a:pt x="0" y="318"/>
                  </a:lnTo>
                  <a:lnTo>
                    <a:pt x="13" y="269"/>
                  </a:lnTo>
                  <a:lnTo>
                    <a:pt x="26" y="217"/>
                  </a:lnTo>
                  <a:lnTo>
                    <a:pt x="52" y="177"/>
                  </a:lnTo>
                  <a:lnTo>
                    <a:pt x="79" y="127"/>
                  </a:lnTo>
                  <a:lnTo>
                    <a:pt x="128" y="88"/>
                  </a:lnTo>
                  <a:lnTo>
                    <a:pt x="172" y="52"/>
                  </a:lnTo>
                  <a:lnTo>
                    <a:pt x="225" y="26"/>
                  </a:lnTo>
                  <a:lnTo>
                    <a:pt x="287" y="4"/>
                  </a:lnTo>
                  <a:lnTo>
                    <a:pt x="349" y="0"/>
                  </a:lnTo>
                  <a:lnTo>
                    <a:pt x="394" y="4"/>
                  </a:lnTo>
                  <a:lnTo>
                    <a:pt x="429" y="26"/>
                  </a:lnTo>
                  <a:lnTo>
                    <a:pt x="465" y="52"/>
                  </a:lnTo>
                  <a:lnTo>
                    <a:pt x="491" y="83"/>
                  </a:lnTo>
                  <a:lnTo>
                    <a:pt x="495" y="119"/>
                  </a:lnTo>
                  <a:lnTo>
                    <a:pt x="504" y="172"/>
                  </a:lnTo>
                  <a:lnTo>
                    <a:pt x="504" y="217"/>
                  </a:lnTo>
                  <a:lnTo>
                    <a:pt x="66" y="305"/>
                  </a:lnTo>
                  <a:lnTo>
                    <a:pt x="66" y="349"/>
                  </a:lnTo>
                  <a:lnTo>
                    <a:pt x="66" y="380"/>
                  </a:lnTo>
                  <a:lnTo>
                    <a:pt x="79" y="416"/>
                  </a:lnTo>
                  <a:lnTo>
                    <a:pt x="101" y="438"/>
                  </a:lnTo>
                  <a:lnTo>
                    <a:pt x="123" y="460"/>
                  </a:lnTo>
                  <a:lnTo>
                    <a:pt x="150" y="465"/>
                  </a:lnTo>
                  <a:lnTo>
                    <a:pt x="190" y="473"/>
                  </a:lnTo>
                  <a:lnTo>
                    <a:pt x="225" y="465"/>
                  </a:lnTo>
                  <a:lnTo>
                    <a:pt x="274" y="460"/>
                  </a:lnTo>
                  <a:lnTo>
                    <a:pt x="305" y="438"/>
                  </a:lnTo>
                  <a:lnTo>
                    <a:pt x="340" y="416"/>
                  </a:lnTo>
                  <a:lnTo>
                    <a:pt x="375" y="380"/>
                  </a:lnTo>
                  <a:lnTo>
                    <a:pt x="403" y="349"/>
                  </a:lnTo>
                  <a:lnTo>
                    <a:pt x="425" y="318"/>
                  </a:lnTo>
                  <a:lnTo>
                    <a:pt x="438" y="274"/>
                  </a:lnTo>
                  <a:lnTo>
                    <a:pt x="442" y="230"/>
                  </a:lnTo>
                  <a:lnTo>
                    <a:pt x="442" y="190"/>
                  </a:lnTo>
                  <a:lnTo>
                    <a:pt x="438" y="155"/>
                  </a:lnTo>
                  <a:lnTo>
                    <a:pt x="425" y="119"/>
                  </a:lnTo>
                  <a:lnTo>
                    <a:pt x="407" y="97"/>
                  </a:lnTo>
                  <a:lnTo>
                    <a:pt x="381" y="83"/>
                  </a:lnTo>
                  <a:lnTo>
                    <a:pt x="349" y="70"/>
                  </a:lnTo>
                  <a:lnTo>
                    <a:pt x="314" y="70"/>
                  </a:lnTo>
                  <a:lnTo>
                    <a:pt x="278" y="70"/>
                  </a:lnTo>
                  <a:lnTo>
                    <a:pt x="230" y="83"/>
                  </a:lnTo>
                  <a:lnTo>
                    <a:pt x="199" y="101"/>
                  </a:lnTo>
                  <a:lnTo>
                    <a:pt x="164" y="127"/>
                  </a:lnTo>
                  <a:lnTo>
                    <a:pt x="128" y="155"/>
                  </a:lnTo>
                  <a:lnTo>
                    <a:pt x="110" y="186"/>
                  </a:lnTo>
                  <a:lnTo>
                    <a:pt x="88" y="221"/>
                  </a:lnTo>
                  <a:lnTo>
                    <a:pt x="74" y="261"/>
                  </a:lnTo>
                  <a:lnTo>
                    <a:pt x="66" y="305"/>
                  </a:lnTo>
                  <a:lnTo>
                    <a:pt x="504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40520" y="3036960"/>
              <a:ext cx="119520" cy="84600"/>
            </a:xfrm>
            <a:custGeom>
              <a:avLst/>
              <a:gdLst/>
              <a:ahLst/>
              <a:rect l="0" t="0" r="r" b="b"/>
              <a:pathLst>
                <a:path w="332" h="235">
                  <a:moveTo>
                    <a:pt x="74" y="226"/>
                  </a:moveTo>
                  <a:lnTo>
                    <a:pt x="0" y="235"/>
                  </a:lnTo>
                  <a:lnTo>
                    <a:pt x="35" y="22"/>
                  </a:lnTo>
                  <a:lnTo>
                    <a:pt x="230" y="0"/>
                  </a:lnTo>
                  <a:lnTo>
                    <a:pt x="279" y="0"/>
                  </a:lnTo>
                  <a:lnTo>
                    <a:pt x="315" y="4"/>
                  </a:lnTo>
                  <a:lnTo>
                    <a:pt x="323" y="22"/>
                  </a:lnTo>
                  <a:lnTo>
                    <a:pt x="332" y="52"/>
                  </a:lnTo>
                  <a:lnTo>
                    <a:pt x="315" y="75"/>
                  </a:lnTo>
                  <a:lnTo>
                    <a:pt x="297" y="98"/>
                  </a:lnTo>
                  <a:lnTo>
                    <a:pt x="275" y="111"/>
                  </a:lnTo>
                  <a:lnTo>
                    <a:pt x="230" y="120"/>
                  </a:lnTo>
                  <a:lnTo>
                    <a:pt x="288" y="200"/>
                  </a:lnTo>
                  <a:lnTo>
                    <a:pt x="203" y="209"/>
                  </a:lnTo>
                  <a:lnTo>
                    <a:pt x="146" y="133"/>
                  </a:lnTo>
                  <a:lnTo>
                    <a:pt x="93" y="142"/>
                  </a:lnTo>
                  <a:lnTo>
                    <a:pt x="74" y="226"/>
                  </a:lnTo>
                  <a:lnTo>
                    <a:pt x="111" y="52"/>
                  </a:lnTo>
                  <a:lnTo>
                    <a:pt x="102" y="102"/>
                  </a:lnTo>
                  <a:lnTo>
                    <a:pt x="195" y="89"/>
                  </a:lnTo>
                  <a:lnTo>
                    <a:pt x="221" y="84"/>
                  </a:lnTo>
                  <a:lnTo>
                    <a:pt x="239" y="80"/>
                  </a:lnTo>
                  <a:lnTo>
                    <a:pt x="247" y="71"/>
                  </a:lnTo>
                  <a:lnTo>
                    <a:pt x="257" y="62"/>
                  </a:lnTo>
                  <a:lnTo>
                    <a:pt x="257" y="48"/>
                  </a:lnTo>
                  <a:lnTo>
                    <a:pt x="239" y="44"/>
                  </a:lnTo>
                  <a:lnTo>
                    <a:pt x="221" y="44"/>
                  </a:lnTo>
                  <a:lnTo>
                    <a:pt x="195" y="44"/>
                  </a:lnTo>
                  <a:lnTo>
                    <a:pt x="111" y="52"/>
                  </a:lnTo>
                  <a:lnTo>
                    <a:pt x="74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41560" y="1538280"/>
              <a:ext cx="1591200" cy="2391120"/>
            </a:xfrm>
            <a:custGeom>
              <a:avLst/>
              <a:gdLst/>
              <a:ahLst/>
              <a:rect l="0" t="0" r="r" b="b"/>
              <a:pathLst>
                <a:path w="4420" h="6642">
                  <a:moveTo>
                    <a:pt x="282" y="4622"/>
                  </a:moveTo>
                  <a:lnTo>
                    <a:pt x="321" y="4675"/>
                  </a:lnTo>
                  <a:lnTo>
                    <a:pt x="374" y="4737"/>
                  </a:lnTo>
                  <a:lnTo>
                    <a:pt x="432" y="4789"/>
                  </a:lnTo>
                  <a:lnTo>
                    <a:pt x="485" y="4838"/>
                  </a:lnTo>
                  <a:lnTo>
                    <a:pt x="546" y="4886"/>
                  </a:lnTo>
                  <a:lnTo>
                    <a:pt x="604" y="4935"/>
                  </a:lnTo>
                  <a:lnTo>
                    <a:pt x="674" y="4970"/>
                  </a:lnTo>
                  <a:lnTo>
                    <a:pt x="749" y="5010"/>
                  </a:lnTo>
                  <a:lnTo>
                    <a:pt x="820" y="5045"/>
                  </a:lnTo>
                  <a:lnTo>
                    <a:pt x="899" y="5072"/>
                  </a:lnTo>
                  <a:lnTo>
                    <a:pt x="978" y="5094"/>
                  </a:lnTo>
                  <a:lnTo>
                    <a:pt x="1062" y="5111"/>
                  </a:lnTo>
                  <a:lnTo>
                    <a:pt x="1151" y="5125"/>
                  </a:lnTo>
                  <a:lnTo>
                    <a:pt x="1235" y="5125"/>
                  </a:lnTo>
                  <a:lnTo>
                    <a:pt x="1328" y="5125"/>
                  </a:lnTo>
                  <a:lnTo>
                    <a:pt x="1425" y="5111"/>
                  </a:lnTo>
                  <a:lnTo>
                    <a:pt x="1526" y="5089"/>
                  </a:lnTo>
                  <a:lnTo>
                    <a:pt x="1637" y="5054"/>
                  </a:lnTo>
                  <a:lnTo>
                    <a:pt x="1729" y="5010"/>
                  </a:lnTo>
                  <a:lnTo>
                    <a:pt x="1831" y="4953"/>
                  </a:lnTo>
                  <a:lnTo>
                    <a:pt x="1910" y="4878"/>
                  </a:lnTo>
                  <a:lnTo>
                    <a:pt x="1980" y="4798"/>
                  </a:lnTo>
                  <a:lnTo>
                    <a:pt x="2033" y="4714"/>
                  </a:lnTo>
                  <a:lnTo>
                    <a:pt x="2055" y="4617"/>
                  </a:lnTo>
                  <a:lnTo>
                    <a:pt x="2064" y="4512"/>
                  </a:lnTo>
                  <a:lnTo>
                    <a:pt x="2042" y="4428"/>
                  </a:lnTo>
                  <a:lnTo>
                    <a:pt x="2011" y="4353"/>
                  </a:lnTo>
                  <a:lnTo>
                    <a:pt x="1950" y="4287"/>
                  </a:lnTo>
                  <a:lnTo>
                    <a:pt x="1923" y="4265"/>
                  </a:lnTo>
                  <a:lnTo>
                    <a:pt x="1892" y="4234"/>
                  </a:lnTo>
                  <a:lnTo>
                    <a:pt x="1861" y="4212"/>
                  </a:lnTo>
                  <a:lnTo>
                    <a:pt x="1822" y="4194"/>
                  </a:lnTo>
                  <a:lnTo>
                    <a:pt x="1782" y="4168"/>
                  </a:lnTo>
                  <a:lnTo>
                    <a:pt x="1742" y="4146"/>
                  </a:lnTo>
                  <a:lnTo>
                    <a:pt x="1707" y="4128"/>
                  </a:lnTo>
                  <a:lnTo>
                    <a:pt x="1667" y="4102"/>
                  </a:lnTo>
                  <a:lnTo>
                    <a:pt x="1535" y="4031"/>
                  </a:lnTo>
                  <a:lnTo>
                    <a:pt x="1407" y="3960"/>
                  </a:lnTo>
                  <a:lnTo>
                    <a:pt x="1293" y="3881"/>
                  </a:lnTo>
                  <a:lnTo>
                    <a:pt x="1182" y="3810"/>
                  </a:lnTo>
                  <a:lnTo>
                    <a:pt x="1071" y="3731"/>
                  </a:lnTo>
                  <a:lnTo>
                    <a:pt x="978" y="3647"/>
                  </a:lnTo>
                  <a:lnTo>
                    <a:pt x="881" y="3559"/>
                  </a:lnTo>
                  <a:lnTo>
                    <a:pt x="806" y="3471"/>
                  </a:lnTo>
                  <a:lnTo>
                    <a:pt x="736" y="3374"/>
                  </a:lnTo>
                  <a:lnTo>
                    <a:pt x="674" y="3267"/>
                  </a:lnTo>
                  <a:lnTo>
                    <a:pt x="626" y="3152"/>
                  </a:lnTo>
                  <a:lnTo>
                    <a:pt x="586" y="3029"/>
                  </a:lnTo>
                  <a:lnTo>
                    <a:pt x="564" y="2897"/>
                  </a:lnTo>
                  <a:lnTo>
                    <a:pt x="546" y="2751"/>
                  </a:lnTo>
                  <a:lnTo>
                    <a:pt x="546" y="2601"/>
                  </a:lnTo>
                  <a:lnTo>
                    <a:pt x="564" y="2442"/>
                  </a:lnTo>
                  <a:lnTo>
                    <a:pt x="586" y="2297"/>
                  </a:lnTo>
                  <a:lnTo>
                    <a:pt x="635" y="2138"/>
                  </a:lnTo>
                  <a:lnTo>
                    <a:pt x="687" y="1971"/>
                  </a:lnTo>
                  <a:lnTo>
                    <a:pt x="767" y="1799"/>
                  </a:lnTo>
                  <a:lnTo>
                    <a:pt x="851" y="1613"/>
                  </a:lnTo>
                  <a:lnTo>
                    <a:pt x="961" y="1428"/>
                  </a:lnTo>
                  <a:lnTo>
                    <a:pt x="1089" y="1247"/>
                  </a:lnTo>
                  <a:lnTo>
                    <a:pt x="1226" y="1067"/>
                  </a:lnTo>
                  <a:lnTo>
                    <a:pt x="1394" y="890"/>
                  </a:lnTo>
                  <a:lnTo>
                    <a:pt x="1570" y="727"/>
                  </a:lnTo>
                  <a:lnTo>
                    <a:pt x="1769" y="568"/>
                  </a:lnTo>
                  <a:lnTo>
                    <a:pt x="1985" y="423"/>
                  </a:lnTo>
                  <a:lnTo>
                    <a:pt x="2227" y="299"/>
                  </a:lnTo>
                  <a:lnTo>
                    <a:pt x="2488" y="189"/>
                  </a:lnTo>
                  <a:lnTo>
                    <a:pt x="2770" y="101"/>
                  </a:lnTo>
                  <a:lnTo>
                    <a:pt x="3065" y="39"/>
                  </a:lnTo>
                  <a:lnTo>
                    <a:pt x="3153" y="22"/>
                  </a:lnTo>
                  <a:lnTo>
                    <a:pt x="3246" y="17"/>
                  </a:lnTo>
                  <a:lnTo>
                    <a:pt x="3331" y="4"/>
                  </a:lnTo>
                  <a:lnTo>
                    <a:pt x="3428" y="4"/>
                  </a:lnTo>
                  <a:lnTo>
                    <a:pt x="3512" y="0"/>
                  </a:lnTo>
                  <a:lnTo>
                    <a:pt x="3609" y="0"/>
                  </a:lnTo>
                  <a:lnTo>
                    <a:pt x="3692" y="4"/>
                  </a:lnTo>
                  <a:lnTo>
                    <a:pt x="3781" y="4"/>
                  </a:lnTo>
                  <a:lnTo>
                    <a:pt x="3864" y="17"/>
                  </a:lnTo>
                  <a:lnTo>
                    <a:pt x="3953" y="22"/>
                  </a:lnTo>
                  <a:lnTo>
                    <a:pt x="4036" y="35"/>
                  </a:lnTo>
                  <a:lnTo>
                    <a:pt x="4116" y="48"/>
                  </a:lnTo>
                  <a:lnTo>
                    <a:pt x="4195" y="66"/>
                  </a:lnTo>
                  <a:lnTo>
                    <a:pt x="4270" y="83"/>
                  </a:lnTo>
                  <a:lnTo>
                    <a:pt x="4349" y="101"/>
                  </a:lnTo>
                  <a:lnTo>
                    <a:pt x="4420" y="123"/>
                  </a:lnTo>
                  <a:lnTo>
                    <a:pt x="4155" y="2019"/>
                  </a:lnTo>
                  <a:lnTo>
                    <a:pt x="4116" y="1971"/>
                  </a:lnTo>
                  <a:lnTo>
                    <a:pt x="4067" y="1918"/>
                  </a:lnTo>
                  <a:lnTo>
                    <a:pt x="4023" y="1869"/>
                  </a:lnTo>
                  <a:lnTo>
                    <a:pt x="3975" y="1816"/>
                  </a:lnTo>
                  <a:lnTo>
                    <a:pt x="3917" y="1772"/>
                  </a:lnTo>
                  <a:lnTo>
                    <a:pt x="3856" y="1724"/>
                  </a:lnTo>
                  <a:lnTo>
                    <a:pt x="3785" y="1684"/>
                  </a:lnTo>
                  <a:lnTo>
                    <a:pt x="3723" y="1640"/>
                  </a:lnTo>
                  <a:lnTo>
                    <a:pt x="3653" y="1613"/>
                  </a:lnTo>
                  <a:lnTo>
                    <a:pt x="3582" y="1583"/>
                  </a:lnTo>
                  <a:lnTo>
                    <a:pt x="3498" y="1556"/>
                  </a:lnTo>
                  <a:lnTo>
                    <a:pt x="3419" y="1538"/>
                  </a:lnTo>
                  <a:lnTo>
                    <a:pt x="3340" y="1530"/>
                  </a:lnTo>
                  <a:lnTo>
                    <a:pt x="3264" y="1521"/>
                  </a:lnTo>
                  <a:lnTo>
                    <a:pt x="3184" y="1521"/>
                  </a:lnTo>
                  <a:lnTo>
                    <a:pt x="3096" y="1534"/>
                  </a:lnTo>
                  <a:lnTo>
                    <a:pt x="3004" y="1556"/>
                  </a:lnTo>
                  <a:lnTo>
                    <a:pt x="2911" y="1587"/>
                  </a:lnTo>
                  <a:lnTo>
                    <a:pt x="2823" y="1636"/>
                  </a:lnTo>
                  <a:lnTo>
                    <a:pt x="2739" y="1688"/>
                  </a:lnTo>
                  <a:lnTo>
                    <a:pt x="2660" y="1755"/>
                  </a:lnTo>
                  <a:lnTo>
                    <a:pt x="2598" y="1825"/>
                  </a:lnTo>
                  <a:lnTo>
                    <a:pt x="2549" y="1909"/>
                  </a:lnTo>
                  <a:lnTo>
                    <a:pt x="2527" y="1993"/>
                  </a:lnTo>
                  <a:lnTo>
                    <a:pt x="2527" y="2090"/>
                  </a:lnTo>
                  <a:lnTo>
                    <a:pt x="2558" y="2173"/>
                  </a:lnTo>
                  <a:lnTo>
                    <a:pt x="2611" y="2244"/>
                  </a:lnTo>
                  <a:lnTo>
                    <a:pt x="2668" y="2310"/>
                  </a:lnTo>
                  <a:lnTo>
                    <a:pt x="2708" y="2341"/>
                  </a:lnTo>
                  <a:lnTo>
                    <a:pt x="2743" y="2372"/>
                  </a:lnTo>
                  <a:lnTo>
                    <a:pt x="2783" y="2394"/>
                  </a:lnTo>
                  <a:lnTo>
                    <a:pt x="2832" y="2416"/>
                  </a:lnTo>
                  <a:lnTo>
                    <a:pt x="2871" y="2442"/>
                  </a:lnTo>
                  <a:lnTo>
                    <a:pt x="2915" y="2465"/>
                  </a:lnTo>
                  <a:lnTo>
                    <a:pt x="2951" y="2491"/>
                  </a:lnTo>
                  <a:lnTo>
                    <a:pt x="2986" y="2513"/>
                  </a:lnTo>
                  <a:lnTo>
                    <a:pt x="3127" y="2579"/>
                  </a:lnTo>
                  <a:lnTo>
                    <a:pt x="3264" y="2650"/>
                  </a:lnTo>
                  <a:lnTo>
                    <a:pt x="3379" y="2716"/>
                  </a:lnTo>
                  <a:lnTo>
                    <a:pt x="3498" y="2786"/>
                  </a:lnTo>
                  <a:lnTo>
                    <a:pt x="3600" y="2866"/>
                  </a:lnTo>
                  <a:lnTo>
                    <a:pt x="3692" y="2945"/>
                  </a:lnTo>
                  <a:lnTo>
                    <a:pt x="3772" y="3029"/>
                  </a:lnTo>
                  <a:lnTo>
                    <a:pt x="3842" y="3117"/>
                  </a:lnTo>
                  <a:lnTo>
                    <a:pt x="3913" y="3214"/>
                  </a:lnTo>
                  <a:lnTo>
                    <a:pt x="3966" y="3316"/>
                  </a:lnTo>
                  <a:lnTo>
                    <a:pt x="4014" y="3427"/>
                  </a:lnTo>
                  <a:lnTo>
                    <a:pt x="4036" y="3546"/>
                  </a:lnTo>
                  <a:lnTo>
                    <a:pt x="4067" y="3678"/>
                  </a:lnTo>
                  <a:lnTo>
                    <a:pt x="4067" y="3824"/>
                  </a:lnTo>
                  <a:lnTo>
                    <a:pt x="4067" y="3978"/>
                  </a:lnTo>
                  <a:lnTo>
                    <a:pt x="4045" y="4146"/>
                  </a:lnTo>
                  <a:lnTo>
                    <a:pt x="4006" y="4362"/>
                  </a:lnTo>
                  <a:lnTo>
                    <a:pt x="3944" y="4569"/>
                  </a:lnTo>
                  <a:lnTo>
                    <a:pt x="3864" y="4776"/>
                  </a:lnTo>
                  <a:lnTo>
                    <a:pt x="3763" y="4983"/>
                  </a:lnTo>
                  <a:lnTo>
                    <a:pt x="3640" y="5178"/>
                  </a:lnTo>
                  <a:lnTo>
                    <a:pt x="3507" y="5363"/>
                  </a:lnTo>
                  <a:lnTo>
                    <a:pt x="3357" y="5548"/>
                  </a:lnTo>
                  <a:lnTo>
                    <a:pt x="3193" y="5716"/>
                  </a:lnTo>
                  <a:lnTo>
                    <a:pt x="3012" y="5879"/>
                  </a:lnTo>
                  <a:lnTo>
                    <a:pt x="2814" y="6020"/>
                  </a:lnTo>
                  <a:lnTo>
                    <a:pt x="2611" y="6156"/>
                  </a:lnTo>
                  <a:lnTo>
                    <a:pt x="2399" y="6276"/>
                  </a:lnTo>
                  <a:lnTo>
                    <a:pt x="2174" y="6377"/>
                  </a:lnTo>
                  <a:lnTo>
                    <a:pt x="1932" y="6470"/>
                  </a:lnTo>
                  <a:lnTo>
                    <a:pt x="1689" y="6540"/>
                  </a:lnTo>
                  <a:lnTo>
                    <a:pt x="1438" y="6589"/>
                  </a:lnTo>
                  <a:lnTo>
                    <a:pt x="1345" y="6606"/>
                  </a:lnTo>
                  <a:lnTo>
                    <a:pt x="1253" y="6611"/>
                  </a:lnTo>
                  <a:lnTo>
                    <a:pt x="1151" y="6624"/>
                  </a:lnTo>
                  <a:lnTo>
                    <a:pt x="1062" y="6628"/>
                  </a:lnTo>
                  <a:lnTo>
                    <a:pt x="970" y="6637"/>
                  </a:lnTo>
                  <a:lnTo>
                    <a:pt x="877" y="6642"/>
                  </a:lnTo>
                  <a:lnTo>
                    <a:pt x="780" y="6642"/>
                  </a:lnTo>
                  <a:lnTo>
                    <a:pt x="696" y="6642"/>
                  </a:lnTo>
                  <a:lnTo>
                    <a:pt x="604" y="6642"/>
                  </a:lnTo>
                  <a:lnTo>
                    <a:pt x="515" y="6637"/>
                  </a:lnTo>
                  <a:lnTo>
                    <a:pt x="432" y="6624"/>
                  </a:lnTo>
                  <a:lnTo>
                    <a:pt x="343" y="6624"/>
                  </a:lnTo>
                  <a:lnTo>
                    <a:pt x="251" y="6606"/>
                  </a:lnTo>
                  <a:lnTo>
                    <a:pt x="163" y="6602"/>
                  </a:lnTo>
                  <a:lnTo>
                    <a:pt x="88" y="6589"/>
                  </a:lnTo>
                  <a:lnTo>
                    <a:pt x="0" y="6562"/>
                  </a:lnTo>
                  <a:lnTo>
                    <a:pt x="282" y="4622"/>
                  </a:lnTo>
                  <a:close/>
                </a:path>
              </a:pathLst>
            </a:custGeom>
            <a:solidFill>
              <a:srgbClr val="e5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19520" y="1235160"/>
              <a:ext cx="1694160" cy="2376720"/>
            </a:xfrm>
            <a:custGeom>
              <a:avLst/>
              <a:gdLst/>
              <a:ahLst/>
              <a:rect l="0" t="0" r="r" b="b"/>
              <a:pathLst>
                <a:path w="4706" h="6602">
                  <a:moveTo>
                    <a:pt x="4446" y="1825"/>
                  </a:moveTo>
                  <a:lnTo>
                    <a:pt x="4357" y="1763"/>
                  </a:lnTo>
                  <a:lnTo>
                    <a:pt x="4265" y="1706"/>
                  </a:lnTo>
                  <a:lnTo>
                    <a:pt x="4168" y="1658"/>
                  </a:lnTo>
                  <a:lnTo>
                    <a:pt x="4066" y="1627"/>
                  </a:lnTo>
                  <a:lnTo>
                    <a:pt x="3965" y="1605"/>
                  </a:lnTo>
                  <a:lnTo>
                    <a:pt x="3846" y="1591"/>
                  </a:lnTo>
                  <a:lnTo>
                    <a:pt x="3722" y="1591"/>
                  </a:lnTo>
                  <a:lnTo>
                    <a:pt x="3577" y="1609"/>
                  </a:lnTo>
                  <a:lnTo>
                    <a:pt x="3392" y="1653"/>
                  </a:lnTo>
                  <a:lnTo>
                    <a:pt x="3224" y="1706"/>
                  </a:lnTo>
                  <a:lnTo>
                    <a:pt x="3065" y="1785"/>
                  </a:lnTo>
                  <a:lnTo>
                    <a:pt x="2924" y="1874"/>
                  </a:lnTo>
                  <a:lnTo>
                    <a:pt x="2796" y="1975"/>
                  </a:lnTo>
                  <a:lnTo>
                    <a:pt x="2682" y="2090"/>
                  </a:lnTo>
                  <a:lnTo>
                    <a:pt x="2571" y="2218"/>
                  </a:lnTo>
                  <a:lnTo>
                    <a:pt x="2474" y="2341"/>
                  </a:lnTo>
                  <a:lnTo>
                    <a:pt x="2395" y="2482"/>
                  </a:lnTo>
                  <a:lnTo>
                    <a:pt x="2315" y="2623"/>
                  </a:lnTo>
                  <a:lnTo>
                    <a:pt x="2253" y="2769"/>
                  </a:lnTo>
                  <a:lnTo>
                    <a:pt x="2200" y="2914"/>
                  </a:lnTo>
                  <a:lnTo>
                    <a:pt x="2151" y="3055"/>
                  </a:lnTo>
                  <a:lnTo>
                    <a:pt x="2112" y="3201"/>
                  </a:lnTo>
                  <a:lnTo>
                    <a:pt x="2090" y="3339"/>
                  </a:lnTo>
                  <a:lnTo>
                    <a:pt x="2063" y="3471"/>
                  </a:lnTo>
                  <a:lnTo>
                    <a:pt x="2050" y="3612"/>
                  </a:lnTo>
                  <a:lnTo>
                    <a:pt x="2041" y="3753"/>
                  </a:lnTo>
                  <a:lnTo>
                    <a:pt x="2032" y="3894"/>
                  </a:lnTo>
                  <a:lnTo>
                    <a:pt x="2041" y="4035"/>
                  </a:lnTo>
                  <a:lnTo>
                    <a:pt x="2050" y="4168"/>
                  </a:lnTo>
                  <a:lnTo>
                    <a:pt x="2081" y="4300"/>
                  </a:lnTo>
                  <a:lnTo>
                    <a:pt x="2103" y="4428"/>
                  </a:lnTo>
                  <a:lnTo>
                    <a:pt x="2160" y="4543"/>
                  </a:lnTo>
                  <a:lnTo>
                    <a:pt x="2213" y="4644"/>
                  </a:lnTo>
                  <a:lnTo>
                    <a:pt x="2284" y="4741"/>
                  </a:lnTo>
                  <a:lnTo>
                    <a:pt x="2373" y="4816"/>
                  </a:lnTo>
                  <a:lnTo>
                    <a:pt x="2483" y="4878"/>
                  </a:lnTo>
                  <a:lnTo>
                    <a:pt x="2602" y="4926"/>
                  </a:lnTo>
                  <a:lnTo>
                    <a:pt x="2735" y="4957"/>
                  </a:lnTo>
                  <a:lnTo>
                    <a:pt x="2893" y="4957"/>
                  </a:lnTo>
                  <a:lnTo>
                    <a:pt x="3065" y="4939"/>
                  </a:lnTo>
                  <a:lnTo>
                    <a:pt x="3145" y="4926"/>
                  </a:lnTo>
                  <a:lnTo>
                    <a:pt x="3233" y="4909"/>
                  </a:lnTo>
                  <a:lnTo>
                    <a:pt x="3303" y="4882"/>
                  </a:lnTo>
                  <a:lnTo>
                    <a:pt x="3374" y="4860"/>
                  </a:lnTo>
                  <a:lnTo>
                    <a:pt x="3444" y="4838"/>
                  </a:lnTo>
                  <a:lnTo>
                    <a:pt x="3515" y="4807"/>
                  </a:lnTo>
                  <a:lnTo>
                    <a:pt x="3577" y="4776"/>
                  </a:lnTo>
                  <a:lnTo>
                    <a:pt x="3652" y="4741"/>
                  </a:lnTo>
                  <a:lnTo>
                    <a:pt x="3713" y="4706"/>
                  </a:lnTo>
                  <a:lnTo>
                    <a:pt x="3784" y="4662"/>
                  </a:lnTo>
                  <a:lnTo>
                    <a:pt x="3837" y="4626"/>
                  </a:lnTo>
                  <a:lnTo>
                    <a:pt x="3903" y="4578"/>
                  </a:lnTo>
                  <a:lnTo>
                    <a:pt x="3974" y="4529"/>
                  </a:lnTo>
                  <a:lnTo>
                    <a:pt x="4035" y="4481"/>
                  </a:lnTo>
                  <a:lnTo>
                    <a:pt x="4097" y="4428"/>
                  </a:lnTo>
                  <a:lnTo>
                    <a:pt x="4163" y="4375"/>
                  </a:lnTo>
                  <a:lnTo>
                    <a:pt x="3797" y="6139"/>
                  </a:lnTo>
                  <a:lnTo>
                    <a:pt x="3722" y="6174"/>
                  </a:lnTo>
                  <a:lnTo>
                    <a:pt x="3643" y="6209"/>
                  </a:lnTo>
                  <a:lnTo>
                    <a:pt x="3572" y="6249"/>
                  </a:lnTo>
                  <a:lnTo>
                    <a:pt x="3493" y="6284"/>
                  </a:lnTo>
                  <a:lnTo>
                    <a:pt x="3414" y="6315"/>
                  </a:lnTo>
                  <a:lnTo>
                    <a:pt x="3343" y="6342"/>
                  </a:lnTo>
                  <a:lnTo>
                    <a:pt x="3264" y="6373"/>
                  </a:lnTo>
                  <a:lnTo>
                    <a:pt x="3193" y="6403"/>
                  </a:lnTo>
                  <a:lnTo>
                    <a:pt x="3123" y="6421"/>
                  </a:lnTo>
                  <a:lnTo>
                    <a:pt x="3043" y="6448"/>
                  </a:lnTo>
                  <a:lnTo>
                    <a:pt x="2973" y="6470"/>
                  </a:lnTo>
                  <a:lnTo>
                    <a:pt x="2893" y="6487"/>
                  </a:lnTo>
                  <a:lnTo>
                    <a:pt x="2814" y="6505"/>
                  </a:lnTo>
                  <a:lnTo>
                    <a:pt x="2743" y="6522"/>
                  </a:lnTo>
                  <a:lnTo>
                    <a:pt x="2655" y="6540"/>
                  </a:lnTo>
                  <a:lnTo>
                    <a:pt x="2576" y="6553"/>
                  </a:lnTo>
                  <a:lnTo>
                    <a:pt x="2279" y="6589"/>
                  </a:lnTo>
                  <a:lnTo>
                    <a:pt x="1993" y="6602"/>
                  </a:lnTo>
                  <a:lnTo>
                    <a:pt x="1719" y="6584"/>
                  </a:lnTo>
                  <a:lnTo>
                    <a:pt x="1450" y="6540"/>
                  </a:lnTo>
                  <a:lnTo>
                    <a:pt x="1212" y="6470"/>
                  </a:lnTo>
                  <a:lnTo>
                    <a:pt x="983" y="6368"/>
                  </a:lnTo>
                  <a:lnTo>
                    <a:pt x="771" y="6249"/>
                  </a:lnTo>
                  <a:lnTo>
                    <a:pt x="582" y="6090"/>
                  </a:lnTo>
                  <a:lnTo>
                    <a:pt x="418" y="5918"/>
                  </a:lnTo>
                  <a:lnTo>
                    <a:pt x="282" y="5707"/>
                  </a:lnTo>
                  <a:lnTo>
                    <a:pt x="167" y="5469"/>
                  </a:lnTo>
                  <a:lnTo>
                    <a:pt x="79" y="5204"/>
                  </a:lnTo>
                  <a:lnTo>
                    <a:pt x="22" y="4904"/>
                  </a:lnTo>
                  <a:lnTo>
                    <a:pt x="0" y="4578"/>
                  </a:lnTo>
                  <a:lnTo>
                    <a:pt x="0" y="4225"/>
                  </a:lnTo>
                  <a:lnTo>
                    <a:pt x="39" y="3837"/>
                  </a:lnTo>
                  <a:lnTo>
                    <a:pt x="141" y="3334"/>
                  </a:lnTo>
                  <a:lnTo>
                    <a:pt x="277" y="2875"/>
                  </a:lnTo>
                  <a:lnTo>
                    <a:pt x="449" y="2456"/>
                  </a:lnTo>
                  <a:lnTo>
                    <a:pt x="652" y="2085"/>
                  </a:lnTo>
                  <a:lnTo>
                    <a:pt x="881" y="1746"/>
                  </a:lnTo>
                  <a:lnTo>
                    <a:pt x="1128" y="1446"/>
                  </a:lnTo>
                  <a:lnTo>
                    <a:pt x="1393" y="1177"/>
                  </a:lnTo>
                  <a:lnTo>
                    <a:pt x="1680" y="943"/>
                  </a:lnTo>
                  <a:lnTo>
                    <a:pt x="1953" y="745"/>
                  </a:lnTo>
                  <a:lnTo>
                    <a:pt x="2244" y="568"/>
                  </a:lnTo>
                  <a:lnTo>
                    <a:pt x="2523" y="432"/>
                  </a:lnTo>
                  <a:lnTo>
                    <a:pt x="2796" y="304"/>
                  </a:lnTo>
                  <a:lnTo>
                    <a:pt x="3056" y="211"/>
                  </a:lnTo>
                  <a:lnTo>
                    <a:pt x="3303" y="136"/>
                  </a:lnTo>
                  <a:lnTo>
                    <a:pt x="3524" y="83"/>
                  </a:lnTo>
                  <a:lnTo>
                    <a:pt x="3722" y="44"/>
                  </a:lnTo>
                  <a:lnTo>
                    <a:pt x="3846" y="22"/>
                  </a:lnTo>
                  <a:lnTo>
                    <a:pt x="3982" y="13"/>
                  </a:lnTo>
                  <a:lnTo>
                    <a:pt x="4097" y="0"/>
                  </a:lnTo>
                  <a:lnTo>
                    <a:pt x="4225" y="0"/>
                  </a:lnTo>
                  <a:lnTo>
                    <a:pt x="4353" y="0"/>
                  </a:lnTo>
                  <a:lnTo>
                    <a:pt x="4468" y="4"/>
                  </a:lnTo>
                  <a:lnTo>
                    <a:pt x="4587" y="17"/>
                  </a:lnTo>
                  <a:lnTo>
                    <a:pt x="4706" y="35"/>
                  </a:lnTo>
                  <a:lnTo>
                    <a:pt x="4446" y="1825"/>
                  </a:lnTo>
                  <a:close/>
                </a:path>
              </a:pathLst>
            </a:custGeom>
            <a:solidFill>
              <a:srgbClr val="e5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22400" y="1427040"/>
              <a:ext cx="1609920" cy="2421360"/>
            </a:xfrm>
            <a:custGeom>
              <a:avLst/>
              <a:gdLst/>
              <a:ahLst/>
              <a:rect l="0" t="0" r="r" b="b"/>
              <a:pathLst>
                <a:path w="4472" h="6726">
                  <a:moveTo>
                    <a:pt x="282" y="4679"/>
                  </a:moveTo>
                  <a:lnTo>
                    <a:pt x="330" y="4737"/>
                  </a:lnTo>
                  <a:lnTo>
                    <a:pt x="379" y="4789"/>
                  </a:lnTo>
                  <a:lnTo>
                    <a:pt x="436" y="4851"/>
                  </a:lnTo>
                  <a:lnTo>
                    <a:pt x="489" y="4900"/>
                  </a:lnTo>
                  <a:lnTo>
                    <a:pt x="551" y="4953"/>
                  </a:lnTo>
                  <a:lnTo>
                    <a:pt x="617" y="4997"/>
                  </a:lnTo>
                  <a:lnTo>
                    <a:pt x="687" y="5036"/>
                  </a:lnTo>
                  <a:lnTo>
                    <a:pt x="758" y="5077"/>
                  </a:lnTo>
                  <a:lnTo>
                    <a:pt x="829" y="5112"/>
                  </a:lnTo>
                  <a:lnTo>
                    <a:pt x="917" y="5134"/>
                  </a:lnTo>
                  <a:lnTo>
                    <a:pt x="996" y="5161"/>
                  </a:lnTo>
                  <a:lnTo>
                    <a:pt x="1075" y="5179"/>
                  </a:lnTo>
                  <a:lnTo>
                    <a:pt x="1159" y="5192"/>
                  </a:lnTo>
                  <a:lnTo>
                    <a:pt x="1256" y="5192"/>
                  </a:lnTo>
                  <a:lnTo>
                    <a:pt x="1349" y="5192"/>
                  </a:lnTo>
                  <a:lnTo>
                    <a:pt x="1437" y="5179"/>
                  </a:lnTo>
                  <a:lnTo>
                    <a:pt x="1547" y="5152"/>
                  </a:lnTo>
                  <a:lnTo>
                    <a:pt x="1649" y="5117"/>
                  </a:lnTo>
                  <a:lnTo>
                    <a:pt x="1755" y="5068"/>
                  </a:lnTo>
                  <a:lnTo>
                    <a:pt x="1847" y="5010"/>
                  </a:lnTo>
                  <a:lnTo>
                    <a:pt x="1935" y="4939"/>
                  </a:lnTo>
                  <a:lnTo>
                    <a:pt x="2006" y="4864"/>
                  </a:lnTo>
                  <a:lnTo>
                    <a:pt x="2054" y="4772"/>
                  </a:lnTo>
                  <a:lnTo>
                    <a:pt x="2085" y="4675"/>
                  </a:lnTo>
                  <a:lnTo>
                    <a:pt x="2085" y="4565"/>
                  </a:lnTo>
                  <a:lnTo>
                    <a:pt x="2068" y="4476"/>
                  </a:lnTo>
                  <a:lnTo>
                    <a:pt x="2037" y="4410"/>
                  </a:lnTo>
                  <a:lnTo>
                    <a:pt x="1984" y="4344"/>
                  </a:lnTo>
                  <a:lnTo>
                    <a:pt x="1953" y="4318"/>
                  </a:lnTo>
                  <a:lnTo>
                    <a:pt x="1918" y="4287"/>
                  </a:lnTo>
                  <a:lnTo>
                    <a:pt x="1887" y="4265"/>
                  </a:lnTo>
                  <a:lnTo>
                    <a:pt x="1847" y="4238"/>
                  </a:lnTo>
                  <a:lnTo>
                    <a:pt x="1807" y="4221"/>
                  </a:lnTo>
                  <a:lnTo>
                    <a:pt x="1768" y="4199"/>
                  </a:lnTo>
                  <a:lnTo>
                    <a:pt x="1728" y="4181"/>
                  </a:lnTo>
                  <a:lnTo>
                    <a:pt x="1684" y="4154"/>
                  </a:lnTo>
                  <a:lnTo>
                    <a:pt x="1556" y="4084"/>
                  </a:lnTo>
                  <a:lnTo>
                    <a:pt x="1428" y="4005"/>
                  </a:lnTo>
                  <a:lnTo>
                    <a:pt x="1309" y="3930"/>
                  </a:lnTo>
                  <a:lnTo>
                    <a:pt x="1195" y="3859"/>
                  </a:lnTo>
                  <a:lnTo>
                    <a:pt x="1089" y="3780"/>
                  </a:lnTo>
                  <a:lnTo>
                    <a:pt x="987" y="3691"/>
                  </a:lnTo>
                  <a:lnTo>
                    <a:pt x="890" y="3603"/>
                  </a:lnTo>
                  <a:lnTo>
                    <a:pt x="815" y="3515"/>
                  </a:lnTo>
                  <a:lnTo>
                    <a:pt x="740" y="3409"/>
                  </a:lnTo>
                  <a:lnTo>
                    <a:pt x="687" y="3308"/>
                  </a:lnTo>
                  <a:lnTo>
                    <a:pt x="630" y="3193"/>
                  </a:lnTo>
                  <a:lnTo>
                    <a:pt x="599" y="3065"/>
                  </a:lnTo>
                  <a:lnTo>
                    <a:pt x="568" y="2933"/>
                  </a:lnTo>
                  <a:lnTo>
                    <a:pt x="551" y="2787"/>
                  </a:lnTo>
                  <a:lnTo>
                    <a:pt x="551" y="2638"/>
                  </a:lnTo>
                  <a:lnTo>
                    <a:pt x="568" y="2470"/>
                  </a:lnTo>
                  <a:lnTo>
                    <a:pt x="599" y="2329"/>
                  </a:lnTo>
                  <a:lnTo>
                    <a:pt x="639" y="2166"/>
                  </a:lnTo>
                  <a:lnTo>
                    <a:pt x="701" y="1998"/>
                  </a:lnTo>
                  <a:lnTo>
                    <a:pt x="776" y="1813"/>
                  </a:lnTo>
                  <a:lnTo>
                    <a:pt x="859" y="1631"/>
                  </a:lnTo>
                  <a:lnTo>
                    <a:pt x="970" y="1446"/>
                  </a:lnTo>
                  <a:lnTo>
                    <a:pt x="1098" y="1265"/>
                  </a:lnTo>
                  <a:lnTo>
                    <a:pt x="1247" y="1075"/>
                  </a:lnTo>
                  <a:lnTo>
                    <a:pt x="1406" y="899"/>
                  </a:lnTo>
                  <a:lnTo>
                    <a:pt x="1587" y="732"/>
                  </a:lnTo>
                  <a:lnTo>
                    <a:pt x="1794" y="573"/>
                  </a:lnTo>
                  <a:lnTo>
                    <a:pt x="2015" y="427"/>
                  </a:lnTo>
                  <a:lnTo>
                    <a:pt x="2254" y="295"/>
                  </a:lnTo>
                  <a:lnTo>
                    <a:pt x="2518" y="189"/>
                  </a:lnTo>
                  <a:lnTo>
                    <a:pt x="2805" y="101"/>
                  </a:lnTo>
                  <a:lnTo>
                    <a:pt x="3114" y="35"/>
                  </a:lnTo>
                  <a:lnTo>
                    <a:pt x="3202" y="22"/>
                  </a:lnTo>
                  <a:lnTo>
                    <a:pt x="3286" y="13"/>
                  </a:lnTo>
                  <a:lnTo>
                    <a:pt x="3374" y="4"/>
                  </a:lnTo>
                  <a:lnTo>
                    <a:pt x="3467" y="0"/>
                  </a:lnTo>
                  <a:lnTo>
                    <a:pt x="3555" y="0"/>
                  </a:lnTo>
                  <a:lnTo>
                    <a:pt x="3643" y="0"/>
                  </a:lnTo>
                  <a:lnTo>
                    <a:pt x="3736" y="0"/>
                  </a:lnTo>
                  <a:lnTo>
                    <a:pt x="3824" y="4"/>
                  </a:lnTo>
                  <a:lnTo>
                    <a:pt x="3912" y="13"/>
                  </a:lnTo>
                  <a:lnTo>
                    <a:pt x="4000" y="22"/>
                  </a:lnTo>
                  <a:lnTo>
                    <a:pt x="4075" y="35"/>
                  </a:lnTo>
                  <a:lnTo>
                    <a:pt x="4163" y="48"/>
                  </a:lnTo>
                  <a:lnTo>
                    <a:pt x="4243" y="66"/>
                  </a:lnTo>
                  <a:lnTo>
                    <a:pt x="4331" y="83"/>
                  </a:lnTo>
                  <a:lnTo>
                    <a:pt x="4401" y="101"/>
                  </a:lnTo>
                  <a:lnTo>
                    <a:pt x="4472" y="127"/>
                  </a:lnTo>
                  <a:lnTo>
                    <a:pt x="4194" y="2047"/>
                  </a:lnTo>
                  <a:lnTo>
                    <a:pt x="4154" y="1998"/>
                  </a:lnTo>
                  <a:lnTo>
                    <a:pt x="4115" y="1941"/>
                  </a:lnTo>
                  <a:lnTo>
                    <a:pt x="4071" y="1892"/>
                  </a:lnTo>
                  <a:lnTo>
                    <a:pt x="4013" y="1839"/>
                  </a:lnTo>
                  <a:lnTo>
                    <a:pt x="3960" y="1795"/>
                  </a:lnTo>
                  <a:lnTo>
                    <a:pt x="3894" y="1747"/>
                  </a:lnTo>
                  <a:lnTo>
                    <a:pt x="3833" y="1707"/>
                  </a:lnTo>
                  <a:lnTo>
                    <a:pt x="3771" y="1662"/>
                  </a:lnTo>
                  <a:lnTo>
                    <a:pt x="3691" y="1631"/>
                  </a:lnTo>
                  <a:lnTo>
                    <a:pt x="3621" y="1600"/>
                  </a:lnTo>
                  <a:lnTo>
                    <a:pt x="3546" y="1578"/>
                  </a:lnTo>
                  <a:lnTo>
                    <a:pt x="3462" y="1561"/>
                  </a:lnTo>
                  <a:lnTo>
                    <a:pt x="3383" y="1547"/>
                  </a:lnTo>
                  <a:lnTo>
                    <a:pt x="3295" y="1543"/>
                  </a:lnTo>
                  <a:lnTo>
                    <a:pt x="3215" y="1543"/>
                  </a:lnTo>
                  <a:lnTo>
                    <a:pt x="3127" y="1552"/>
                  </a:lnTo>
                  <a:lnTo>
                    <a:pt x="3034" y="1578"/>
                  </a:lnTo>
                  <a:lnTo>
                    <a:pt x="2937" y="1609"/>
                  </a:lnTo>
                  <a:lnTo>
                    <a:pt x="2854" y="1658"/>
                  </a:lnTo>
                  <a:lnTo>
                    <a:pt x="2765" y="1711"/>
                  </a:lnTo>
                  <a:lnTo>
                    <a:pt x="2695" y="1778"/>
                  </a:lnTo>
                  <a:lnTo>
                    <a:pt x="2633" y="1853"/>
                  </a:lnTo>
                  <a:lnTo>
                    <a:pt x="2585" y="1936"/>
                  </a:lnTo>
                  <a:lnTo>
                    <a:pt x="2558" y="2020"/>
                  </a:lnTo>
                  <a:lnTo>
                    <a:pt x="2558" y="2113"/>
                  </a:lnTo>
                  <a:lnTo>
                    <a:pt x="2593" y="2201"/>
                  </a:lnTo>
                  <a:lnTo>
                    <a:pt x="2638" y="2276"/>
                  </a:lnTo>
                  <a:lnTo>
                    <a:pt x="2704" y="2342"/>
                  </a:lnTo>
                  <a:lnTo>
                    <a:pt x="2743" y="2373"/>
                  </a:lnTo>
                  <a:lnTo>
                    <a:pt x="2774" y="2399"/>
                  </a:lnTo>
                  <a:lnTo>
                    <a:pt x="2823" y="2426"/>
                  </a:lnTo>
                  <a:lnTo>
                    <a:pt x="2862" y="2448"/>
                  </a:lnTo>
                  <a:lnTo>
                    <a:pt x="2907" y="2474"/>
                  </a:lnTo>
                  <a:lnTo>
                    <a:pt x="2946" y="2496"/>
                  </a:lnTo>
                  <a:lnTo>
                    <a:pt x="2986" y="2523"/>
                  </a:lnTo>
                  <a:lnTo>
                    <a:pt x="3026" y="2545"/>
                  </a:lnTo>
                  <a:lnTo>
                    <a:pt x="3167" y="2611"/>
                  </a:lnTo>
                  <a:lnTo>
                    <a:pt x="3295" y="2686"/>
                  </a:lnTo>
                  <a:lnTo>
                    <a:pt x="3422" y="2752"/>
                  </a:lnTo>
                  <a:lnTo>
                    <a:pt x="3533" y="2823"/>
                  </a:lnTo>
                  <a:lnTo>
                    <a:pt x="3634" y="2902"/>
                  </a:lnTo>
                  <a:lnTo>
                    <a:pt x="3731" y="2981"/>
                  </a:lnTo>
                  <a:lnTo>
                    <a:pt x="3811" y="3065"/>
                  </a:lnTo>
                  <a:lnTo>
                    <a:pt x="3885" y="3158"/>
                  </a:lnTo>
                  <a:lnTo>
                    <a:pt x="3952" y="3255"/>
                  </a:lnTo>
                  <a:lnTo>
                    <a:pt x="4013" y="3356"/>
                  </a:lnTo>
                  <a:lnTo>
                    <a:pt x="4053" y="3471"/>
                  </a:lnTo>
                  <a:lnTo>
                    <a:pt x="4084" y="3594"/>
                  </a:lnTo>
                  <a:lnTo>
                    <a:pt x="4110" y="3727"/>
                  </a:lnTo>
                  <a:lnTo>
                    <a:pt x="4115" y="3863"/>
                  </a:lnTo>
                  <a:lnTo>
                    <a:pt x="4110" y="4022"/>
                  </a:lnTo>
                  <a:lnTo>
                    <a:pt x="4093" y="4199"/>
                  </a:lnTo>
                  <a:lnTo>
                    <a:pt x="4044" y="4415"/>
                  </a:lnTo>
                  <a:lnTo>
                    <a:pt x="3982" y="4626"/>
                  </a:lnTo>
                  <a:lnTo>
                    <a:pt x="3903" y="4838"/>
                  </a:lnTo>
                  <a:lnTo>
                    <a:pt x="3811" y="5046"/>
                  </a:lnTo>
                  <a:lnTo>
                    <a:pt x="3683" y="5245"/>
                  </a:lnTo>
                  <a:lnTo>
                    <a:pt x="3546" y="5434"/>
                  </a:lnTo>
                  <a:lnTo>
                    <a:pt x="3396" y="5619"/>
                  </a:lnTo>
                  <a:lnTo>
                    <a:pt x="3233" y="5787"/>
                  </a:lnTo>
                  <a:lnTo>
                    <a:pt x="3052" y="5950"/>
                  </a:lnTo>
                  <a:lnTo>
                    <a:pt x="2854" y="6096"/>
                  </a:lnTo>
                  <a:lnTo>
                    <a:pt x="2646" y="6232"/>
                  </a:lnTo>
                  <a:lnTo>
                    <a:pt x="2426" y="6356"/>
                  </a:lnTo>
                  <a:lnTo>
                    <a:pt x="2196" y="6462"/>
                  </a:lnTo>
                  <a:lnTo>
                    <a:pt x="1957" y="6550"/>
                  </a:lnTo>
                  <a:lnTo>
                    <a:pt x="1706" y="6625"/>
                  </a:lnTo>
                  <a:lnTo>
                    <a:pt x="1455" y="6673"/>
                  </a:lnTo>
                  <a:lnTo>
                    <a:pt x="1358" y="6682"/>
                  </a:lnTo>
                  <a:lnTo>
                    <a:pt x="1265" y="6695"/>
                  </a:lnTo>
                  <a:lnTo>
                    <a:pt x="1168" y="6709"/>
                  </a:lnTo>
                  <a:lnTo>
                    <a:pt x="1075" y="6713"/>
                  </a:lnTo>
                  <a:lnTo>
                    <a:pt x="978" y="6722"/>
                  </a:lnTo>
                  <a:lnTo>
                    <a:pt x="886" y="6726"/>
                  </a:lnTo>
                  <a:lnTo>
                    <a:pt x="798" y="6726"/>
                  </a:lnTo>
                  <a:lnTo>
                    <a:pt x="709" y="6726"/>
                  </a:lnTo>
                  <a:lnTo>
                    <a:pt x="617" y="6726"/>
                  </a:lnTo>
                  <a:lnTo>
                    <a:pt x="520" y="6722"/>
                  </a:lnTo>
                  <a:lnTo>
                    <a:pt x="436" y="6709"/>
                  </a:lnTo>
                  <a:lnTo>
                    <a:pt x="348" y="6709"/>
                  </a:lnTo>
                  <a:lnTo>
                    <a:pt x="251" y="6691"/>
                  </a:lnTo>
                  <a:lnTo>
                    <a:pt x="167" y="6682"/>
                  </a:lnTo>
                  <a:lnTo>
                    <a:pt x="88" y="6665"/>
                  </a:lnTo>
                  <a:lnTo>
                    <a:pt x="0" y="6647"/>
                  </a:lnTo>
                  <a:lnTo>
                    <a:pt x="282" y="4679"/>
                  </a:lnTo>
                  <a:close/>
                </a:path>
              </a:pathLst>
            </a:custGeom>
            <a:solidFill>
              <a:srgbClr val="ffb7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22400" y="1427040"/>
              <a:ext cx="1626120" cy="2433960"/>
            </a:xfrm>
            <a:custGeom>
              <a:avLst/>
              <a:gdLst/>
              <a:ahLst/>
              <a:rect l="0" t="0" r="r" b="b"/>
              <a:pathLst>
                <a:path fill="none" w="4517" h="6761">
                  <a:moveTo>
                    <a:pt x="286" y="4706"/>
                  </a:moveTo>
                  <a:lnTo>
                    <a:pt x="286" y="4706"/>
                  </a:lnTo>
                  <a:lnTo>
                    <a:pt x="335" y="4759"/>
                  </a:lnTo>
                  <a:lnTo>
                    <a:pt x="383" y="4816"/>
                  </a:lnTo>
                  <a:lnTo>
                    <a:pt x="440" y="4878"/>
                  </a:lnTo>
                  <a:lnTo>
                    <a:pt x="493" y="4926"/>
                  </a:lnTo>
                  <a:lnTo>
                    <a:pt x="560" y="4979"/>
                  </a:lnTo>
                  <a:lnTo>
                    <a:pt x="621" y="5023"/>
                  </a:lnTo>
                  <a:lnTo>
                    <a:pt x="692" y="5063"/>
                  </a:lnTo>
                  <a:lnTo>
                    <a:pt x="767" y="5103"/>
                  </a:lnTo>
                  <a:lnTo>
                    <a:pt x="837" y="5138"/>
                  </a:lnTo>
                  <a:lnTo>
                    <a:pt x="926" y="5160"/>
                  </a:lnTo>
                  <a:lnTo>
                    <a:pt x="1005" y="5186"/>
                  </a:lnTo>
                  <a:lnTo>
                    <a:pt x="1084" y="5204"/>
                  </a:lnTo>
                  <a:lnTo>
                    <a:pt x="1173" y="5217"/>
                  </a:lnTo>
                  <a:lnTo>
                    <a:pt x="1271" y="5217"/>
                  </a:lnTo>
                  <a:lnTo>
                    <a:pt x="1363" y="5217"/>
                  </a:lnTo>
                  <a:lnTo>
                    <a:pt x="1451" y="5204"/>
                  </a:lnTo>
                  <a:lnTo>
                    <a:pt x="1566" y="5182"/>
                  </a:lnTo>
                  <a:lnTo>
                    <a:pt x="1667" y="5142"/>
                  </a:lnTo>
                  <a:lnTo>
                    <a:pt x="1773" y="5094"/>
                  </a:lnTo>
                  <a:lnTo>
                    <a:pt x="1866" y="5032"/>
                  </a:lnTo>
                  <a:lnTo>
                    <a:pt x="1954" y="4966"/>
                  </a:lnTo>
                  <a:lnTo>
                    <a:pt x="2029" y="4886"/>
                  </a:lnTo>
                  <a:lnTo>
                    <a:pt x="2073" y="4798"/>
                  </a:lnTo>
                  <a:lnTo>
                    <a:pt x="2108" y="4701"/>
                  </a:lnTo>
                  <a:lnTo>
                    <a:pt x="2108" y="4591"/>
                  </a:lnTo>
                  <a:lnTo>
                    <a:pt x="2091" y="4498"/>
                  </a:lnTo>
                  <a:lnTo>
                    <a:pt x="2060" y="4432"/>
                  </a:lnTo>
                  <a:lnTo>
                    <a:pt x="2003" y="4366"/>
                  </a:lnTo>
                  <a:lnTo>
                    <a:pt x="1972" y="4340"/>
                  </a:lnTo>
                  <a:lnTo>
                    <a:pt x="1941" y="4309"/>
                  </a:lnTo>
                  <a:lnTo>
                    <a:pt x="1906" y="4287"/>
                  </a:lnTo>
                  <a:lnTo>
                    <a:pt x="1866" y="4260"/>
                  </a:lnTo>
                  <a:lnTo>
                    <a:pt x="1826" y="4243"/>
                  </a:lnTo>
                  <a:lnTo>
                    <a:pt x="1786" y="4221"/>
                  </a:lnTo>
                  <a:lnTo>
                    <a:pt x="1747" y="4203"/>
                  </a:lnTo>
                  <a:lnTo>
                    <a:pt x="1698" y="4177"/>
                  </a:lnTo>
                  <a:lnTo>
                    <a:pt x="1570" y="4106"/>
                  </a:lnTo>
                  <a:lnTo>
                    <a:pt x="1442" y="4027"/>
                  </a:lnTo>
                  <a:lnTo>
                    <a:pt x="1323" y="3952"/>
                  </a:lnTo>
                  <a:lnTo>
                    <a:pt x="1204" y="3881"/>
                  </a:lnTo>
                  <a:lnTo>
                    <a:pt x="1102" y="3802"/>
                  </a:lnTo>
                  <a:lnTo>
                    <a:pt x="996" y="3709"/>
                  </a:lnTo>
                  <a:lnTo>
                    <a:pt x="899" y="3625"/>
                  </a:lnTo>
                  <a:lnTo>
                    <a:pt x="820" y="3533"/>
                  </a:lnTo>
                  <a:lnTo>
                    <a:pt x="749" y="3431"/>
                  </a:lnTo>
                  <a:lnTo>
                    <a:pt x="692" y="3324"/>
                  </a:lnTo>
                  <a:lnTo>
                    <a:pt x="639" y="3210"/>
                  </a:lnTo>
                  <a:lnTo>
                    <a:pt x="604" y="3082"/>
                  </a:lnTo>
                  <a:lnTo>
                    <a:pt x="573" y="2950"/>
                  </a:lnTo>
                  <a:lnTo>
                    <a:pt x="560" y="2804"/>
                  </a:lnTo>
                  <a:lnTo>
                    <a:pt x="560" y="2650"/>
                  </a:lnTo>
                  <a:lnTo>
                    <a:pt x="573" y="2478"/>
                  </a:lnTo>
                  <a:lnTo>
                    <a:pt x="604" y="2341"/>
                  </a:lnTo>
                  <a:lnTo>
                    <a:pt x="648" y="2178"/>
                  </a:lnTo>
                  <a:lnTo>
                    <a:pt x="709" y="2006"/>
                  </a:lnTo>
                  <a:lnTo>
                    <a:pt x="780" y="1825"/>
                  </a:lnTo>
                  <a:lnTo>
                    <a:pt x="868" y="1640"/>
                  </a:lnTo>
                  <a:lnTo>
                    <a:pt x="983" y="1450"/>
                  </a:lnTo>
                  <a:lnTo>
                    <a:pt x="1106" y="1270"/>
                  </a:lnTo>
                  <a:lnTo>
                    <a:pt x="1262" y="1080"/>
                  </a:lnTo>
                  <a:lnTo>
                    <a:pt x="1420" y="903"/>
                  </a:lnTo>
                  <a:lnTo>
                    <a:pt x="1606" y="736"/>
                  </a:lnTo>
                  <a:lnTo>
                    <a:pt x="1813" y="577"/>
                  </a:lnTo>
                  <a:lnTo>
                    <a:pt x="2033" y="432"/>
                  </a:lnTo>
                  <a:lnTo>
                    <a:pt x="2276" y="299"/>
                  </a:lnTo>
                  <a:lnTo>
                    <a:pt x="2545" y="189"/>
                  </a:lnTo>
                  <a:lnTo>
                    <a:pt x="2832" y="101"/>
                  </a:lnTo>
                  <a:lnTo>
                    <a:pt x="3145" y="35"/>
                  </a:lnTo>
                  <a:lnTo>
                    <a:pt x="3233" y="26"/>
                  </a:lnTo>
                  <a:lnTo>
                    <a:pt x="3321" y="13"/>
                  </a:lnTo>
                  <a:lnTo>
                    <a:pt x="3410" y="4"/>
                  </a:lnTo>
                  <a:lnTo>
                    <a:pt x="3503" y="0"/>
                  </a:lnTo>
                  <a:lnTo>
                    <a:pt x="3591" y="0"/>
                  </a:lnTo>
                  <a:lnTo>
                    <a:pt x="3679" y="0"/>
                  </a:lnTo>
                  <a:lnTo>
                    <a:pt x="3776" y="0"/>
                  </a:lnTo>
                  <a:lnTo>
                    <a:pt x="3864" y="4"/>
                  </a:lnTo>
                  <a:lnTo>
                    <a:pt x="3953" y="13"/>
                  </a:lnTo>
                  <a:lnTo>
                    <a:pt x="4036" y="26"/>
                  </a:lnTo>
                  <a:lnTo>
                    <a:pt x="4120" y="35"/>
                  </a:lnTo>
                  <a:lnTo>
                    <a:pt x="4204" y="48"/>
                  </a:lnTo>
                  <a:lnTo>
                    <a:pt x="4288" y="66"/>
                  </a:lnTo>
                  <a:lnTo>
                    <a:pt x="4372" y="83"/>
                  </a:lnTo>
                  <a:lnTo>
                    <a:pt x="4447" y="101"/>
                  </a:lnTo>
                  <a:lnTo>
                    <a:pt x="4517" y="127"/>
                  </a:lnTo>
                  <a:lnTo>
                    <a:pt x="4239" y="2054"/>
                  </a:lnTo>
                  <a:lnTo>
                    <a:pt x="4200" y="2006"/>
                  </a:lnTo>
                  <a:lnTo>
                    <a:pt x="4160" y="1953"/>
                  </a:lnTo>
                  <a:lnTo>
                    <a:pt x="4111" y="1905"/>
                  </a:lnTo>
                  <a:lnTo>
                    <a:pt x="4054" y="1847"/>
                  </a:lnTo>
                  <a:lnTo>
                    <a:pt x="3997" y="1803"/>
                  </a:lnTo>
                  <a:lnTo>
                    <a:pt x="3935" y="1755"/>
                  </a:lnTo>
                  <a:lnTo>
                    <a:pt x="3869" y="1715"/>
                  </a:lnTo>
                  <a:lnTo>
                    <a:pt x="3807" y="1671"/>
                  </a:lnTo>
                  <a:lnTo>
                    <a:pt x="3728" y="1640"/>
                  </a:lnTo>
                  <a:lnTo>
                    <a:pt x="3657" y="1609"/>
                  </a:lnTo>
                  <a:lnTo>
                    <a:pt x="3582" y="1587"/>
                  </a:lnTo>
                  <a:lnTo>
                    <a:pt x="3494" y="1569"/>
                  </a:lnTo>
                  <a:lnTo>
                    <a:pt x="3415" y="1556"/>
                  </a:lnTo>
                  <a:lnTo>
                    <a:pt x="3325" y="1552"/>
                  </a:lnTo>
                  <a:lnTo>
                    <a:pt x="3246" y="1552"/>
                  </a:lnTo>
                  <a:lnTo>
                    <a:pt x="3158" y="1561"/>
                  </a:lnTo>
                  <a:lnTo>
                    <a:pt x="3065" y="1587"/>
                  </a:lnTo>
                  <a:lnTo>
                    <a:pt x="2968" y="1618"/>
                  </a:lnTo>
                  <a:lnTo>
                    <a:pt x="2880" y="1666"/>
                  </a:lnTo>
                  <a:lnTo>
                    <a:pt x="2792" y="1719"/>
                  </a:lnTo>
                  <a:lnTo>
                    <a:pt x="2721" y="1785"/>
                  </a:lnTo>
                  <a:lnTo>
                    <a:pt x="2655" y="1860"/>
                  </a:lnTo>
                  <a:lnTo>
                    <a:pt x="2611" y="1944"/>
                  </a:lnTo>
                  <a:lnTo>
                    <a:pt x="2585" y="2028"/>
                  </a:lnTo>
                  <a:lnTo>
                    <a:pt x="2585" y="2121"/>
                  </a:lnTo>
                  <a:lnTo>
                    <a:pt x="2615" y="2213"/>
                  </a:lnTo>
                  <a:lnTo>
                    <a:pt x="2664" y="2284"/>
                  </a:lnTo>
                  <a:lnTo>
                    <a:pt x="2730" y="2354"/>
                  </a:lnTo>
                  <a:lnTo>
                    <a:pt x="2770" y="2381"/>
                  </a:lnTo>
                  <a:lnTo>
                    <a:pt x="2801" y="2412"/>
                  </a:lnTo>
                  <a:lnTo>
                    <a:pt x="2849" y="2438"/>
                  </a:lnTo>
                  <a:lnTo>
                    <a:pt x="2889" y="2460"/>
                  </a:lnTo>
                  <a:lnTo>
                    <a:pt x="2937" y="2487"/>
                  </a:lnTo>
                  <a:lnTo>
                    <a:pt x="2977" y="2509"/>
                  </a:lnTo>
                  <a:lnTo>
                    <a:pt x="3017" y="2535"/>
                  </a:lnTo>
                  <a:lnTo>
                    <a:pt x="3056" y="2557"/>
                  </a:lnTo>
                  <a:lnTo>
                    <a:pt x="3198" y="2628"/>
                  </a:lnTo>
                  <a:lnTo>
                    <a:pt x="3325" y="2698"/>
                  </a:lnTo>
                  <a:lnTo>
                    <a:pt x="3454" y="2764"/>
                  </a:lnTo>
                  <a:lnTo>
                    <a:pt x="3569" y="2839"/>
                  </a:lnTo>
                  <a:lnTo>
                    <a:pt x="3670" y="2919"/>
                  </a:lnTo>
                  <a:lnTo>
                    <a:pt x="3767" y="2998"/>
                  </a:lnTo>
                  <a:lnTo>
                    <a:pt x="3847" y="3082"/>
                  </a:lnTo>
                  <a:lnTo>
                    <a:pt x="3926" y="3175"/>
                  </a:lnTo>
                  <a:lnTo>
                    <a:pt x="3992" y="3272"/>
                  </a:lnTo>
                  <a:lnTo>
                    <a:pt x="4054" y="3373"/>
                  </a:lnTo>
                  <a:lnTo>
                    <a:pt x="4094" y="3489"/>
                  </a:lnTo>
                  <a:lnTo>
                    <a:pt x="4125" y="3612"/>
                  </a:lnTo>
                  <a:lnTo>
                    <a:pt x="4151" y="3744"/>
                  </a:lnTo>
                  <a:lnTo>
                    <a:pt x="4160" y="3885"/>
                  </a:lnTo>
                  <a:lnTo>
                    <a:pt x="4151" y="4044"/>
                  </a:lnTo>
                  <a:lnTo>
                    <a:pt x="4133" y="4221"/>
                  </a:lnTo>
                  <a:lnTo>
                    <a:pt x="4085" y="4437"/>
                  </a:lnTo>
                  <a:lnTo>
                    <a:pt x="4023" y="4653"/>
                  </a:lnTo>
                  <a:lnTo>
                    <a:pt x="3944" y="4864"/>
                  </a:lnTo>
                  <a:lnTo>
                    <a:pt x="3847" y="5072"/>
                  </a:lnTo>
                  <a:lnTo>
                    <a:pt x="3719" y="5270"/>
                  </a:lnTo>
                  <a:lnTo>
                    <a:pt x="3582" y="5460"/>
                  </a:lnTo>
                  <a:lnTo>
                    <a:pt x="3432" y="5649"/>
                  </a:lnTo>
                  <a:lnTo>
                    <a:pt x="3264" y="5817"/>
                  </a:lnTo>
                  <a:lnTo>
                    <a:pt x="3078" y="5984"/>
                  </a:lnTo>
                  <a:lnTo>
                    <a:pt x="2880" y="6130"/>
                  </a:lnTo>
                  <a:lnTo>
                    <a:pt x="2673" y="6262"/>
                  </a:lnTo>
                  <a:lnTo>
                    <a:pt x="2448" y="6390"/>
                  </a:lnTo>
                  <a:lnTo>
                    <a:pt x="2219" y="6492"/>
                  </a:lnTo>
                  <a:lnTo>
                    <a:pt x="1980" y="6584"/>
                  </a:lnTo>
                  <a:lnTo>
                    <a:pt x="1725" y="6659"/>
                  </a:lnTo>
                  <a:lnTo>
                    <a:pt x="1469" y="6708"/>
                  </a:lnTo>
                  <a:lnTo>
                    <a:pt x="1372" y="6717"/>
                  </a:lnTo>
                  <a:lnTo>
                    <a:pt x="1275" y="6730"/>
                  </a:lnTo>
                  <a:lnTo>
                    <a:pt x="1182" y="6743"/>
                  </a:lnTo>
                  <a:lnTo>
                    <a:pt x="1084" y="6747"/>
                  </a:lnTo>
                  <a:lnTo>
                    <a:pt x="987" y="6756"/>
                  </a:lnTo>
                  <a:lnTo>
                    <a:pt x="895" y="6761"/>
                  </a:lnTo>
                  <a:lnTo>
                    <a:pt x="806" y="6761"/>
                  </a:lnTo>
                  <a:lnTo>
                    <a:pt x="718" y="6761"/>
                  </a:lnTo>
                  <a:lnTo>
                    <a:pt x="621" y="6761"/>
                  </a:lnTo>
                  <a:lnTo>
                    <a:pt x="524" y="6756"/>
                  </a:lnTo>
                  <a:lnTo>
                    <a:pt x="440" y="6743"/>
                  </a:lnTo>
                  <a:lnTo>
                    <a:pt x="352" y="6743"/>
                  </a:lnTo>
                  <a:lnTo>
                    <a:pt x="255" y="6725"/>
                  </a:lnTo>
                  <a:lnTo>
                    <a:pt x="167" y="6717"/>
                  </a:lnTo>
                  <a:lnTo>
                    <a:pt x="88" y="6699"/>
                  </a:lnTo>
                  <a:lnTo>
                    <a:pt x="0" y="668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16200" y="1138320"/>
              <a:ext cx="1697400" cy="2378520"/>
            </a:xfrm>
            <a:custGeom>
              <a:avLst/>
              <a:gdLst/>
              <a:ahLst/>
              <a:rect l="0" t="0" r="r" b="b"/>
              <a:pathLst>
                <a:path w="4715" h="6607">
                  <a:moveTo>
                    <a:pt x="4464" y="1831"/>
                  </a:moveTo>
                  <a:lnTo>
                    <a:pt x="4367" y="1764"/>
                  </a:lnTo>
                  <a:lnTo>
                    <a:pt x="4275" y="1703"/>
                  </a:lnTo>
                  <a:lnTo>
                    <a:pt x="4178" y="1663"/>
                  </a:lnTo>
                  <a:lnTo>
                    <a:pt x="4085" y="1622"/>
                  </a:lnTo>
                  <a:lnTo>
                    <a:pt x="3979" y="1600"/>
                  </a:lnTo>
                  <a:lnTo>
                    <a:pt x="3864" y="1587"/>
                  </a:lnTo>
                  <a:lnTo>
                    <a:pt x="3728" y="1596"/>
                  </a:lnTo>
                  <a:lnTo>
                    <a:pt x="3587" y="1613"/>
                  </a:lnTo>
                  <a:lnTo>
                    <a:pt x="3405" y="1654"/>
                  </a:lnTo>
                  <a:lnTo>
                    <a:pt x="3228" y="1707"/>
                  </a:lnTo>
                  <a:lnTo>
                    <a:pt x="3078" y="1786"/>
                  </a:lnTo>
                  <a:lnTo>
                    <a:pt x="2937" y="1879"/>
                  </a:lnTo>
                  <a:lnTo>
                    <a:pt x="2805" y="1980"/>
                  </a:lnTo>
                  <a:lnTo>
                    <a:pt x="2686" y="2095"/>
                  </a:lnTo>
                  <a:lnTo>
                    <a:pt x="2576" y="2214"/>
                  </a:lnTo>
                  <a:lnTo>
                    <a:pt x="2479" y="2346"/>
                  </a:lnTo>
                  <a:lnTo>
                    <a:pt x="2399" y="2483"/>
                  </a:lnTo>
                  <a:lnTo>
                    <a:pt x="2329" y="2629"/>
                  </a:lnTo>
                  <a:lnTo>
                    <a:pt x="2258" y="2774"/>
                  </a:lnTo>
                  <a:lnTo>
                    <a:pt x="2210" y="2920"/>
                  </a:lnTo>
                  <a:lnTo>
                    <a:pt x="2157" y="3061"/>
                  </a:lnTo>
                  <a:lnTo>
                    <a:pt x="2126" y="3206"/>
                  </a:lnTo>
                  <a:lnTo>
                    <a:pt x="2100" y="3347"/>
                  </a:lnTo>
                  <a:lnTo>
                    <a:pt x="2069" y="3480"/>
                  </a:lnTo>
                  <a:lnTo>
                    <a:pt x="2055" y="3616"/>
                  </a:lnTo>
                  <a:lnTo>
                    <a:pt x="2047" y="3762"/>
                  </a:lnTo>
                  <a:lnTo>
                    <a:pt x="2047" y="3899"/>
                  </a:lnTo>
                  <a:lnTo>
                    <a:pt x="2047" y="4035"/>
                  </a:lnTo>
                  <a:lnTo>
                    <a:pt x="2060" y="4177"/>
                  </a:lnTo>
                  <a:lnTo>
                    <a:pt x="2086" y="4309"/>
                  </a:lnTo>
                  <a:lnTo>
                    <a:pt x="2117" y="4428"/>
                  </a:lnTo>
                  <a:lnTo>
                    <a:pt x="2166" y="4547"/>
                  </a:lnTo>
                  <a:lnTo>
                    <a:pt x="2219" y="4653"/>
                  </a:lnTo>
                  <a:lnTo>
                    <a:pt x="2298" y="4745"/>
                  </a:lnTo>
                  <a:lnTo>
                    <a:pt x="2386" y="4825"/>
                  </a:lnTo>
                  <a:lnTo>
                    <a:pt x="2488" y="4886"/>
                  </a:lnTo>
                  <a:lnTo>
                    <a:pt x="2607" y="4935"/>
                  </a:lnTo>
                  <a:lnTo>
                    <a:pt x="2739" y="4958"/>
                  </a:lnTo>
                  <a:lnTo>
                    <a:pt x="2907" y="4967"/>
                  </a:lnTo>
                  <a:lnTo>
                    <a:pt x="3078" y="4944"/>
                  </a:lnTo>
                  <a:lnTo>
                    <a:pt x="3158" y="4935"/>
                  </a:lnTo>
                  <a:lnTo>
                    <a:pt x="3237" y="4917"/>
                  </a:lnTo>
                  <a:lnTo>
                    <a:pt x="3317" y="4891"/>
                  </a:lnTo>
                  <a:lnTo>
                    <a:pt x="3387" y="4869"/>
                  </a:lnTo>
                  <a:lnTo>
                    <a:pt x="3458" y="4842"/>
                  </a:lnTo>
                  <a:lnTo>
                    <a:pt x="3524" y="4812"/>
                  </a:lnTo>
                  <a:lnTo>
                    <a:pt x="3595" y="4785"/>
                  </a:lnTo>
                  <a:lnTo>
                    <a:pt x="3657" y="4745"/>
                  </a:lnTo>
                  <a:lnTo>
                    <a:pt x="3719" y="4710"/>
                  </a:lnTo>
                  <a:lnTo>
                    <a:pt x="3789" y="4670"/>
                  </a:lnTo>
                  <a:lnTo>
                    <a:pt x="3856" y="4626"/>
                  </a:lnTo>
                  <a:lnTo>
                    <a:pt x="3917" y="4587"/>
                  </a:lnTo>
                  <a:lnTo>
                    <a:pt x="3979" y="4538"/>
                  </a:lnTo>
                  <a:lnTo>
                    <a:pt x="4045" y="4490"/>
                  </a:lnTo>
                  <a:lnTo>
                    <a:pt x="4107" y="4432"/>
                  </a:lnTo>
                  <a:lnTo>
                    <a:pt x="4178" y="4379"/>
                  </a:lnTo>
                  <a:lnTo>
                    <a:pt x="3807" y="6149"/>
                  </a:lnTo>
                  <a:lnTo>
                    <a:pt x="3728" y="6184"/>
                  </a:lnTo>
                  <a:lnTo>
                    <a:pt x="3657" y="6224"/>
                  </a:lnTo>
                  <a:lnTo>
                    <a:pt x="3578" y="6259"/>
                  </a:lnTo>
                  <a:lnTo>
                    <a:pt x="3506" y="6294"/>
                  </a:lnTo>
                  <a:lnTo>
                    <a:pt x="3427" y="6325"/>
                  </a:lnTo>
                  <a:lnTo>
                    <a:pt x="3356" y="6356"/>
                  </a:lnTo>
                  <a:lnTo>
                    <a:pt x="3286" y="6387"/>
                  </a:lnTo>
                  <a:lnTo>
                    <a:pt x="3206" y="6413"/>
                  </a:lnTo>
                  <a:lnTo>
                    <a:pt x="3136" y="6431"/>
                  </a:lnTo>
                  <a:lnTo>
                    <a:pt x="3056" y="6457"/>
                  </a:lnTo>
                  <a:lnTo>
                    <a:pt x="2977" y="6479"/>
                  </a:lnTo>
                  <a:lnTo>
                    <a:pt x="2907" y="6497"/>
                  </a:lnTo>
                  <a:lnTo>
                    <a:pt x="2827" y="6519"/>
                  </a:lnTo>
                  <a:lnTo>
                    <a:pt x="2748" y="6537"/>
                  </a:lnTo>
                  <a:lnTo>
                    <a:pt x="2668" y="6546"/>
                  </a:lnTo>
                  <a:lnTo>
                    <a:pt x="2589" y="6563"/>
                  </a:lnTo>
                  <a:lnTo>
                    <a:pt x="2289" y="6603"/>
                  </a:lnTo>
                  <a:lnTo>
                    <a:pt x="1998" y="6607"/>
                  </a:lnTo>
                  <a:lnTo>
                    <a:pt x="1720" y="6590"/>
                  </a:lnTo>
                  <a:lnTo>
                    <a:pt x="1460" y="6546"/>
                  </a:lnTo>
                  <a:lnTo>
                    <a:pt x="1218" y="6475"/>
                  </a:lnTo>
                  <a:lnTo>
                    <a:pt x="987" y="6378"/>
                  </a:lnTo>
                  <a:lnTo>
                    <a:pt x="771" y="6259"/>
                  </a:lnTo>
                  <a:lnTo>
                    <a:pt x="590" y="6100"/>
                  </a:lnTo>
                  <a:lnTo>
                    <a:pt x="427" y="5919"/>
                  </a:lnTo>
                  <a:lnTo>
                    <a:pt x="282" y="5712"/>
                  </a:lnTo>
                  <a:lnTo>
                    <a:pt x="167" y="5470"/>
                  </a:lnTo>
                  <a:lnTo>
                    <a:pt x="79" y="5205"/>
                  </a:lnTo>
                  <a:lnTo>
                    <a:pt x="22" y="4909"/>
                  </a:lnTo>
                  <a:lnTo>
                    <a:pt x="0" y="4587"/>
                  </a:lnTo>
                  <a:lnTo>
                    <a:pt x="0" y="4229"/>
                  </a:lnTo>
                  <a:lnTo>
                    <a:pt x="48" y="3846"/>
                  </a:lnTo>
                  <a:lnTo>
                    <a:pt x="141" y="3339"/>
                  </a:lnTo>
                  <a:lnTo>
                    <a:pt x="277" y="2880"/>
                  </a:lnTo>
                  <a:lnTo>
                    <a:pt x="449" y="2461"/>
                  </a:lnTo>
                  <a:lnTo>
                    <a:pt x="657" y="2086"/>
                  </a:lnTo>
                  <a:lnTo>
                    <a:pt x="886" y="1747"/>
                  </a:lnTo>
                  <a:lnTo>
                    <a:pt x="1137" y="1450"/>
                  </a:lnTo>
                  <a:lnTo>
                    <a:pt x="1407" y="1177"/>
                  </a:lnTo>
                  <a:lnTo>
                    <a:pt x="1681" y="943"/>
                  </a:lnTo>
                  <a:lnTo>
                    <a:pt x="1958" y="745"/>
                  </a:lnTo>
                  <a:lnTo>
                    <a:pt x="2249" y="573"/>
                  </a:lnTo>
                  <a:lnTo>
                    <a:pt x="2536" y="432"/>
                  </a:lnTo>
                  <a:lnTo>
                    <a:pt x="2805" y="308"/>
                  </a:lnTo>
                  <a:lnTo>
                    <a:pt x="3074" y="211"/>
                  </a:lnTo>
                  <a:lnTo>
                    <a:pt x="3317" y="136"/>
                  </a:lnTo>
                  <a:lnTo>
                    <a:pt x="3538" y="79"/>
                  </a:lnTo>
                  <a:lnTo>
                    <a:pt x="3728" y="44"/>
                  </a:lnTo>
                  <a:lnTo>
                    <a:pt x="3864" y="22"/>
                  </a:lnTo>
                  <a:lnTo>
                    <a:pt x="3988" y="13"/>
                  </a:lnTo>
                  <a:lnTo>
                    <a:pt x="4116" y="0"/>
                  </a:lnTo>
                  <a:lnTo>
                    <a:pt x="4244" y="0"/>
                  </a:lnTo>
                  <a:lnTo>
                    <a:pt x="4358" y="0"/>
                  </a:lnTo>
                  <a:lnTo>
                    <a:pt x="4477" y="0"/>
                  </a:lnTo>
                  <a:lnTo>
                    <a:pt x="4596" y="17"/>
                  </a:lnTo>
                  <a:lnTo>
                    <a:pt x="4715" y="35"/>
                  </a:lnTo>
                  <a:lnTo>
                    <a:pt x="4464" y="1831"/>
                  </a:lnTo>
                  <a:close/>
                </a:path>
              </a:pathLst>
            </a:custGeom>
            <a:solidFill>
              <a:srgbClr val="ffb7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16200" y="1138320"/>
              <a:ext cx="1713240" cy="2394360"/>
            </a:xfrm>
            <a:custGeom>
              <a:avLst/>
              <a:gdLst/>
              <a:ahLst/>
              <a:rect l="0" t="0" r="r" b="b"/>
              <a:pathLst>
                <a:path fill="none" w="4759" h="6651">
                  <a:moveTo>
                    <a:pt x="4503" y="1844"/>
                  </a:moveTo>
                  <a:lnTo>
                    <a:pt x="4503" y="1844"/>
                  </a:lnTo>
                  <a:lnTo>
                    <a:pt x="4406" y="1773"/>
                  </a:lnTo>
                  <a:lnTo>
                    <a:pt x="4313" y="1716"/>
                  </a:lnTo>
                  <a:lnTo>
                    <a:pt x="4216" y="1672"/>
                  </a:lnTo>
                  <a:lnTo>
                    <a:pt x="4119" y="1636"/>
                  </a:lnTo>
                  <a:lnTo>
                    <a:pt x="4018" y="1609"/>
                  </a:lnTo>
                  <a:lnTo>
                    <a:pt x="3899" y="1600"/>
                  </a:lnTo>
                  <a:lnTo>
                    <a:pt x="3762" y="1605"/>
                  </a:lnTo>
                  <a:lnTo>
                    <a:pt x="3621" y="1622"/>
                  </a:lnTo>
                  <a:lnTo>
                    <a:pt x="3436" y="1667"/>
                  </a:lnTo>
                  <a:lnTo>
                    <a:pt x="3259" y="1720"/>
                  </a:lnTo>
                  <a:lnTo>
                    <a:pt x="3109" y="1800"/>
                  </a:lnTo>
                  <a:lnTo>
                    <a:pt x="2964" y="1892"/>
                  </a:lnTo>
                  <a:lnTo>
                    <a:pt x="2832" y="1994"/>
                  </a:lnTo>
                  <a:lnTo>
                    <a:pt x="2712" y="2108"/>
                  </a:lnTo>
                  <a:lnTo>
                    <a:pt x="2598" y="2227"/>
                  </a:lnTo>
                  <a:lnTo>
                    <a:pt x="2505" y="2364"/>
                  </a:lnTo>
                  <a:lnTo>
                    <a:pt x="2421" y="2501"/>
                  </a:lnTo>
                  <a:lnTo>
                    <a:pt x="2350" y="2646"/>
                  </a:lnTo>
                  <a:lnTo>
                    <a:pt x="2279" y="2792"/>
                  </a:lnTo>
                  <a:lnTo>
                    <a:pt x="2231" y="2937"/>
                  </a:lnTo>
                  <a:lnTo>
                    <a:pt x="2173" y="3083"/>
                  </a:lnTo>
                  <a:lnTo>
                    <a:pt x="2143" y="3228"/>
                  </a:lnTo>
                  <a:lnTo>
                    <a:pt x="2121" y="3370"/>
                  </a:lnTo>
                  <a:lnTo>
                    <a:pt x="2090" y="3502"/>
                  </a:lnTo>
                  <a:lnTo>
                    <a:pt x="2072" y="3639"/>
                  </a:lnTo>
                  <a:lnTo>
                    <a:pt x="2063" y="3784"/>
                  </a:lnTo>
                  <a:lnTo>
                    <a:pt x="2063" y="3925"/>
                  </a:lnTo>
                  <a:lnTo>
                    <a:pt x="2063" y="4066"/>
                  </a:lnTo>
                  <a:lnTo>
                    <a:pt x="2081" y="4203"/>
                  </a:lnTo>
                  <a:lnTo>
                    <a:pt x="2103" y="4335"/>
                  </a:lnTo>
                  <a:lnTo>
                    <a:pt x="2134" y="4459"/>
                  </a:lnTo>
                  <a:lnTo>
                    <a:pt x="2182" y="4578"/>
                  </a:lnTo>
                  <a:lnTo>
                    <a:pt x="2240" y="4684"/>
                  </a:lnTo>
                  <a:lnTo>
                    <a:pt x="2319" y="4781"/>
                  </a:lnTo>
                  <a:lnTo>
                    <a:pt x="2408" y="4856"/>
                  </a:lnTo>
                  <a:lnTo>
                    <a:pt x="2510" y="4917"/>
                  </a:lnTo>
                  <a:lnTo>
                    <a:pt x="2629" y="4966"/>
                  </a:lnTo>
                  <a:lnTo>
                    <a:pt x="2765" y="4993"/>
                  </a:lnTo>
                  <a:lnTo>
                    <a:pt x="2933" y="4998"/>
                  </a:lnTo>
                  <a:lnTo>
                    <a:pt x="3109" y="4979"/>
                  </a:lnTo>
                  <a:lnTo>
                    <a:pt x="3189" y="4966"/>
                  </a:lnTo>
                  <a:lnTo>
                    <a:pt x="3268" y="4948"/>
                  </a:lnTo>
                  <a:lnTo>
                    <a:pt x="3347" y="4926"/>
                  </a:lnTo>
                  <a:lnTo>
                    <a:pt x="3418" y="4900"/>
                  </a:lnTo>
                  <a:lnTo>
                    <a:pt x="3493" y="4878"/>
                  </a:lnTo>
                  <a:lnTo>
                    <a:pt x="3555" y="4847"/>
                  </a:lnTo>
                  <a:lnTo>
                    <a:pt x="3625" y="4816"/>
                  </a:lnTo>
                  <a:lnTo>
                    <a:pt x="3691" y="4781"/>
                  </a:lnTo>
                  <a:lnTo>
                    <a:pt x="3753" y="4741"/>
                  </a:lnTo>
                  <a:lnTo>
                    <a:pt x="3828" y="4701"/>
                  </a:lnTo>
                  <a:lnTo>
                    <a:pt x="3890" y="4657"/>
                  </a:lnTo>
                  <a:lnTo>
                    <a:pt x="3952" y="4617"/>
                  </a:lnTo>
                  <a:lnTo>
                    <a:pt x="4018" y="4569"/>
                  </a:lnTo>
                  <a:lnTo>
                    <a:pt x="4079" y="4520"/>
                  </a:lnTo>
                  <a:lnTo>
                    <a:pt x="4146" y="4463"/>
                  </a:lnTo>
                  <a:lnTo>
                    <a:pt x="4216" y="4410"/>
                  </a:lnTo>
                  <a:lnTo>
                    <a:pt x="3841" y="6193"/>
                  </a:lnTo>
                  <a:lnTo>
                    <a:pt x="3762" y="6228"/>
                  </a:lnTo>
                  <a:lnTo>
                    <a:pt x="3691" y="6263"/>
                  </a:lnTo>
                  <a:lnTo>
                    <a:pt x="3612" y="6299"/>
                  </a:lnTo>
                  <a:lnTo>
                    <a:pt x="3537" y="6338"/>
                  </a:lnTo>
                  <a:lnTo>
                    <a:pt x="3458" y="6365"/>
                  </a:lnTo>
                  <a:lnTo>
                    <a:pt x="3387" y="6396"/>
                  </a:lnTo>
                  <a:lnTo>
                    <a:pt x="3317" y="6426"/>
                  </a:lnTo>
                  <a:lnTo>
                    <a:pt x="3237" y="6457"/>
                  </a:lnTo>
                  <a:lnTo>
                    <a:pt x="3167" y="6475"/>
                  </a:lnTo>
                  <a:lnTo>
                    <a:pt x="3083" y="6501"/>
                  </a:lnTo>
                  <a:lnTo>
                    <a:pt x="3004" y="6523"/>
                  </a:lnTo>
                  <a:lnTo>
                    <a:pt x="2933" y="6541"/>
                  </a:lnTo>
                  <a:lnTo>
                    <a:pt x="2854" y="6559"/>
                  </a:lnTo>
                  <a:lnTo>
                    <a:pt x="2774" y="6581"/>
                  </a:lnTo>
                  <a:lnTo>
                    <a:pt x="2695" y="6590"/>
                  </a:lnTo>
                  <a:lnTo>
                    <a:pt x="2615" y="6607"/>
                  </a:lnTo>
                  <a:lnTo>
                    <a:pt x="2310" y="6647"/>
                  </a:lnTo>
                  <a:lnTo>
                    <a:pt x="2015" y="6651"/>
                  </a:lnTo>
                  <a:lnTo>
                    <a:pt x="1737" y="6634"/>
                  </a:lnTo>
                  <a:lnTo>
                    <a:pt x="1472" y="6590"/>
                  </a:lnTo>
                  <a:lnTo>
                    <a:pt x="1225" y="6519"/>
                  </a:lnTo>
                  <a:lnTo>
                    <a:pt x="996" y="6422"/>
                  </a:lnTo>
                  <a:lnTo>
                    <a:pt x="780" y="6299"/>
                  </a:lnTo>
                  <a:lnTo>
                    <a:pt x="599" y="6144"/>
                  </a:lnTo>
                  <a:lnTo>
                    <a:pt x="432" y="5959"/>
                  </a:lnTo>
                  <a:lnTo>
                    <a:pt x="286" y="5747"/>
                  </a:lnTo>
                  <a:lnTo>
                    <a:pt x="167" y="5505"/>
                  </a:lnTo>
                  <a:lnTo>
                    <a:pt x="79" y="5240"/>
                  </a:lnTo>
                  <a:lnTo>
                    <a:pt x="22" y="4944"/>
                  </a:lnTo>
                  <a:lnTo>
                    <a:pt x="0" y="4617"/>
                  </a:lnTo>
                  <a:lnTo>
                    <a:pt x="0" y="4260"/>
                  </a:lnTo>
                  <a:lnTo>
                    <a:pt x="48" y="3872"/>
                  </a:lnTo>
                  <a:lnTo>
                    <a:pt x="145" y="3361"/>
                  </a:lnTo>
                  <a:lnTo>
                    <a:pt x="277" y="2902"/>
                  </a:lnTo>
                  <a:lnTo>
                    <a:pt x="454" y="2479"/>
                  </a:lnTo>
                  <a:lnTo>
                    <a:pt x="661" y="2104"/>
                  </a:lnTo>
                  <a:lnTo>
                    <a:pt x="890" y="1756"/>
                  </a:lnTo>
                  <a:lnTo>
                    <a:pt x="1146" y="1459"/>
                  </a:lnTo>
                  <a:lnTo>
                    <a:pt x="1419" y="1186"/>
                  </a:lnTo>
                  <a:lnTo>
                    <a:pt x="1697" y="952"/>
                  </a:lnTo>
                  <a:lnTo>
                    <a:pt x="1975" y="749"/>
                  </a:lnTo>
                  <a:lnTo>
                    <a:pt x="2271" y="573"/>
                  </a:lnTo>
                  <a:lnTo>
                    <a:pt x="2558" y="436"/>
                  </a:lnTo>
                  <a:lnTo>
                    <a:pt x="2832" y="308"/>
                  </a:lnTo>
                  <a:lnTo>
                    <a:pt x="3101" y="211"/>
                  </a:lnTo>
                  <a:lnTo>
                    <a:pt x="3347" y="141"/>
                  </a:lnTo>
                  <a:lnTo>
                    <a:pt x="3572" y="79"/>
                  </a:lnTo>
                  <a:lnTo>
                    <a:pt x="3762" y="44"/>
                  </a:lnTo>
                  <a:lnTo>
                    <a:pt x="3899" y="22"/>
                  </a:lnTo>
                  <a:lnTo>
                    <a:pt x="4027" y="13"/>
                  </a:lnTo>
                  <a:lnTo>
                    <a:pt x="4154" y="0"/>
                  </a:lnTo>
                  <a:lnTo>
                    <a:pt x="4282" y="0"/>
                  </a:lnTo>
                  <a:lnTo>
                    <a:pt x="4401" y="0"/>
                  </a:lnTo>
                  <a:lnTo>
                    <a:pt x="4520" y="0"/>
                  </a:lnTo>
                  <a:lnTo>
                    <a:pt x="4640" y="17"/>
                  </a:lnTo>
                  <a:lnTo>
                    <a:pt x="4759" y="3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98920" y="974880"/>
              <a:ext cx="2046600" cy="2362680"/>
            </a:xfrm>
            <a:custGeom>
              <a:avLst/>
              <a:gdLst/>
              <a:ahLst/>
              <a:rect l="0" t="0" r="r" b="b"/>
              <a:pathLst>
                <a:path w="5685" h="6563">
                  <a:moveTo>
                    <a:pt x="2601" y="4945"/>
                  </a:moveTo>
                  <a:lnTo>
                    <a:pt x="2742" y="4909"/>
                  </a:lnTo>
                  <a:lnTo>
                    <a:pt x="2862" y="4847"/>
                  </a:lnTo>
                  <a:lnTo>
                    <a:pt x="2973" y="4772"/>
                  </a:lnTo>
                  <a:lnTo>
                    <a:pt x="3065" y="4666"/>
                  </a:lnTo>
                  <a:lnTo>
                    <a:pt x="3162" y="4560"/>
                  </a:lnTo>
                  <a:lnTo>
                    <a:pt x="3242" y="4428"/>
                  </a:lnTo>
                  <a:lnTo>
                    <a:pt x="3312" y="4296"/>
                  </a:lnTo>
                  <a:lnTo>
                    <a:pt x="3374" y="4154"/>
                  </a:lnTo>
                  <a:lnTo>
                    <a:pt x="3431" y="4013"/>
                  </a:lnTo>
                  <a:lnTo>
                    <a:pt x="3471" y="3863"/>
                  </a:lnTo>
                  <a:lnTo>
                    <a:pt x="3511" y="3722"/>
                  </a:lnTo>
                  <a:lnTo>
                    <a:pt x="3550" y="3586"/>
                  </a:lnTo>
                  <a:lnTo>
                    <a:pt x="3572" y="3458"/>
                  </a:lnTo>
                  <a:lnTo>
                    <a:pt x="3586" y="3343"/>
                  </a:lnTo>
                  <a:lnTo>
                    <a:pt x="3612" y="3242"/>
                  </a:lnTo>
                  <a:lnTo>
                    <a:pt x="3621" y="3158"/>
                  </a:lnTo>
                  <a:lnTo>
                    <a:pt x="3643" y="2977"/>
                  </a:lnTo>
                  <a:lnTo>
                    <a:pt x="3665" y="2739"/>
                  </a:lnTo>
                  <a:lnTo>
                    <a:pt x="3665" y="2474"/>
                  </a:lnTo>
                  <a:lnTo>
                    <a:pt x="3652" y="2197"/>
                  </a:lnTo>
                  <a:lnTo>
                    <a:pt x="3594" y="1954"/>
                  </a:lnTo>
                  <a:lnTo>
                    <a:pt x="3493" y="1756"/>
                  </a:lnTo>
                  <a:lnTo>
                    <a:pt x="3325" y="1636"/>
                  </a:lnTo>
                  <a:lnTo>
                    <a:pt x="3092" y="1622"/>
                  </a:lnTo>
                  <a:lnTo>
                    <a:pt x="2951" y="1659"/>
                  </a:lnTo>
                  <a:lnTo>
                    <a:pt x="2831" y="1716"/>
                  </a:lnTo>
                  <a:lnTo>
                    <a:pt x="2720" y="1800"/>
                  </a:lnTo>
                  <a:lnTo>
                    <a:pt x="2623" y="1897"/>
                  </a:lnTo>
                  <a:lnTo>
                    <a:pt x="2531" y="2011"/>
                  </a:lnTo>
                  <a:lnTo>
                    <a:pt x="2451" y="2135"/>
                  </a:lnTo>
                  <a:lnTo>
                    <a:pt x="2381" y="2276"/>
                  </a:lnTo>
                  <a:lnTo>
                    <a:pt x="2319" y="2413"/>
                  </a:lnTo>
                  <a:lnTo>
                    <a:pt x="2262" y="2558"/>
                  </a:lnTo>
                  <a:lnTo>
                    <a:pt x="2222" y="2699"/>
                  </a:lnTo>
                  <a:lnTo>
                    <a:pt x="2182" y="2840"/>
                  </a:lnTo>
                  <a:lnTo>
                    <a:pt x="2143" y="2977"/>
                  </a:lnTo>
                  <a:lnTo>
                    <a:pt x="2121" y="3109"/>
                  </a:lnTo>
                  <a:lnTo>
                    <a:pt x="2103" y="3224"/>
                  </a:lnTo>
                  <a:lnTo>
                    <a:pt x="2081" y="3325"/>
                  </a:lnTo>
                  <a:lnTo>
                    <a:pt x="2072" y="3409"/>
                  </a:lnTo>
                  <a:lnTo>
                    <a:pt x="2050" y="3590"/>
                  </a:lnTo>
                  <a:lnTo>
                    <a:pt x="2024" y="3833"/>
                  </a:lnTo>
                  <a:lnTo>
                    <a:pt x="2019" y="4097"/>
                  </a:lnTo>
                  <a:lnTo>
                    <a:pt x="2032" y="4375"/>
                  </a:lnTo>
                  <a:lnTo>
                    <a:pt x="2090" y="4613"/>
                  </a:lnTo>
                  <a:lnTo>
                    <a:pt x="2200" y="4812"/>
                  </a:lnTo>
                  <a:lnTo>
                    <a:pt x="2363" y="4932"/>
                  </a:lnTo>
                  <a:lnTo>
                    <a:pt x="2601" y="4945"/>
                  </a:lnTo>
                  <a:lnTo>
                    <a:pt x="930" y="1547"/>
                  </a:lnTo>
                  <a:lnTo>
                    <a:pt x="1031" y="1406"/>
                  </a:lnTo>
                  <a:lnTo>
                    <a:pt x="1142" y="1274"/>
                  </a:lnTo>
                  <a:lnTo>
                    <a:pt x="1252" y="1142"/>
                  </a:lnTo>
                  <a:lnTo>
                    <a:pt x="1380" y="1014"/>
                  </a:lnTo>
                  <a:lnTo>
                    <a:pt x="1503" y="903"/>
                  </a:lnTo>
                  <a:lnTo>
                    <a:pt x="1640" y="780"/>
                  </a:lnTo>
                  <a:lnTo>
                    <a:pt x="1772" y="679"/>
                  </a:lnTo>
                  <a:lnTo>
                    <a:pt x="1922" y="577"/>
                  </a:lnTo>
                  <a:lnTo>
                    <a:pt x="2072" y="480"/>
                  </a:lnTo>
                  <a:lnTo>
                    <a:pt x="2231" y="392"/>
                  </a:lnTo>
                  <a:lnTo>
                    <a:pt x="2394" y="313"/>
                  </a:lnTo>
                  <a:lnTo>
                    <a:pt x="2570" y="242"/>
                  </a:lnTo>
                  <a:lnTo>
                    <a:pt x="2742" y="176"/>
                  </a:lnTo>
                  <a:lnTo>
                    <a:pt x="2924" y="119"/>
                  </a:lnTo>
                  <a:lnTo>
                    <a:pt x="3114" y="79"/>
                  </a:lnTo>
                  <a:lnTo>
                    <a:pt x="3312" y="35"/>
                  </a:lnTo>
                  <a:lnTo>
                    <a:pt x="3665" y="0"/>
                  </a:lnTo>
                  <a:lnTo>
                    <a:pt x="3996" y="4"/>
                  </a:lnTo>
                  <a:lnTo>
                    <a:pt x="4291" y="48"/>
                  </a:lnTo>
                  <a:lnTo>
                    <a:pt x="4556" y="127"/>
                  </a:lnTo>
                  <a:lnTo>
                    <a:pt x="4785" y="242"/>
                  </a:lnTo>
                  <a:lnTo>
                    <a:pt x="4992" y="383"/>
                  </a:lnTo>
                  <a:lnTo>
                    <a:pt x="5164" y="546"/>
                  </a:lnTo>
                  <a:lnTo>
                    <a:pt x="5314" y="745"/>
                  </a:lnTo>
                  <a:lnTo>
                    <a:pt x="5433" y="961"/>
                  </a:lnTo>
                  <a:lnTo>
                    <a:pt x="5535" y="1195"/>
                  </a:lnTo>
                  <a:lnTo>
                    <a:pt x="5596" y="1450"/>
                  </a:lnTo>
                  <a:lnTo>
                    <a:pt x="5654" y="1707"/>
                  </a:lnTo>
                  <a:lnTo>
                    <a:pt x="5685" y="1985"/>
                  </a:lnTo>
                  <a:lnTo>
                    <a:pt x="5685" y="2267"/>
                  </a:lnTo>
                  <a:lnTo>
                    <a:pt x="5667" y="2549"/>
                  </a:lnTo>
                  <a:lnTo>
                    <a:pt x="5636" y="2840"/>
                  </a:lnTo>
                  <a:lnTo>
                    <a:pt x="5592" y="3127"/>
                  </a:lnTo>
                  <a:lnTo>
                    <a:pt x="5517" y="3422"/>
                  </a:lnTo>
                  <a:lnTo>
                    <a:pt x="5424" y="3722"/>
                  </a:lnTo>
                  <a:lnTo>
                    <a:pt x="5323" y="4018"/>
                  </a:lnTo>
                  <a:lnTo>
                    <a:pt x="5195" y="4309"/>
                  </a:lnTo>
                  <a:lnTo>
                    <a:pt x="5045" y="4595"/>
                  </a:lnTo>
                  <a:lnTo>
                    <a:pt x="4873" y="4873"/>
                  </a:lnTo>
                  <a:lnTo>
                    <a:pt x="4675" y="5139"/>
                  </a:lnTo>
                  <a:lnTo>
                    <a:pt x="4472" y="5390"/>
                  </a:lnTo>
                  <a:lnTo>
                    <a:pt x="4243" y="5624"/>
                  </a:lnTo>
                  <a:lnTo>
                    <a:pt x="3982" y="5840"/>
                  </a:lnTo>
                  <a:lnTo>
                    <a:pt x="3705" y="6034"/>
                  </a:lnTo>
                  <a:lnTo>
                    <a:pt x="3405" y="6197"/>
                  </a:lnTo>
                  <a:lnTo>
                    <a:pt x="3092" y="6334"/>
                  </a:lnTo>
                  <a:lnTo>
                    <a:pt x="2742" y="6449"/>
                  </a:lnTo>
                  <a:lnTo>
                    <a:pt x="2381" y="6528"/>
                  </a:lnTo>
                  <a:lnTo>
                    <a:pt x="2024" y="6563"/>
                  </a:lnTo>
                  <a:lnTo>
                    <a:pt x="1693" y="6559"/>
                  </a:lnTo>
                  <a:lnTo>
                    <a:pt x="1402" y="6515"/>
                  </a:lnTo>
                  <a:lnTo>
                    <a:pt x="1133" y="6435"/>
                  </a:lnTo>
                  <a:lnTo>
                    <a:pt x="908" y="6329"/>
                  </a:lnTo>
                  <a:lnTo>
                    <a:pt x="701" y="6184"/>
                  </a:lnTo>
                  <a:lnTo>
                    <a:pt x="520" y="6016"/>
                  </a:lnTo>
                  <a:lnTo>
                    <a:pt x="379" y="5822"/>
                  </a:lnTo>
                  <a:lnTo>
                    <a:pt x="260" y="5606"/>
                  </a:lnTo>
                  <a:lnTo>
                    <a:pt x="158" y="5373"/>
                  </a:lnTo>
                  <a:lnTo>
                    <a:pt x="88" y="5121"/>
                  </a:lnTo>
                  <a:lnTo>
                    <a:pt x="39" y="4860"/>
                  </a:lnTo>
                  <a:lnTo>
                    <a:pt x="8" y="4582"/>
                  </a:lnTo>
                  <a:lnTo>
                    <a:pt x="0" y="4300"/>
                  </a:lnTo>
                  <a:lnTo>
                    <a:pt x="22" y="4018"/>
                  </a:lnTo>
                  <a:lnTo>
                    <a:pt x="57" y="3731"/>
                  </a:lnTo>
                  <a:lnTo>
                    <a:pt x="92" y="3453"/>
                  </a:lnTo>
                  <a:lnTo>
                    <a:pt x="167" y="3176"/>
                  </a:lnTo>
                  <a:lnTo>
                    <a:pt x="242" y="2898"/>
                  </a:lnTo>
                  <a:lnTo>
                    <a:pt x="348" y="2615"/>
                  </a:lnTo>
                  <a:lnTo>
                    <a:pt x="463" y="2333"/>
                  </a:lnTo>
                  <a:lnTo>
                    <a:pt x="599" y="2064"/>
                  </a:lnTo>
                  <a:lnTo>
                    <a:pt x="758" y="1804"/>
                  </a:lnTo>
                  <a:lnTo>
                    <a:pt x="930" y="1547"/>
                  </a:lnTo>
                  <a:lnTo>
                    <a:pt x="2601" y="4945"/>
                  </a:lnTo>
                  <a:close/>
                </a:path>
              </a:pathLst>
            </a:custGeom>
            <a:solidFill>
              <a:srgbClr val="e5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13240" y="878040"/>
              <a:ext cx="2030760" cy="2364120"/>
            </a:xfrm>
            <a:custGeom>
              <a:avLst/>
              <a:gdLst/>
              <a:ahLst/>
              <a:rect l="0" t="0" r="r" b="b"/>
              <a:pathLst>
                <a:path w="5641" h="6567">
                  <a:moveTo>
                    <a:pt x="3277" y="35"/>
                  </a:moveTo>
                  <a:lnTo>
                    <a:pt x="3639" y="0"/>
                  </a:lnTo>
                  <a:lnTo>
                    <a:pt x="3960" y="4"/>
                  </a:lnTo>
                  <a:lnTo>
                    <a:pt x="4247" y="48"/>
                  </a:lnTo>
                  <a:lnTo>
                    <a:pt x="4516" y="127"/>
                  </a:lnTo>
                  <a:lnTo>
                    <a:pt x="4750" y="242"/>
                  </a:lnTo>
                  <a:lnTo>
                    <a:pt x="4944" y="383"/>
                  </a:lnTo>
                  <a:lnTo>
                    <a:pt x="5125" y="546"/>
                  </a:lnTo>
                  <a:lnTo>
                    <a:pt x="5275" y="745"/>
                  </a:lnTo>
                  <a:lnTo>
                    <a:pt x="5389" y="961"/>
                  </a:lnTo>
                  <a:lnTo>
                    <a:pt x="5486" y="1199"/>
                  </a:lnTo>
                  <a:lnTo>
                    <a:pt x="5561" y="1446"/>
                  </a:lnTo>
                  <a:lnTo>
                    <a:pt x="5610" y="1710"/>
                  </a:lnTo>
                  <a:lnTo>
                    <a:pt x="5632" y="1984"/>
                  </a:lnTo>
                  <a:lnTo>
                    <a:pt x="5641" y="2271"/>
                  </a:lnTo>
                  <a:lnTo>
                    <a:pt x="5623" y="2553"/>
                  </a:lnTo>
                  <a:lnTo>
                    <a:pt x="5592" y="2839"/>
                  </a:lnTo>
                  <a:lnTo>
                    <a:pt x="5548" y="3130"/>
                  </a:lnTo>
                  <a:lnTo>
                    <a:pt x="5477" y="3427"/>
                  </a:lnTo>
                  <a:lnTo>
                    <a:pt x="5389" y="3727"/>
                  </a:lnTo>
                  <a:lnTo>
                    <a:pt x="5279" y="4013"/>
                  </a:lnTo>
                  <a:lnTo>
                    <a:pt x="5147" y="4309"/>
                  </a:lnTo>
                  <a:lnTo>
                    <a:pt x="5001" y="4600"/>
                  </a:lnTo>
                  <a:lnTo>
                    <a:pt x="4829" y="4873"/>
                  </a:lnTo>
                  <a:lnTo>
                    <a:pt x="4648" y="5142"/>
                  </a:lnTo>
                  <a:lnTo>
                    <a:pt x="4428" y="5394"/>
                  </a:lnTo>
                  <a:lnTo>
                    <a:pt x="4203" y="5627"/>
                  </a:lnTo>
                  <a:lnTo>
                    <a:pt x="3952" y="5843"/>
                  </a:lnTo>
                  <a:lnTo>
                    <a:pt x="3678" y="6037"/>
                  </a:lnTo>
                  <a:lnTo>
                    <a:pt x="3378" y="6205"/>
                  </a:lnTo>
                  <a:lnTo>
                    <a:pt x="3061" y="6346"/>
                  </a:lnTo>
                  <a:lnTo>
                    <a:pt x="2720" y="6452"/>
                  </a:lnTo>
                  <a:lnTo>
                    <a:pt x="2363" y="6531"/>
                  </a:lnTo>
                  <a:lnTo>
                    <a:pt x="2002" y="6567"/>
                  </a:lnTo>
                  <a:lnTo>
                    <a:pt x="1675" y="6567"/>
                  </a:lnTo>
                  <a:lnTo>
                    <a:pt x="1384" y="6522"/>
                  </a:lnTo>
                  <a:lnTo>
                    <a:pt x="1124" y="6439"/>
                  </a:lnTo>
                  <a:lnTo>
                    <a:pt x="899" y="6333"/>
                  </a:lnTo>
                  <a:lnTo>
                    <a:pt x="696" y="6187"/>
                  </a:lnTo>
                  <a:lnTo>
                    <a:pt x="515" y="6020"/>
                  </a:lnTo>
                  <a:lnTo>
                    <a:pt x="374" y="5821"/>
                  </a:lnTo>
                  <a:lnTo>
                    <a:pt x="251" y="5605"/>
                  </a:lnTo>
                  <a:lnTo>
                    <a:pt x="154" y="5367"/>
                  </a:lnTo>
                  <a:lnTo>
                    <a:pt x="88" y="5120"/>
                  </a:lnTo>
                  <a:lnTo>
                    <a:pt x="39" y="4864"/>
                  </a:lnTo>
                  <a:lnTo>
                    <a:pt x="8" y="4587"/>
                  </a:lnTo>
                  <a:lnTo>
                    <a:pt x="0" y="4304"/>
                  </a:lnTo>
                  <a:lnTo>
                    <a:pt x="17" y="4013"/>
                  </a:lnTo>
                  <a:lnTo>
                    <a:pt x="48" y="3731"/>
                  </a:lnTo>
                  <a:lnTo>
                    <a:pt x="92" y="3444"/>
                  </a:lnTo>
                  <a:lnTo>
                    <a:pt x="163" y="3148"/>
                  </a:lnTo>
                  <a:lnTo>
                    <a:pt x="260" y="2848"/>
                  </a:lnTo>
                  <a:lnTo>
                    <a:pt x="361" y="2553"/>
                  </a:lnTo>
                  <a:lnTo>
                    <a:pt x="493" y="2262"/>
                  </a:lnTo>
                  <a:lnTo>
                    <a:pt x="639" y="1975"/>
                  </a:lnTo>
                  <a:lnTo>
                    <a:pt x="811" y="1697"/>
                  </a:lnTo>
                  <a:lnTo>
                    <a:pt x="1001" y="1424"/>
                  </a:lnTo>
                  <a:lnTo>
                    <a:pt x="1212" y="1181"/>
                  </a:lnTo>
                  <a:lnTo>
                    <a:pt x="1437" y="943"/>
                  </a:lnTo>
                  <a:lnTo>
                    <a:pt x="1688" y="727"/>
                  </a:lnTo>
                  <a:lnTo>
                    <a:pt x="1962" y="533"/>
                  </a:lnTo>
                  <a:lnTo>
                    <a:pt x="2262" y="366"/>
                  </a:lnTo>
                  <a:lnTo>
                    <a:pt x="2579" y="229"/>
                  </a:lnTo>
                  <a:lnTo>
                    <a:pt x="2920" y="114"/>
                  </a:lnTo>
                  <a:lnTo>
                    <a:pt x="3277" y="35"/>
                  </a:lnTo>
                  <a:lnTo>
                    <a:pt x="2588" y="4948"/>
                  </a:lnTo>
                  <a:lnTo>
                    <a:pt x="2720" y="4913"/>
                  </a:lnTo>
                  <a:lnTo>
                    <a:pt x="2840" y="4851"/>
                  </a:lnTo>
                  <a:lnTo>
                    <a:pt x="2951" y="4772"/>
                  </a:lnTo>
                  <a:lnTo>
                    <a:pt x="3043" y="4670"/>
                  </a:lnTo>
                  <a:lnTo>
                    <a:pt x="3131" y="4565"/>
                  </a:lnTo>
                  <a:lnTo>
                    <a:pt x="3215" y="4428"/>
                  </a:lnTo>
                  <a:lnTo>
                    <a:pt x="3277" y="4296"/>
                  </a:lnTo>
                  <a:lnTo>
                    <a:pt x="3339" y="4154"/>
                  </a:lnTo>
                  <a:lnTo>
                    <a:pt x="3396" y="4013"/>
                  </a:lnTo>
                  <a:lnTo>
                    <a:pt x="3444" y="3863"/>
                  </a:lnTo>
                  <a:lnTo>
                    <a:pt x="3480" y="3727"/>
                  </a:lnTo>
                  <a:lnTo>
                    <a:pt x="3511" y="3586"/>
                  </a:lnTo>
                  <a:lnTo>
                    <a:pt x="3537" y="3462"/>
                  </a:lnTo>
                  <a:lnTo>
                    <a:pt x="3559" y="3347"/>
                  </a:lnTo>
                  <a:lnTo>
                    <a:pt x="3581" y="3245"/>
                  </a:lnTo>
                  <a:lnTo>
                    <a:pt x="3590" y="3161"/>
                  </a:lnTo>
                  <a:lnTo>
                    <a:pt x="3621" y="2980"/>
                  </a:lnTo>
                  <a:lnTo>
                    <a:pt x="3639" y="2738"/>
                  </a:lnTo>
                  <a:lnTo>
                    <a:pt x="3647" y="2469"/>
                  </a:lnTo>
                  <a:lnTo>
                    <a:pt x="3621" y="2196"/>
                  </a:lnTo>
                  <a:lnTo>
                    <a:pt x="3568" y="1957"/>
                  </a:lnTo>
                  <a:lnTo>
                    <a:pt x="3458" y="1759"/>
                  </a:lnTo>
                  <a:lnTo>
                    <a:pt x="3303" y="1636"/>
                  </a:lnTo>
                  <a:lnTo>
                    <a:pt x="3061" y="1618"/>
                  </a:lnTo>
                  <a:lnTo>
                    <a:pt x="2924" y="1653"/>
                  </a:lnTo>
                  <a:lnTo>
                    <a:pt x="2808" y="1715"/>
                  </a:lnTo>
                  <a:lnTo>
                    <a:pt x="2698" y="1794"/>
                  </a:lnTo>
                  <a:lnTo>
                    <a:pt x="2597" y="1896"/>
                  </a:lnTo>
                  <a:lnTo>
                    <a:pt x="2504" y="2010"/>
                  </a:lnTo>
                  <a:lnTo>
                    <a:pt x="2425" y="2138"/>
                  </a:lnTo>
                  <a:lnTo>
                    <a:pt x="2363" y="2271"/>
                  </a:lnTo>
                  <a:lnTo>
                    <a:pt x="2301" y="2407"/>
                  </a:lnTo>
                  <a:lnTo>
                    <a:pt x="2244" y="2557"/>
                  </a:lnTo>
                  <a:lnTo>
                    <a:pt x="2196" y="2703"/>
                  </a:lnTo>
                  <a:lnTo>
                    <a:pt x="2160" y="2839"/>
                  </a:lnTo>
                  <a:lnTo>
                    <a:pt x="2129" y="2980"/>
                  </a:lnTo>
                  <a:lnTo>
                    <a:pt x="2103" y="3113"/>
                  </a:lnTo>
                  <a:lnTo>
                    <a:pt x="2081" y="3227"/>
                  </a:lnTo>
                  <a:lnTo>
                    <a:pt x="2063" y="3330"/>
                  </a:lnTo>
                  <a:lnTo>
                    <a:pt x="2050" y="3405"/>
                  </a:lnTo>
                  <a:lnTo>
                    <a:pt x="2024" y="3594"/>
                  </a:lnTo>
                  <a:lnTo>
                    <a:pt x="2010" y="3833"/>
                  </a:lnTo>
                  <a:lnTo>
                    <a:pt x="2002" y="4097"/>
                  </a:lnTo>
                  <a:lnTo>
                    <a:pt x="2019" y="4371"/>
                  </a:lnTo>
                  <a:lnTo>
                    <a:pt x="2072" y="4617"/>
                  </a:lnTo>
                  <a:lnTo>
                    <a:pt x="2182" y="4816"/>
                  </a:lnTo>
                  <a:lnTo>
                    <a:pt x="2345" y="4935"/>
                  </a:lnTo>
                  <a:lnTo>
                    <a:pt x="2588" y="4948"/>
                  </a:lnTo>
                  <a:lnTo>
                    <a:pt x="3277" y="35"/>
                  </a:lnTo>
                  <a:close/>
                </a:path>
              </a:pathLst>
            </a:custGeom>
            <a:solidFill>
              <a:srgbClr val="ffb7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13240" y="878040"/>
              <a:ext cx="2030760" cy="2379960"/>
            </a:xfrm>
            <a:custGeom>
              <a:avLst/>
              <a:gdLst/>
              <a:ahLst/>
              <a:rect l="0" t="0" r="r" b="b"/>
              <a:pathLst>
                <a:path fill="none" w="5641" h="6611">
                  <a:moveTo>
                    <a:pt x="3277" y="35"/>
                  </a:moveTo>
                  <a:lnTo>
                    <a:pt x="3277" y="35"/>
                  </a:lnTo>
                  <a:lnTo>
                    <a:pt x="3639" y="0"/>
                  </a:lnTo>
                  <a:lnTo>
                    <a:pt x="3960" y="4"/>
                  </a:lnTo>
                  <a:lnTo>
                    <a:pt x="4247" y="48"/>
                  </a:lnTo>
                  <a:lnTo>
                    <a:pt x="4516" y="127"/>
                  </a:lnTo>
                  <a:lnTo>
                    <a:pt x="4750" y="242"/>
                  </a:lnTo>
                  <a:lnTo>
                    <a:pt x="4944" y="388"/>
                  </a:lnTo>
                  <a:lnTo>
                    <a:pt x="5125" y="551"/>
                  </a:lnTo>
                  <a:lnTo>
                    <a:pt x="5275" y="749"/>
                  </a:lnTo>
                  <a:lnTo>
                    <a:pt x="5389" y="970"/>
                  </a:lnTo>
                  <a:lnTo>
                    <a:pt x="5486" y="1203"/>
                  </a:lnTo>
                  <a:lnTo>
                    <a:pt x="5561" y="1455"/>
                  </a:lnTo>
                  <a:lnTo>
                    <a:pt x="5610" y="1719"/>
                  </a:lnTo>
                  <a:lnTo>
                    <a:pt x="5632" y="1997"/>
                  </a:lnTo>
                  <a:lnTo>
                    <a:pt x="5641" y="2284"/>
                  </a:lnTo>
                  <a:lnTo>
                    <a:pt x="5623" y="2570"/>
                  </a:lnTo>
                  <a:lnTo>
                    <a:pt x="5592" y="2861"/>
                  </a:lnTo>
                  <a:lnTo>
                    <a:pt x="5548" y="3148"/>
                  </a:lnTo>
                  <a:lnTo>
                    <a:pt x="5477" y="3449"/>
                  </a:lnTo>
                  <a:lnTo>
                    <a:pt x="5389" y="3749"/>
                  </a:lnTo>
                  <a:lnTo>
                    <a:pt x="5279" y="4040"/>
                  </a:lnTo>
                  <a:lnTo>
                    <a:pt x="5147" y="4340"/>
                  </a:lnTo>
                  <a:lnTo>
                    <a:pt x="5001" y="4631"/>
                  </a:lnTo>
                  <a:lnTo>
                    <a:pt x="4829" y="4909"/>
                  </a:lnTo>
                  <a:lnTo>
                    <a:pt x="4648" y="5173"/>
                  </a:lnTo>
                  <a:lnTo>
                    <a:pt x="4428" y="5429"/>
                  </a:lnTo>
                  <a:lnTo>
                    <a:pt x="4203" y="5667"/>
                  </a:lnTo>
                  <a:lnTo>
                    <a:pt x="3952" y="5883"/>
                  </a:lnTo>
                  <a:lnTo>
                    <a:pt x="3678" y="6077"/>
                  </a:lnTo>
                  <a:lnTo>
                    <a:pt x="3378" y="6249"/>
                  </a:lnTo>
                  <a:lnTo>
                    <a:pt x="3061" y="6386"/>
                  </a:lnTo>
                  <a:lnTo>
                    <a:pt x="2720" y="6496"/>
                  </a:lnTo>
                  <a:lnTo>
                    <a:pt x="2363" y="6575"/>
                  </a:lnTo>
                  <a:lnTo>
                    <a:pt x="2002" y="6611"/>
                  </a:lnTo>
                  <a:lnTo>
                    <a:pt x="1675" y="6611"/>
                  </a:lnTo>
                  <a:lnTo>
                    <a:pt x="1384" y="6567"/>
                  </a:lnTo>
                  <a:lnTo>
                    <a:pt x="1124" y="6483"/>
                  </a:lnTo>
                  <a:lnTo>
                    <a:pt x="899" y="6373"/>
                  </a:lnTo>
                  <a:lnTo>
                    <a:pt x="696" y="6227"/>
                  </a:lnTo>
                  <a:lnTo>
                    <a:pt x="515" y="6059"/>
                  </a:lnTo>
                  <a:lnTo>
                    <a:pt x="374" y="5861"/>
                  </a:lnTo>
                  <a:lnTo>
                    <a:pt x="251" y="5641"/>
                  </a:lnTo>
                  <a:lnTo>
                    <a:pt x="154" y="5407"/>
                  </a:lnTo>
                  <a:lnTo>
                    <a:pt x="88" y="5155"/>
                  </a:lnTo>
                  <a:lnTo>
                    <a:pt x="39" y="4895"/>
                  </a:lnTo>
                  <a:lnTo>
                    <a:pt x="8" y="4617"/>
                  </a:lnTo>
                  <a:lnTo>
                    <a:pt x="0" y="4331"/>
                  </a:lnTo>
                  <a:lnTo>
                    <a:pt x="17" y="4040"/>
                  </a:lnTo>
                  <a:lnTo>
                    <a:pt x="48" y="3758"/>
                  </a:lnTo>
                  <a:lnTo>
                    <a:pt x="92" y="3467"/>
                  </a:lnTo>
                  <a:lnTo>
                    <a:pt x="163" y="3170"/>
                  </a:lnTo>
                  <a:lnTo>
                    <a:pt x="260" y="2866"/>
                  </a:lnTo>
                  <a:lnTo>
                    <a:pt x="361" y="2570"/>
                  </a:lnTo>
                  <a:lnTo>
                    <a:pt x="493" y="2279"/>
                  </a:lnTo>
                  <a:lnTo>
                    <a:pt x="639" y="1988"/>
                  </a:lnTo>
                  <a:lnTo>
                    <a:pt x="811" y="1706"/>
                  </a:lnTo>
                  <a:lnTo>
                    <a:pt x="1001" y="1437"/>
                  </a:lnTo>
                  <a:lnTo>
                    <a:pt x="1212" y="1186"/>
                  </a:lnTo>
                  <a:lnTo>
                    <a:pt x="1437" y="952"/>
                  </a:lnTo>
                  <a:lnTo>
                    <a:pt x="1688" y="732"/>
                  </a:lnTo>
                  <a:lnTo>
                    <a:pt x="1962" y="537"/>
                  </a:lnTo>
                  <a:lnTo>
                    <a:pt x="2262" y="370"/>
                  </a:lnTo>
                  <a:lnTo>
                    <a:pt x="2579" y="229"/>
                  </a:lnTo>
                  <a:lnTo>
                    <a:pt x="2920" y="1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18120" y="1457280"/>
              <a:ext cx="606960" cy="1209960"/>
            </a:xfrm>
            <a:custGeom>
              <a:avLst/>
              <a:gdLst/>
              <a:ahLst/>
              <a:rect l="0" t="0" r="r" b="b"/>
              <a:pathLst>
                <a:path fill="none" w="1686" h="3361">
                  <a:moveTo>
                    <a:pt x="600" y="3361"/>
                  </a:moveTo>
                  <a:lnTo>
                    <a:pt x="600" y="3361"/>
                  </a:lnTo>
                  <a:lnTo>
                    <a:pt x="737" y="3325"/>
                  </a:lnTo>
                  <a:lnTo>
                    <a:pt x="860" y="3264"/>
                  </a:lnTo>
                  <a:lnTo>
                    <a:pt x="971" y="3184"/>
                  </a:lnTo>
                  <a:lnTo>
                    <a:pt x="1068" y="3083"/>
                  </a:lnTo>
                  <a:lnTo>
                    <a:pt x="1156" y="2973"/>
                  </a:lnTo>
                  <a:lnTo>
                    <a:pt x="1244" y="2836"/>
                  </a:lnTo>
                  <a:lnTo>
                    <a:pt x="1311" y="2704"/>
                  </a:lnTo>
                  <a:lnTo>
                    <a:pt x="1373" y="2558"/>
                  </a:lnTo>
                  <a:lnTo>
                    <a:pt x="1430" y="2417"/>
                  </a:lnTo>
                  <a:lnTo>
                    <a:pt x="1479" y="2267"/>
                  </a:lnTo>
                  <a:lnTo>
                    <a:pt x="1518" y="2126"/>
                  </a:lnTo>
                  <a:lnTo>
                    <a:pt x="1549" y="1989"/>
                  </a:lnTo>
                  <a:lnTo>
                    <a:pt x="1576" y="1861"/>
                  </a:lnTo>
                  <a:lnTo>
                    <a:pt x="1598" y="1742"/>
                  </a:lnTo>
                  <a:lnTo>
                    <a:pt x="1620" y="1640"/>
                  </a:lnTo>
                  <a:lnTo>
                    <a:pt x="1629" y="1556"/>
                  </a:lnTo>
                  <a:lnTo>
                    <a:pt x="1664" y="1371"/>
                  </a:lnTo>
                  <a:lnTo>
                    <a:pt x="1677" y="1128"/>
                  </a:lnTo>
                  <a:lnTo>
                    <a:pt x="1686" y="855"/>
                  </a:lnTo>
                  <a:lnTo>
                    <a:pt x="1664" y="582"/>
                  </a:lnTo>
                  <a:lnTo>
                    <a:pt x="1607" y="339"/>
                  </a:lnTo>
                  <a:lnTo>
                    <a:pt x="1492" y="141"/>
                  </a:lnTo>
                  <a:lnTo>
                    <a:pt x="1333" y="17"/>
                  </a:lnTo>
                  <a:lnTo>
                    <a:pt x="1085" y="0"/>
                  </a:lnTo>
                  <a:lnTo>
                    <a:pt x="949" y="35"/>
                  </a:lnTo>
                  <a:lnTo>
                    <a:pt x="825" y="97"/>
                  </a:lnTo>
                  <a:lnTo>
                    <a:pt x="715" y="176"/>
                  </a:lnTo>
                  <a:lnTo>
                    <a:pt x="609" y="277"/>
                  </a:lnTo>
                  <a:lnTo>
                    <a:pt x="512" y="396"/>
                  </a:lnTo>
                  <a:lnTo>
                    <a:pt x="433" y="524"/>
                  </a:lnTo>
                  <a:lnTo>
                    <a:pt x="370" y="657"/>
                  </a:lnTo>
                  <a:lnTo>
                    <a:pt x="304" y="798"/>
                  </a:lnTo>
                  <a:lnTo>
                    <a:pt x="246" y="948"/>
                  </a:lnTo>
                  <a:lnTo>
                    <a:pt x="198" y="1093"/>
                  </a:lnTo>
                  <a:lnTo>
                    <a:pt x="158" y="1234"/>
                  </a:lnTo>
                  <a:lnTo>
                    <a:pt x="127" y="1371"/>
                  </a:lnTo>
                  <a:lnTo>
                    <a:pt x="105" y="1508"/>
                  </a:lnTo>
                  <a:lnTo>
                    <a:pt x="79" y="1622"/>
                  </a:lnTo>
                  <a:lnTo>
                    <a:pt x="66" y="1725"/>
                  </a:lnTo>
                  <a:lnTo>
                    <a:pt x="48" y="1804"/>
                  </a:lnTo>
                  <a:lnTo>
                    <a:pt x="22" y="1994"/>
                  </a:lnTo>
                  <a:lnTo>
                    <a:pt x="8" y="2236"/>
                  </a:lnTo>
                  <a:lnTo>
                    <a:pt x="0" y="2505"/>
                  </a:lnTo>
                  <a:lnTo>
                    <a:pt x="17" y="2779"/>
                  </a:lnTo>
                  <a:lnTo>
                    <a:pt x="70" y="3026"/>
                  </a:lnTo>
                  <a:lnTo>
                    <a:pt x="185" y="3228"/>
                  </a:lnTo>
                  <a:lnTo>
                    <a:pt x="352" y="33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81640" y="3448080"/>
              <a:ext cx="2148120" cy="2556360"/>
            </a:xfrm>
            <a:custGeom>
              <a:avLst/>
              <a:gdLst/>
              <a:ahLst/>
              <a:rect l="0" t="0" r="r" b="b"/>
              <a:pathLst>
                <a:path w="5967" h="7101">
                  <a:moveTo>
                    <a:pt x="3176" y="6590"/>
                  </a:moveTo>
                  <a:lnTo>
                    <a:pt x="2368" y="3903"/>
                  </a:lnTo>
                  <a:lnTo>
                    <a:pt x="2381" y="3903"/>
                  </a:lnTo>
                  <a:lnTo>
                    <a:pt x="2350" y="3908"/>
                  </a:lnTo>
                  <a:lnTo>
                    <a:pt x="1953" y="6788"/>
                  </a:lnTo>
                  <a:lnTo>
                    <a:pt x="0" y="7101"/>
                  </a:lnTo>
                  <a:lnTo>
                    <a:pt x="886" y="824"/>
                  </a:lnTo>
                  <a:lnTo>
                    <a:pt x="2831" y="507"/>
                  </a:lnTo>
                  <a:lnTo>
                    <a:pt x="2460" y="3180"/>
                  </a:lnTo>
                  <a:lnTo>
                    <a:pt x="2451" y="3184"/>
                  </a:lnTo>
                  <a:lnTo>
                    <a:pt x="2460" y="3180"/>
                  </a:lnTo>
                  <a:lnTo>
                    <a:pt x="2434" y="3202"/>
                  </a:lnTo>
                  <a:lnTo>
                    <a:pt x="2434" y="3184"/>
                  </a:lnTo>
                  <a:lnTo>
                    <a:pt x="2465" y="3180"/>
                  </a:lnTo>
                  <a:lnTo>
                    <a:pt x="3912" y="330"/>
                  </a:lnTo>
                  <a:lnTo>
                    <a:pt x="5967" y="0"/>
                  </a:lnTo>
                  <a:lnTo>
                    <a:pt x="3987" y="3290"/>
                  </a:lnTo>
                  <a:lnTo>
                    <a:pt x="5270" y="6250"/>
                  </a:lnTo>
                  <a:lnTo>
                    <a:pt x="3176" y="6590"/>
                  </a:lnTo>
                  <a:close/>
                </a:path>
              </a:pathLst>
            </a:custGeom>
            <a:solidFill>
              <a:srgbClr val="e5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61040" y="3336840"/>
              <a:ext cx="2202120" cy="2570400"/>
            </a:xfrm>
            <a:custGeom>
              <a:avLst/>
              <a:gdLst/>
              <a:ahLst/>
              <a:rect l="0" t="0" r="r" b="b"/>
              <a:pathLst>
                <a:path w="6117" h="7140">
                  <a:moveTo>
                    <a:pt x="3255" y="6624"/>
                  </a:moveTo>
                  <a:lnTo>
                    <a:pt x="2416" y="3925"/>
                  </a:lnTo>
                  <a:lnTo>
                    <a:pt x="2434" y="3925"/>
                  </a:lnTo>
                  <a:lnTo>
                    <a:pt x="2416" y="3930"/>
                  </a:lnTo>
                  <a:lnTo>
                    <a:pt x="1997" y="6827"/>
                  </a:lnTo>
                  <a:lnTo>
                    <a:pt x="0" y="7140"/>
                  </a:lnTo>
                  <a:lnTo>
                    <a:pt x="908" y="829"/>
                  </a:lnTo>
                  <a:lnTo>
                    <a:pt x="2901" y="507"/>
                  </a:lnTo>
                  <a:lnTo>
                    <a:pt x="2513" y="3197"/>
                  </a:lnTo>
                  <a:lnTo>
                    <a:pt x="2504" y="3201"/>
                  </a:lnTo>
                  <a:lnTo>
                    <a:pt x="2513" y="3197"/>
                  </a:lnTo>
                  <a:lnTo>
                    <a:pt x="2495" y="3223"/>
                  </a:lnTo>
                  <a:lnTo>
                    <a:pt x="2495" y="3201"/>
                  </a:lnTo>
                  <a:lnTo>
                    <a:pt x="2531" y="3197"/>
                  </a:lnTo>
                  <a:lnTo>
                    <a:pt x="4009" y="335"/>
                  </a:lnTo>
                  <a:lnTo>
                    <a:pt x="6117" y="0"/>
                  </a:lnTo>
                  <a:lnTo>
                    <a:pt x="4079" y="3307"/>
                  </a:lnTo>
                  <a:lnTo>
                    <a:pt x="5394" y="6284"/>
                  </a:lnTo>
                  <a:lnTo>
                    <a:pt x="3255" y="66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61040" y="3336840"/>
              <a:ext cx="2202120" cy="2595960"/>
            </a:xfrm>
            <a:custGeom>
              <a:avLst/>
              <a:gdLst/>
              <a:ahLst/>
              <a:rect l="0" t="0" r="r" b="b"/>
              <a:pathLst>
                <a:path w="6117" h="7211">
                  <a:moveTo>
                    <a:pt x="3255" y="6691"/>
                  </a:moveTo>
                  <a:lnTo>
                    <a:pt x="2416" y="3965"/>
                  </a:lnTo>
                  <a:lnTo>
                    <a:pt x="2434" y="3965"/>
                  </a:lnTo>
                  <a:lnTo>
                    <a:pt x="2416" y="3969"/>
                  </a:lnTo>
                  <a:lnTo>
                    <a:pt x="1997" y="6894"/>
                  </a:lnTo>
                  <a:lnTo>
                    <a:pt x="0" y="7211"/>
                  </a:lnTo>
                  <a:lnTo>
                    <a:pt x="908" y="837"/>
                  </a:lnTo>
                  <a:lnTo>
                    <a:pt x="2901" y="511"/>
                  </a:lnTo>
                  <a:lnTo>
                    <a:pt x="2513" y="3228"/>
                  </a:lnTo>
                  <a:lnTo>
                    <a:pt x="2504" y="3237"/>
                  </a:lnTo>
                  <a:lnTo>
                    <a:pt x="2513" y="3228"/>
                  </a:lnTo>
                  <a:lnTo>
                    <a:pt x="2495" y="3255"/>
                  </a:lnTo>
                  <a:lnTo>
                    <a:pt x="2495" y="3237"/>
                  </a:lnTo>
                  <a:lnTo>
                    <a:pt x="2531" y="3228"/>
                  </a:lnTo>
                  <a:lnTo>
                    <a:pt x="4009" y="335"/>
                  </a:lnTo>
                  <a:lnTo>
                    <a:pt x="6117" y="0"/>
                  </a:lnTo>
                  <a:lnTo>
                    <a:pt x="4079" y="3339"/>
                  </a:lnTo>
                  <a:lnTo>
                    <a:pt x="5394" y="6347"/>
                  </a:lnTo>
                  <a:lnTo>
                    <a:pt x="3255" y="6691"/>
                  </a:lnTo>
                  <a:close/>
                </a:path>
              </a:pathLst>
            </a:custGeom>
            <a:solidFill>
              <a:srgbClr val="ffb7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82840" y="3886200"/>
              <a:ext cx="2046600" cy="2351520"/>
            </a:xfrm>
            <a:custGeom>
              <a:avLst/>
              <a:gdLst/>
              <a:ahLst/>
              <a:rect l="0" t="0" r="r" b="b"/>
              <a:pathLst>
                <a:path w="5685" h="6532">
                  <a:moveTo>
                    <a:pt x="2610" y="4927"/>
                  </a:moveTo>
                  <a:lnTo>
                    <a:pt x="2742" y="4891"/>
                  </a:lnTo>
                  <a:lnTo>
                    <a:pt x="2862" y="4829"/>
                  </a:lnTo>
                  <a:lnTo>
                    <a:pt x="2973" y="4750"/>
                  </a:lnTo>
                  <a:lnTo>
                    <a:pt x="3074" y="4648"/>
                  </a:lnTo>
                  <a:lnTo>
                    <a:pt x="3171" y="4538"/>
                  </a:lnTo>
                  <a:lnTo>
                    <a:pt x="3250" y="4410"/>
                  </a:lnTo>
                  <a:lnTo>
                    <a:pt x="3312" y="4274"/>
                  </a:lnTo>
                  <a:lnTo>
                    <a:pt x="3378" y="4137"/>
                  </a:lnTo>
                  <a:lnTo>
                    <a:pt x="3431" y="3991"/>
                  </a:lnTo>
                  <a:lnTo>
                    <a:pt x="3480" y="3846"/>
                  </a:lnTo>
                  <a:lnTo>
                    <a:pt x="3519" y="3705"/>
                  </a:lnTo>
                  <a:lnTo>
                    <a:pt x="3550" y="3564"/>
                  </a:lnTo>
                  <a:lnTo>
                    <a:pt x="3572" y="3440"/>
                  </a:lnTo>
                  <a:lnTo>
                    <a:pt x="3599" y="3325"/>
                  </a:lnTo>
                  <a:lnTo>
                    <a:pt x="3612" y="3224"/>
                  </a:lnTo>
                  <a:lnTo>
                    <a:pt x="3630" y="3140"/>
                  </a:lnTo>
                  <a:lnTo>
                    <a:pt x="3652" y="2959"/>
                  </a:lnTo>
                  <a:lnTo>
                    <a:pt x="3669" y="2721"/>
                  </a:lnTo>
                  <a:lnTo>
                    <a:pt x="3678" y="2452"/>
                  </a:lnTo>
                  <a:lnTo>
                    <a:pt x="3661" y="2183"/>
                  </a:lnTo>
                  <a:lnTo>
                    <a:pt x="3608" y="1941"/>
                  </a:lnTo>
                  <a:lnTo>
                    <a:pt x="3493" y="1742"/>
                  </a:lnTo>
                  <a:lnTo>
                    <a:pt x="3330" y="1622"/>
                  </a:lnTo>
                  <a:lnTo>
                    <a:pt x="3083" y="1609"/>
                  </a:lnTo>
                  <a:lnTo>
                    <a:pt x="2951" y="1650"/>
                  </a:lnTo>
                  <a:lnTo>
                    <a:pt x="2831" y="1707"/>
                  </a:lnTo>
                  <a:lnTo>
                    <a:pt x="2720" y="1786"/>
                  </a:lnTo>
                  <a:lnTo>
                    <a:pt x="2623" y="1888"/>
                  </a:lnTo>
                  <a:lnTo>
                    <a:pt x="2535" y="1994"/>
                  </a:lnTo>
                  <a:lnTo>
                    <a:pt x="2451" y="2122"/>
                  </a:lnTo>
                  <a:lnTo>
                    <a:pt x="2381" y="2254"/>
                  </a:lnTo>
                  <a:lnTo>
                    <a:pt x="2315" y="2395"/>
                  </a:lnTo>
                  <a:lnTo>
                    <a:pt x="2271" y="2541"/>
                  </a:lnTo>
                  <a:lnTo>
                    <a:pt x="2213" y="2686"/>
                  </a:lnTo>
                  <a:lnTo>
                    <a:pt x="2182" y="2827"/>
                  </a:lnTo>
                  <a:lnTo>
                    <a:pt x="2151" y="2959"/>
                  </a:lnTo>
                  <a:lnTo>
                    <a:pt x="2116" y="3092"/>
                  </a:lnTo>
                  <a:lnTo>
                    <a:pt x="2103" y="3206"/>
                  </a:lnTo>
                  <a:lnTo>
                    <a:pt x="2076" y="3308"/>
                  </a:lnTo>
                  <a:lnTo>
                    <a:pt x="2072" y="3387"/>
                  </a:lnTo>
                  <a:lnTo>
                    <a:pt x="2041" y="3572"/>
                  </a:lnTo>
                  <a:lnTo>
                    <a:pt x="2024" y="3811"/>
                  </a:lnTo>
                  <a:lnTo>
                    <a:pt x="2015" y="4075"/>
                  </a:lnTo>
                  <a:lnTo>
                    <a:pt x="2041" y="4344"/>
                  </a:lnTo>
                  <a:lnTo>
                    <a:pt x="2094" y="4591"/>
                  </a:lnTo>
                  <a:lnTo>
                    <a:pt x="2204" y="4789"/>
                  </a:lnTo>
                  <a:lnTo>
                    <a:pt x="2363" y="4910"/>
                  </a:lnTo>
                  <a:lnTo>
                    <a:pt x="2610" y="4927"/>
                  </a:lnTo>
                  <a:lnTo>
                    <a:pt x="926" y="1534"/>
                  </a:lnTo>
                  <a:lnTo>
                    <a:pt x="1027" y="1397"/>
                  </a:lnTo>
                  <a:lnTo>
                    <a:pt x="1146" y="1256"/>
                  </a:lnTo>
                  <a:lnTo>
                    <a:pt x="1256" y="1133"/>
                  </a:lnTo>
                  <a:lnTo>
                    <a:pt x="1375" y="1005"/>
                  </a:lnTo>
                  <a:lnTo>
                    <a:pt x="1503" y="886"/>
                  </a:lnTo>
                  <a:lnTo>
                    <a:pt x="1636" y="771"/>
                  </a:lnTo>
                  <a:lnTo>
                    <a:pt x="1777" y="670"/>
                  </a:lnTo>
                  <a:lnTo>
                    <a:pt x="1927" y="568"/>
                  </a:lnTo>
                  <a:lnTo>
                    <a:pt x="2072" y="471"/>
                  </a:lnTo>
                  <a:lnTo>
                    <a:pt x="2235" y="383"/>
                  </a:lnTo>
                  <a:lnTo>
                    <a:pt x="2394" y="304"/>
                  </a:lnTo>
                  <a:lnTo>
                    <a:pt x="2570" y="233"/>
                  </a:lnTo>
                  <a:lnTo>
                    <a:pt x="2742" y="171"/>
                  </a:lnTo>
                  <a:lnTo>
                    <a:pt x="2933" y="119"/>
                  </a:lnTo>
                  <a:lnTo>
                    <a:pt x="3114" y="70"/>
                  </a:lnTo>
                  <a:lnTo>
                    <a:pt x="3312" y="35"/>
                  </a:lnTo>
                  <a:lnTo>
                    <a:pt x="3678" y="0"/>
                  </a:lnTo>
                  <a:lnTo>
                    <a:pt x="4000" y="0"/>
                  </a:lnTo>
                  <a:lnTo>
                    <a:pt x="4300" y="48"/>
                  </a:lnTo>
                  <a:lnTo>
                    <a:pt x="4560" y="127"/>
                  </a:lnTo>
                  <a:lnTo>
                    <a:pt x="4789" y="233"/>
                  </a:lnTo>
                  <a:lnTo>
                    <a:pt x="4997" y="379"/>
                  </a:lnTo>
                  <a:lnTo>
                    <a:pt x="5169" y="546"/>
                  </a:lnTo>
                  <a:lnTo>
                    <a:pt x="5314" y="736"/>
                  </a:lnTo>
                  <a:lnTo>
                    <a:pt x="5438" y="952"/>
                  </a:lnTo>
                  <a:lnTo>
                    <a:pt x="5535" y="1186"/>
                  </a:lnTo>
                  <a:lnTo>
                    <a:pt x="5605" y="1437"/>
                  </a:lnTo>
                  <a:lnTo>
                    <a:pt x="5663" y="1698"/>
                  </a:lnTo>
                  <a:lnTo>
                    <a:pt x="5685" y="1972"/>
                  </a:lnTo>
                  <a:lnTo>
                    <a:pt x="5685" y="2254"/>
                  </a:lnTo>
                  <a:lnTo>
                    <a:pt x="5676" y="2536"/>
                  </a:lnTo>
                  <a:lnTo>
                    <a:pt x="5645" y="2823"/>
                  </a:lnTo>
                  <a:lnTo>
                    <a:pt x="5596" y="3109"/>
                  </a:lnTo>
                  <a:lnTo>
                    <a:pt x="5526" y="3405"/>
                  </a:lnTo>
                  <a:lnTo>
                    <a:pt x="5433" y="3705"/>
                  </a:lnTo>
                  <a:lnTo>
                    <a:pt x="5327" y="3996"/>
                  </a:lnTo>
                  <a:lnTo>
                    <a:pt x="5195" y="4282"/>
                  </a:lnTo>
                  <a:lnTo>
                    <a:pt x="5054" y="4573"/>
                  </a:lnTo>
                  <a:lnTo>
                    <a:pt x="4878" y="4847"/>
                  </a:lnTo>
                  <a:lnTo>
                    <a:pt x="4688" y="5112"/>
                  </a:lnTo>
                  <a:lnTo>
                    <a:pt x="4476" y="5364"/>
                  </a:lnTo>
                  <a:lnTo>
                    <a:pt x="4247" y="5597"/>
                  </a:lnTo>
                  <a:lnTo>
                    <a:pt x="3987" y="5814"/>
                  </a:lnTo>
                  <a:lnTo>
                    <a:pt x="3709" y="6003"/>
                  </a:lnTo>
                  <a:lnTo>
                    <a:pt x="3409" y="6171"/>
                  </a:lnTo>
                  <a:lnTo>
                    <a:pt x="3092" y="6312"/>
                  </a:lnTo>
                  <a:lnTo>
                    <a:pt x="2751" y="6418"/>
                  </a:lnTo>
                  <a:lnTo>
                    <a:pt x="2385" y="6497"/>
                  </a:lnTo>
                  <a:lnTo>
                    <a:pt x="2024" y="6532"/>
                  </a:lnTo>
                  <a:lnTo>
                    <a:pt x="1697" y="6532"/>
                  </a:lnTo>
                  <a:lnTo>
                    <a:pt x="1406" y="6488"/>
                  </a:lnTo>
                  <a:lnTo>
                    <a:pt x="1137" y="6413"/>
                  </a:lnTo>
                  <a:lnTo>
                    <a:pt x="899" y="6299"/>
                  </a:lnTo>
                  <a:lnTo>
                    <a:pt x="705" y="6153"/>
                  </a:lnTo>
                  <a:lnTo>
                    <a:pt x="520" y="5985"/>
                  </a:lnTo>
                  <a:lnTo>
                    <a:pt x="379" y="5791"/>
                  </a:lnTo>
                  <a:lnTo>
                    <a:pt x="251" y="5580"/>
                  </a:lnTo>
                  <a:lnTo>
                    <a:pt x="158" y="5342"/>
                  </a:lnTo>
                  <a:lnTo>
                    <a:pt x="79" y="5095"/>
                  </a:lnTo>
                  <a:lnTo>
                    <a:pt x="30" y="4834"/>
                  </a:lnTo>
                  <a:lnTo>
                    <a:pt x="8" y="4560"/>
                  </a:lnTo>
                  <a:lnTo>
                    <a:pt x="0" y="4278"/>
                  </a:lnTo>
                  <a:lnTo>
                    <a:pt x="17" y="3996"/>
                  </a:lnTo>
                  <a:lnTo>
                    <a:pt x="48" y="3709"/>
                  </a:lnTo>
                  <a:lnTo>
                    <a:pt x="97" y="3440"/>
                  </a:lnTo>
                  <a:lnTo>
                    <a:pt x="158" y="3158"/>
                  </a:lnTo>
                  <a:lnTo>
                    <a:pt x="246" y="2884"/>
                  </a:lnTo>
                  <a:lnTo>
                    <a:pt x="339" y="2602"/>
                  </a:lnTo>
                  <a:lnTo>
                    <a:pt x="458" y="2324"/>
                  </a:lnTo>
                  <a:lnTo>
                    <a:pt x="590" y="2055"/>
                  </a:lnTo>
                  <a:lnTo>
                    <a:pt x="749" y="1786"/>
                  </a:lnTo>
                  <a:lnTo>
                    <a:pt x="926" y="1534"/>
                  </a:lnTo>
                  <a:lnTo>
                    <a:pt x="2610" y="4927"/>
                  </a:lnTo>
                  <a:close/>
                </a:path>
              </a:pathLst>
            </a:custGeom>
            <a:solidFill>
              <a:srgbClr val="e5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97160" y="3765600"/>
              <a:ext cx="2035440" cy="2376720"/>
            </a:xfrm>
            <a:custGeom>
              <a:avLst/>
              <a:gdLst/>
              <a:ahLst/>
              <a:rect l="0" t="0" r="r" b="b"/>
              <a:pathLst>
                <a:path w="5654" h="6602">
                  <a:moveTo>
                    <a:pt x="2584" y="4979"/>
                  </a:moveTo>
                  <a:lnTo>
                    <a:pt x="2725" y="4944"/>
                  </a:lnTo>
                  <a:lnTo>
                    <a:pt x="2845" y="4882"/>
                  </a:lnTo>
                  <a:lnTo>
                    <a:pt x="2951" y="4803"/>
                  </a:lnTo>
                  <a:lnTo>
                    <a:pt x="3048" y="4701"/>
                  </a:lnTo>
                  <a:lnTo>
                    <a:pt x="3140" y="4587"/>
                  </a:lnTo>
                  <a:lnTo>
                    <a:pt x="3220" y="4459"/>
                  </a:lnTo>
                  <a:lnTo>
                    <a:pt x="3290" y="4322"/>
                  </a:lnTo>
                  <a:lnTo>
                    <a:pt x="3352" y="4181"/>
                  </a:lnTo>
                  <a:lnTo>
                    <a:pt x="3409" y="4035"/>
                  </a:lnTo>
                  <a:lnTo>
                    <a:pt x="3449" y="3890"/>
                  </a:lnTo>
                  <a:lnTo>
                    <a:pt x="3489" y="3744"/>
                  </a:lnTo>
                  <a:lnTo>
                    <a:pt x="3524" y="3608"/>
                  </a:lnTo>
                  <a:lnTo>
                    <a:pt x="3550" y="3480"/>
                  </a:lnTo>
                  <a:lnTo>
                    <a:pt x="3564" y="3365"/>
                  </a:lnTo>
                  <a:lnTo>
                    <a:pt x="3590" y="3263"/>
                  </a:lnTo>
                  <a:lnTo>
                    <a:pt x="3594" y="3175"/>
                  </a:lnTo>
                  <a:lnTo>
                    <a:pt x="3621" y="2989"/>
                  </a:lnTo>
                  <a:lnTo>
                    <a:pt x="3643" y="2751"/>
                  </a:lnTo>
                  <a:lnTo>
                    <a:pt x="3643" y="2482"/>
                  </a:lnTo>
                  <a:lnTo>
                    <a:pt x="3630" y="2209"/>
                  </a:lnTo>
                  <a:lnTo>
                    <a:pt x="3572" y="1966"/>
                  </a:lnTo>
                  <a:lnTo>
                    <a:pt x="3471" y="1768"/>
                  </a:lnTo>
                  <a:lnTo>
                    <a:pt x="3308" y="1644"/>
                  </a:lnTo>
                  <a:lnTo>
                    <a:pt x="3070" y="1627"/>
                  </a:lnTo>
                  <a:lnTo>
                    <a:pt x="2929" y="1671"/>
                  </a:lnTo>
                  <a:lnTo>
                    <a:pt x="2808" y="1728"/>
                  </a:lnTo>
                  <a:lnTo>
                    <a:pt x="2703" y="1807"/>
                  </a:lnTo>
                  <a:lnTo>
                    <a:pt x="2606" y="1905"/>
                  </a:lnTo>
                  <a:lnTo>
                    <a:pt x="2513" y="2019"/>
                  </a:lnTo>
                  <a:lnTo>
                    <a:pt x="2434" y="2147"/>
                  </a:lnTo>
                  <a:lnTo>
                    <a:pt x="2363" y="2279"/>
                  </a:lnTo>
                  <a:lnTo>
                    <a:pt x="2301" y="2425"/>
                  </a:lnTo>
                  <a:lnTo>
                    <a:pt x="2244" y="2570"/>
                  </a:lnTo>
                  <a:lnTo>
                    <a:pt x="2204" y="2716"/>
                  </a:lnTo>
                  <a:lnTo>
                    <a:pt x="2165" y="2861"/>
                  </a:lnTo>
                  <a:lnTo>
                    <a:pt x="2129" y="2994"/>
                  </a:lnTo>
                  <a:lnTo>
                    <a:pt x="2103" y="3126"/>
                  </a:lnTo>
                  <a:lnTo>
                    <a:pt x="2090" y="3241"/>
                  </a:lnTo>
                  <a:lnTo>
                    <a:pt x="2063" y="3347"/>
                  </a:lnTo>
                  <a:lnTo>
                    <a:pt x="2059" y="3427"/>
                  </a:lnTo>
                  <a:lnTo>
                    <a:pt x="2032" y="3612"/>
                  </a:lnTo>
                  <a:lnTo>
                    <a:pt x="2010" y="3855"/>
                  </a:lnTo>
                  <a:lnTo>
                    <a:pt x="2010" y="4119"/>
                  </a:lnTo>
                  <a:lnTo>
                    <a:pt x="2024" y="4393"/>
                  </a:lnTo>
                  <a:lnTo>
                    <a:pt x="2081" y="4640"/>
                  </a:lnTo>
                  <a:lnTo>
                    <a:pt x="2182" y="4842"/>
                  </a:lnTo>
                  <a:lnTo>
                    <a:pt x="2345" y="4961"/>
                  </a:lnTo>
                  <a:lnTo>
                    <a:pt x="2584" y="4979"/>
                  </a:lnTo>
                  <a:lnTo>
                    <a:pt x="3290" y="35"/>
                  </a:lnTo>
                  <a:lnTo>
                    <a:pt x="3643" y="0"/>
                  </a:lnTo>
                  <a:lnTo>
                    <a:pt x="3974" y="4"/>
                  </a:lnTo>
                  <a:lnTo>
                    <a:pt x="4265" y="48"/>
                  </a:lnTo>
                  <a:lnTo>
                    <a:pt x="4525" y="127"/>
                  </a:lnTo>
                  <a:lnTo>
                    <a:pt x="4759" y="242"/>
                  </a:lnTo>
                  <a:lnTo>
                    <a:pt x="4961" y="388"/>
                  </a:lnTo>
                  <a:lnTo>
                    <a:pt x="5133" y="551"/>
                  </a:lnTo>
                  <a:lnTo>
                    <a:pt x="5283" y="749"/>
                  </a:lnTo>
                  <a:lnTo>
                    <a:pt x="5402" y="970"/>
                  </a:lnTo>
                  <a:lnTo>
                    <a:pt x="5495" y="1203"/>
                  </a:lnTo>
                  <a:lnTo>
                    <a:pt x="5566" y="1450"/>
                  </a:lnTo>
                  <a:lnTo>
                    <a:pt x="5614" y="1719"/>
                  </a:lnTo>
                  <a:lnTo>
                    <a:pt x="5645" y="1997"/>
                  </a:lnTo>
                  <a:lnTo>
                    <a:pt x="5654" y="2279"/>
                  </a:lnTo>
                  <a:lnTo>
                    <a:pt x="5632" y="2566"/>
                  </a:lnTo>
                  <a:lnTo>
                    <a:pt x="5601" y="2848"/>
                  </a:lnTo>
                  <a:lnTo>
                    <a:pt x="5552" y="3148"/>
                  </a:lnTo>
                  <a:lnTo>
                    <a:pt x="5491" y="3444"/>
                  </a:lnTo>
                  <a:lnTo>
                    <a:pt x="5394" y="3740"/>
                  </a:lnTo>
                  <a:lnTo>
                    <a:pt x="5283" y="4035"/>
                  </a:lnTo>
                  <a:lnTo>
                    <a:pt x="5160" y="4331"/>
                  </a:lnTo>
                  <a:lnTo>
                    <a:pt x="5010" y="4622"/>
                  </a:lnTo>
                  <a:lnTo>
                    <a:pt x="4847" y="4900"/>
                  </a:lnTo>
                  <a:lnTo>
                    <a:pt x="4648" y="5169"/>
                  </a:lnTo>
                  <a:lnTo>
                    <a:pt x="4446" y="5416"/>
                  </a:lnTo>
                  <a:lnTo>
                    <a:pt x="4207" y="5654"/>
                  </a:lnTo>
                  <a:lnTo>
                    <a:pt x="3956" y="5870"/>
                  </a:lnTo>
                  <a:lnTo>
                    <a:pt x="3683" y="6068"/>
                  </a:lnTo>
                  <a:lnTo>
                    <a:pt x="3383" y="6240"/>
                  </a:lnTo>
                  <a:lnTo>
                    <a:pt x="3070" y="6377"/>
                  </a:lnTo>
                  <a:lnTo>
                    <a:pt x="2725" y="6487"/>
                  </a:lnTo>
                  <a:lnTo>
                    <a:pt x="2363" y="6567"/>
                  </a:lnTo>
                  <a:lnTo>
                    <a:pt x="2010" y="6602"/>
                  </a:lnTo>
                  <a:lnTo>
                    <a:pt x="1680" y="6602"/>
                  </a:lnTo>
                  <a:lnTo>
                    <a:pt x="1389" y="6558"/>
                  </a:lnTo>
                  <a:lnTo>
                    <a:pt x="1124" y="6483"/>
                  </a:lnTo>
                  <a:lnTo>
                    <a:pt x="895" y="6359"/>
                  </a:lnTo>
                  <a:lnTo>
                    <a:pt x="692" y="6223"/>
                  </a:lnTo>
                  <a:lnTo>
                    <a:pt x="520" y="6051"/>
                  </a:lnTo>
                  <a:lnTo>
                    <a:pt x="370" y="5852"/>
                  </a:lnTo>
                  <a:lnTo>
                    <a:pt x="251" y="5632"/>
                  </a:lnTo>
                  <a:lnTo>
                    <a:pt x="149" y="5398"/>
                  </a:lnTo>
                  <a:lnTo>
                    <a:pt x="88" y="5151"/>
                  </a:lnTo>
                  <a:lnTo>
                    <a:pt x="30" y="4882"/>
                  </a:lnTo>
                  <a:lnTo>
                    <a:pt x="0" y="4604"/>
                  </a:lnTo>
                  <a:lnTo>
                    <a:pt x="0" y="4326"/>
                  </a:lnTo>
                  <a:lnTo>
                    <a:pt x="17" y="4035"/>
                  </a:lnTo>
                  <a:lnTo>
                    <a:pt x="48" y="3753"/>
                  </a:lnTo>
                  <a:lnTo>
                    <a:pt x="92" y="3462"/>
                  </a:lnTo>
                  <a:lnTo>
                    <a:pt x="163" y="3166"/>
                  </a:lnTo>
                  <a:lnTo>
                    <a:pt x="260" y="2861"/>
                  </a:lnTo>
                  <a:lnTo>
                    <a:pt x="361" y="2566"/>
                  </a:lnTo>
                  <a:lnTo>
                    <a:pt x="485" y="2275"/>
                  </a:lnTo>
                  <a:lnTo>
                    <a:pt x="635" y="1984"/>
                  </a:lnTo>
                  <a:lnTo>
                    <a:pt x="806" y="1706"/>
                  </a:lnTo>
                  <a:lnTo>
                    <a:pt x="1005" y="1433"/>
                  </a:lnTo>
                  <a:lnTo>
                    <a:pt x="1208" y="1186"/>
                  </a:lnTo>
                  <a:lnTo>
                    <a:pt x="1437" y="948"/>
                  </a:lnTo>
                  <a:lnTo>
                    <a:pt x="1697" y="732"/>
                  </a:lnTo>
                  <a:lnTo>
                    <a:pt x="1971" y="537"/>
                  </a:lnTo>
                  <a:lnTo>
                    <a:pt x="2271" y="370"/>
                  </a:lnTo>
                  <a:lnTo>
                    <a:pt x="2584" y="229"/>
                  </a:lnTo>
                  <a:lnTo>
                    <a:pt x="2929" y="114"/>
                  </a:lnTo>
                  <a:lnTo>
                    <a:pt x="3290" y="35"/>
                  </a:lnTo>
                  <a:lnTo>
                    <a:pt x="2584" y="4979"/>
                  </a:lnTo>
                  <a:close/>
                </a:path>
              </a:pathLst>
            </a:custGeom>
            <a:solidFill>
              <a:srgbClr val="ffb7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19680" y="4354560"/>
              <a:ext cx="589320" cy="1208520"/>
            </a:xfrm>
            <a:custGeom>
              <a:avLst/>
              <a:gdLst/>
              <a:ahLst/>
              <a:rect l="0" t="0" r="r" b="b"/>
              <a:pathLst>
                <a:path fill="none" w="1637" h="3357">
                  <a:moveTo>
                    <a:pt x="573" y="3357"/>
                  </a:moveTo>
                  <a:lnTo>
                    <a:pt x="573" y="3357"/>
                  </a:lnTo>
                  <a:lnTo>
                    <a:pt x="714" y="3322"/>
                  </a:lnTo>
                  <a:lnTo>
                    <a:pt x="834" y="3260"/>
                  </a:lnTo>
                  <a:lnTo>
                    <a:pt x="944" y="3181"/>
                  </a:lnTo>
                  <a:lnTo>
                    <a:pt x="1037" y="3079"/>
                  </a:lnTo>
                  <a:lnTo>
                    <a:pt x="1134" y="2965"/>
                  </a:lnTo>
                  <a:lnTo>
                    <a:pt x="1213" y="2837"/>
                  </a:lnTo>
                  <a:lnTo>
                    <a:pt x="1284" y="2696"/>
                  </a:lnTo>
                  <a:lnTo>
                    <a:pt x="1345" y="2559"/>
                  </a:lnTo>
                  <a:lnTo>
                    <a:pt x="1398" y="2413"/>
                  </a:lnTo>
                  <a:lnTo>
                    <a:pt x="1438" y="2267"/>
                  </a:lnTo>
                  <a:lnTo>
                    <a:pt x="1478" y="2122"/>
                  </a:lnTo>
                  <a:lnTo>
                    <a:pt x="1517" y="1980"/>
                  </a:lnTo>
                  <a:lnTo>
                    <a:pt x="1544" y="1853"/>
                  </a:lnTo>
                  <a:lnTo>
                    <a:pt x="1557" y="1738"/>
                  </a:lnTo>
                  <a:lnTo>
                    <a:pt x="1584" y="1637"/>
                  </a:lnTo>
                  <a:lnTo>
                    <a:pt x="1588" y="1553"/>
                  </a:lnTo>
                  <a:lnTo>
                    <a:pt x="1614" y="1363"/>
                  </a:lnTo>
                  <a:lnTo>
                    <a:pt x="1637" y="1125"/>
                  </a:lnTo>
                  <a:lnTo>
                    <a:pt x="1637" y="856"/>
                  </a:lnTo>
                  <a:lnTo>
                    <a:pt x="1619" y="582"/>
                  </a:lnTo>
                  <a:lnTo>
                    <a:pt x="1566" y="339"/>
                  </a:lnTo>
                  <a:lnTo>
                    <a:pt x="1465" y="141"/>
                  </a:lnTo>
                  <a:lnTo>
                    <a:pt x="1297" y="17"/>
                  </a:lnTo>
                  <a:lnTo>
                    <a:pt x="1063" y="0"/>
                  </a:lnTo>
                  <a:lnTo>
                    <a:pt x="922" y="44"/>
                  </a:lnTo>
                  <a:lnTo>
                    <a:pt x="802" y="101"/>
                  </a:lnTo>
                  <a:lnTo>
                    <a:pt x="692" y="180"/>
                  </a:lnTo>
                  <a:lnTo>
                    <a:pt x="599" y="277"/>
                  </a:lnTo>
                  <a:lnTo>
                    <a:pt x="502" y="392"/>
                  </a:lnTo>
                  <a:lnTo>
                    <a:pt x="423" y="520"/>
                  </a:lnTo>
                  <a:lnTo>
                    <a:pt x="352" y="652"/>
                  </a:lnTo>
                  <a:lnTo>
                    <a:pt x="291" y="798"/>
                  </a:lnTo>
                  <a:lnTo>
                    <a:pt x="238" y="944"/>
                  </a:lnTo>
                  <a:lnTo>
                    <a:pt x="198" y="1090"/>
                  </a:lnTo>
                  <a:lnTo>
                    <a:pt x="158" y="1235"/>
                  </a:lnTo>
                  <a:lnTo>
                    <a:pt x="119" y="1368"/>
                  </a:lnTo>
                  <a:lnTo>
                    <a:pt x="92" y="1504"/>
                  </a:lnTo>
                  <a:lnTo>
                    <a:pt x="79" y="1619"/>
                  </a:lnTo>
                  <a:lnTo>
                    <a:pt x="52" y="1720"/>
                  </a:lnTo>
                  <a:lnTo>
                    <a:pt x="48" y="1800"/>
                  </a:lnTo>
                  <a:lnTo>
                    <a:pt x="22" y="1989"/>
                  </a:lnTo>
                  <a:lnTo>
                    <a:pt x="0" y="2232"/>
                  </a:lnTo>
                  <a:lnTo>
                    <a:pt x="0" y="2496"/>
                  </a:lnTo>
                  <a:lnTo>
                    <a:pt x="17" y="2771"/>
                  </a:lnTo>
                  <a:lnTo>
                    <a:pt x="70" y="3018"/>
                  </a:lnTo>
                  <a:lnTo>
                    <a:pt x="171" y="3216"/>
                  </a:lnTo>
                  <a:lnTo>
                    <a:pt x="339" y="334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97160" y="3765600"/>
              <a:ext cx="2051280" cy="2403720"/>
            </a:xfrm>
            <a:custGeom>
              <a:avLst/>
              <a:gdLst/>
              <a:ahLst/>
              <a:rect l="0" t="0" r="r" b="b"/>
              <a:pathLst>
                <a:path fill="none" w="5698" h="6677">
                  <a:moveTo>
                    <a:pt x="3317" y="35"/>
                  </a:moveTo>
                  <a:lnTo>
                    <a:pt x="3317" y="35"/>
                  </a:lnTo>
                  <a:lnTo>
                    <a:pt x="3674" y="0"/>
                  </a:lnTo>
                  <a:lnTo>
                    <a:pt x="4005" y="4"/>
                  </a:lnTo>
                  <a:lnTo>
                    <a:pt x="4296" y="48"/>
                  </a:lnTo>
                  <a:lnTo>
                    <a:pt x="4560" y="127"/>
                  </a:lnTo>
                  <a:lnTo>
                    <a:pt x="4794" y="246"/>
                  </a:lnTo>
                  <a:lnTo>
                    <a:pt x="5001" y="392"/>
                  </a:lnTo>
                  <a:lnTo>
                    <a:pt x="5178" y="555"/>
                  </a:lnTo>
                  <a:lnTo>
                    <a:pt x="5327" y="758"/>
                  </a:lnTo>
                  <a:lnTo>
                    <a:pt x="5447" y="978"/>
                  </a:lnTo>
                  <a:lnTo>
                    <a:pt x="5539" y="1217"/>
                  </a:lnTo>
                  <a:lnTo>
                    <a:pt x="5610" y="1468"/>
                  </a:lnTo>
                  <a:lnTo>
                    <a:pt x="5658" y="1737"/>
                  </a:lnTo>
                  <a:lnTo>
                    <a:pt x="5689" y="2019"/>
                  </a:lnTo>
                  <a:lnTo>
                    <a:pt x="5698" y="2306"/>
                  </a:lnTo>
                  <a:lnTo>
                    <a:pt x="5676" y="2592"/>
                  </a:lnTo>
                  <a:lnTo>
                    <a:pt x="5641" y="2883"/>
                  </a:lnTo>
                  <a:lnTo>
                    <a:pt x="5596" y="3183"/>
                  </a:lnTo>
                  <a:lnTo>
                    <a:pt x="5530" y="3484"/>
                  </a:lnTo>
                  <a:lnTo>
                    <a:pt x="5438" y="3784"/>
                  </a:lnTo>
                  <a:lnTo>
                    <a:pt x="5327" y="4084"/>
                  </a:lnTo>
                  <a:lnTo>
                    <a:pt x="5200" y="4384"/>
                  </a:lnTo>
                  <a:lnTo>
                    <a:pt x="5050" y="4675"/>
                  </a:lnTo>
                  <a:lnTo>
                    <a:pt x="4882" y="4957"/>
                  </a:lnTo>
                  <a:lnTo>
                    <a:pt x="4684" y="5226"/>
                  </a:lnTo>
                  <a:lnTo>
                    <a:pt x="4481" y="5477"/>
                  </a:lnTo>
                  <a:lnTo>
                    <a:pt x="4243" y="5716"/>
                  </a:lnTo>
                  <a:lnTo>
                    <a:pt x="3987" y="5936"/>
                  </a:lnTo>
                  <a:lnTo>
                    <a:pt x="3713" y="6139"/>
                  </a:lnTo>
                  <a:lnTo>
                    <a:pt x="3409" y="6311"/>
                  </a:lnTo>
                  <a:lnTo>
                    <a:pt x="3096" y="6452"/>
                  </a:lnTo>
                  <a:lnTo>
                    <a:pt x="2747" y="6562"/>
                  </a:lnTo>
                  <a:lnTo>
                    <a:pt x="2381" y="6642"/>
                  </a:lnTo>
                  <a:lnTo>
                    <a:pt x="2024" y="6677"/>
                  </a:lnTo>
                  <a:lnTo>
                    <a:pt x="1693" y="6677"/>
                  </a:lnTo>
                  <a:lnTo>
                    <a:pt x="1402" y="6633"/>
                  </a:lnTo>
                  <a:lnTo>
                    <a:pt x="1133" y="6553"/>
                  </a:lnTo>
                  <a:lnTo>
                    <a:pt x="903" y="6430"/>
                  </a:lnTo>
                  <a:lnTo>
                    <a:pt x="696" y="6293"/>
                  </a:lnTo>
                  <a:lnTo>
                    <a:pt x="520" y="6121"/>
                  </a:lnTo>
                  <a:lnTo>
                    <a:pt x="370" y="5918"/>
                  </a:lnTo>
                  <a:lnTo>
                    <a:pt x="251" y="5698"/>
                  </a:lnTo>
                  <a:lnTo>
                    <a:pt x="149" y="5460"/>
                  </a:lnTo>
                  <a:lnTo>
                    <a:pt x="88" y="5208"/>
                  </a:lnTo>
                  <a:lnTo>
                    <a:pt x="30" y="4939"/>
                  </a:lnTo>
                  <a:lnTo>
                    <a:pt x="0" y="4657"/>
                  </a:lnTo>
                  <a:lnTo>
                    <a:pt x="0" y="4375"/>
                  </a:lnTo>
                  <a:lnTo>
                    <a:pt x="17" y="4084"/>
                  </a:lnTo>
                  <a:lnTo>
                    <a:pt x="48" y="3793"/>
                  </a:lnTo>
                  <a:lnTo>
                    <a:pt x="97" y="3502"/>
                  </a:lnTo>
                  <a:lnTo>
                    <a:pt x="167" y="3201"/>
                  </a:lnTo>
                  <a:lnTo>
                    <a:pt x="260" y="2892"/>
                  </a:lnTo>
                  <a:lnTo>
                    <a:pt x="366" y="2592"/>
                  </a:lnTo>
                  <a:lnTo>
                    <a:pt x="489" y="2301"/>
                  </a:lnTo>
                  <a:lnTo>
                    <a:pt x="639" y="2006"/>
                  </a:lnTo>
                  <a:lnTo>
                    <a:pt x="815" y="1724"/>
                  </a:lnTo>
                  <a:lnTo>
                    <a:pt x="1014" y="1450"/>
                  </a:lnTo>
                  <a:lnTo>
                    <a:pt x="1217" y="1199"/>
                  </a:lnTo>
                  <a:lnTo>
                    <a:pt x="1446" y="961"/>
                  </a:lnTo>
                  <a:lnTo>
                    <a:pt x="1710" y="740"/>
                  </a:lnTo>
                  <a:lnTo>
                    <a:pt x="1984" y="546"/>
                  </a:lnTo>
                  <a:lnTo>
                    <a:pt x="2288" y="374"/>
                  </a:lnTo>
                  <a:lnTo>
                    <a:pt x="2601" y="233"/>
                  </a:lnTo>
                  <a:lnTo>
                    <a:pt x="2951" y="1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5240" y="1752480"/>
            <a:ext cx="716436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4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Gemini Network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Features &amp;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Developing Gemini Network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4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Gemini X Server and Graphics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Features and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Developing Gemini Graphics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76320"/>
            <a:ext cx="777240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Gemini</a:t>
            </a:r>
            <a:br>
              <a:rPr sz="4000"/>
            </a:b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Network Driver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0840" y="1447920"/>
            <a:ext cx="8991720" cy="47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MDI Drivers for All Supported Network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“</a:t>
            </a:r>
            <a:r>
              <a:rPr b="1" i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MAC Driver Interface”</a:t>
            </a: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  </a:t>
            </a:r>
            <a:r>
              <a:rPr b="1" lang="en-US" sz="2000" spc="-1" strike="noStrike">
                <a:solidFill>
                  <a:srgbClr val="919191"/>
                </a:solidFill>
                <a:latin typeface="GillSans"/>
                <a:ea typeface="GillSans"/>
              </a:rPr>
              <a:t>(MAC = Media Access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Compatibility with DLPI STREAMS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Plus “transmogrified” Netware ODI driv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Consolidated Network Hardware Sup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UnixWare + OpenServer + new devices TBD         (minus support for some legacy dev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High-Speed </a:t>
            </a: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LANs</a:t>
            </a: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: More Performance/HW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FDDI, 100Base-T, 100VG, Full-Du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Enhanced Net Statistics &amp; SNMP </a:t>
            </a: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LAN MIBs</a:t>
            </a: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GillSans"/>
                <a:ea typeface="GillSans"/>
              </a:rPr>
              <a:t>(MD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152280"/>
            <a:ext cx="7772400" cy="15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Gemini</a:t>
            </a:r>
            <a:br>
              <a:rPr sz="4000"/>
            </a:b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Network Driver Features</a:t>
            </a:r>
            <a:br>
              <a:rPr sz="4000"/>
            </a:br>
            <a:r>
              <a:rPr b="1" lang="en-US" sz="2000" spc="-1" strike="noStrike">
                <a:solidFill>
                  <a:srgbClr val="618ffd"/>
                </a:solidFill>
                <a:latin typeface="GillSans"/>
                <a:ea typeface="GillSans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9440" y="1600200"/>
            <a:ext cx="8381880" cy="43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Advanced, Scalable TR Source Routing </a:t>
            </a:r>
            <a:r>
              <a:rPr b="1" lang="en-US" sz="1800" spc="-1" strike="noStrike">
                <a:solidFill>
                  <a:srgbClr val="919191"/>
                </a:solidFill>
                <a:latin typeface="GillSans"/>
                <a:ea typeface="GillSans"/>
              </a:rPr>
              <a:t>(MD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Driver Extensions for Multicast Routing </a:t>
            </a:r>
            <a:r>
              <a:rPr b="1" lang="en-US" sz="1800" spc="-1" strike="noStrike">
                <a:solidFill>
                  <a:srgbClr val="919191"/>
                </a:solidFill>
                <a:latin typeface="GillSans"/>
                <a:ea typeface="GillSans"/>
              </a:rPr>
              <a:t>(MD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SCOadmin Network Configuration Manager for Protocol Stacks &amp; Network Adap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Single-point, easy-to-use UI, context sensitive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Advanced options in graphical scre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Device selection based on card name (not dri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Auto detection and one-step configuration of programmable ISA cards within netconfig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919191"/>
                </a:solidFill>
                <a:latin typeface="GillSans"/>
                <a:ea typeface="GillSans"/>
              </a:rPr>
              <a:t>no need for UNIX/DOS commands to configure ad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85800" y="0"/>
            <a:ext cx="7772400" cy="15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Gemini</a:t>
            </a:r>
            <a:br>
              <a:rPr sz="4000"/>
            </a:b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Network Driver Features</a:t>
            </a:r>
            <a:br>
              <a:rPr sz="4000"/>
            </a:br>
            <a:r>
              <a:rPr b="1" lang="en-US" sz="2000" spc="-1" strike="noStrike">
                <a:solidFill>
                  <a:srgbClr val="618ffd"/>
                </a:solidFill>
                <a:latin typeface="GillSans"/>
                <a:ea typeface="GillSans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7160" y="1600200"/>
            <a:ext cx="89154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Non-intrusive Network Card Restart </a:t>
            </a:r>
            <a:r>
              <a:rPr b="1" lang="en-US" sz="1800" spc="-1" strike="noStrike">
                <a:solidFill>
                  <a:srgbClr val="919191"/>
                </a:solidFill>
                <a:latin typeface="GillSans"/>
                <a:ea typeface="GillSans"/>
              </a:rPr>
              <a:t>(MD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Manual &amp; aut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Stack-Transparent Network Card Failover </a:t>
            </a:r>
            <a:r>
              <a:rPr b="1" lang="en-US" sz="1800" spc="-1" strike="noStrike">
                <a:solidFill>
                  <a:srgbClr val="919191"/>
                </a:solidFill>
                <a:latin typeface="GillSans"/>
                <a:ea typeface="GillSans"/>
              </a:rPr>
              <a:t>(MD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Stack-Transparent Hot-Swap </a:t>
            </a:r>
            <a:r>
              <a:rPr b="1" lang="en-US" sz="1800" spc="-1" strike="noStrike">
                <a:solidFill>
                  <a:srgbClr val="919191"/>
                </a:solidFill>
                <a:latin typeface="GillSans"/>
                <a:ea typeface="GillSans"/>
              </a:rPr>
              <a:t>(MD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919191"/>
                </a:solidFill>
                <a:latin typeface="GillSans"/>
                <a:ea typeface="GillSans"/>
              </a:rPr>
              <a:t>ISDN Sup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Hardware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Standard transport protocols (e.g. TCP) over P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Interoperable with non-SCO systems, routers, I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Enables voice communications &amp; data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spcBef>
                <a:spcPts val="720"/>
              </a:spcBef>
              <a:buClr>
                <a:srgbClr val="618ffd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GillSans"/>
                <a:ea typeface="GillSans"/>
              </a:rPr>
              <a:t>Channel aggregation for increased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04920" y="228600"/>
            <a:ext cx="8610480" cy="14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GillSans"/>
                <a:ea typeface="GillSans"/>
              </a:rPr>
              <a:t>Gemini</a:t>
            </a:r>
            <a:br>
              <a:rPr sz="1800"/>
            </a:br>
            <a:r>
              <a:rPr b="1" lang="en-US" sz="4000" spc="-1" strike="noStrike">
                <a:solidFill>
                  <a:srgbClr val="618ffd"/>
                </a:solidFill>
                <a:latin typeface="GillSans"/>
                <a:ea typeface="GillSans"/>
              </a:rPr>
              <a:t>Network Driver Architecture</a:t>
            </a:r>
            <a:br>
              <a:rPr sz="4000"/>
            </a:br>
            <a:r>
              <a:rPr b="1" lang="en-US" sz="2000" spc="-1" strike="noStrike">
                <a:solidFill>
                  <a:srgbClr val="618ffd"/>
                </a:solidFill>
                <a:latin typeface="GillSans"/>
                <a:ea typeface="GillSans"/>
              </a:rPr>
              <a:t>Leverages OpenServer and UnixWare 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1447920"/>
            <a:ext cx="9142560" cy="4674240"/>
            <a:chOff x="0" y="1447920"/>
            <a:chExt cx="9142560" cy="4674240"/>
          </a:xfrm>
        </p:grpSpPr>
        <p:grpSp>
          <p:nvGrpSpPr>
            <p:cNvPr id="151" name=""/>
            <p:cNvGrpSpPr/>
            <p:nvPr/>
          </p:nvGrpSpPr>
          <p:grpSpPr>
            <a:xfrm>
              <a:off x="0" y="1447920"/>
              <a:ext cx="2819520" cy="4614840"/>
              <a:chOff x="0" y="1447920"/>
              <a:chExt cx="2819520" cy="461484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2274840" y="3352680"/>
                <a:ext cx="544680" cy="381240"/>
                <a:chOff x="2274840" y="3352680"/>
                <a:chExt cx="544680" cy="3812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274840" y="3538440"/>
                  <a:ext cx="544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-64080" bIns="-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585880" y="3352680"/>
                  <a:ext cx="233640" cy="185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585880" y="3538440"/>
                  <a:ext cx="233640" cy="195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 txBox="1"/>
              <p:nvPr/>
            </p:nvSpPr>
            <p:spPr>
              <a:xfrm>
                <a:off x="741240" y="1447920"/>
                <a:ext cx="1303200" cy="1905120"/>
              </a:xfrm>
              <a:prstGeom prst="rect">
                <a:avLst/>
              </a:prstGeom>
              <a:solidFill>
                <a:srgbClr val="f0105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Protoco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Stack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>
                <a:off x="74520" y="3505320"/>
                <a:ext cx="812880" cy="2057400"/>
              </a:xfrm>
              <a:prstGeom prst="rect">
                <a:avLst/>
              </a:prstGeom>
              <a:solidFill>
                <a:srgbClr val="00dfca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DLP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Dri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73200" y="3460680"/>
                <a:ext cx="143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0" y="2751120"/>
                <a:ext cx="733320" cy="79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Unix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W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DLP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55800" y="4119480"/>
                <a:ext cx="1249200" cy="504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28880" y="4119480"/>
                <a:ext cx="1251000" cy="431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55800" y="4119480"/>
                <a:ext cx="1324080" cy="504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1031760" y="3510000"/>
                <a:ext cx="1177920" cy="681120"/>
              </a:xfrm>
              <a:prstGeom prst="rect">
                <a:avLst/>
              </a:prstGeom>
              <a:solidFill>
                <a:srgbClr val="00ae00"/>
              </a:solidFill>
              <a:ln w="25560">
                <a:solidFill>
                  <a:srgbClr val="919191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919191"/>
                    </a:solidFill>
                    <a:latin typeface="GillSans"/>
                    <a:ea typeface="GillSans"/>
                  </a:rPr>
                  <a:t>ODI Shi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1028880" y="4267080"/>
                <a:ext cx="515880" cy="129528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919191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919191"/>
                    </a:solidFill>
                    <a:latin typeface="GillSans"/>
                    <a:ea typeface="GillSans"/>
                  </a:rPr>
                  <a:t>OD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1690560" y="4267080"/>
                <a:ext cx="514440" cy="129528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919191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919191"/>
                    </a:solidFill>
                    <a:latin typeface="GillSans"/>
                    <a:ea typeface="GillSans"/>
                  </a:rPr>
                  <a:t>OD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76320" y="5715000"/>
                <a:ext cx="2133720" cy="347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618ffd"/>
                    </a:solidFill>
                    <a:latin typeface="GillSans"/>
                    <a:ea typeface="GillSans"/>
                  </a:rPr>
                  <a:t>UnixWa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 txBox="1"/>
            <p:nvPr/>
          </p:nvSpPr>
          <p:spPr>
            <a:xfrm>
              <a:off x="6454800" y="4518000"/>
              <a:ext cx="6969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GillSans"/>
                  <a:ea typeface="GillSans"/>
                </a:rPr>
                <a:t>MD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895480" y="1447920"/>
              <a:ext cx="3429000" cy="4674240"/>
              <a:chOff x="2895480" y="1447920"/>
              <a:chExt cx="3429000" cy="4674240"/>
            </a:xfrm>
          </p:grpSpPr>
          <p:sp>
            <p:nvSpPr>
              <p:cNvPr id="169" name=""/>
              <p:cNvSpPr txBox="1"/>
              <p:nvPr/>
            </p:nvSpPr>
            <p:spPr>
              <a:xfrm>
                <a:off x="3798720" y="1447920"/>
                <a:ext cx="1311120" cy="1878120"/>
              </a:xfrm>
              <a:prstGeom prst="rect">
                <a:avLst/>
              </a:prstGeom>
              <a:solidFill>
                <a:srgbClr val="f0105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Protoco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Stack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2960640" y="3505320"/>
                <a:ext cx="1311120" cy="1128600"/>
              </a:xfrm>
              <a:prstGeom prst="rect">
                <a:avLst/>
              </a:prstGeom>
              <a:solidFill>
                <a:srgbClr val="00ae0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DLP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Modu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95480" y="3429000"/>
                <a:ext cx="3429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 txBox="1"/>
              <p:nvPr/>
            </p:nvSpPr>
            <p:spPr>
              <a:xfrm>
                <a:off x="5416560" y="3112920"/>
                <a:ext cx="79524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DLP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895480" y="4726080"/>
                <a:ext cx="129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4133880" y="4549680"/>
                <a:ext cx="69696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MD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2921040" y="4840200"/>
                <a:ext cx="1617480" cy="722160"/>
                <a:chOff x="2921040" y="4840200"/>
                <a:chExt cx="1617480" cy="722160"/>
              </a:xfrm>
            </p:grpSpPr>
            <p:sp>
              <p:nvSpPr>
                <p:cNvPr id="176" name=""/>
                <p:cNvSpPr txBox="1"/>
                <p:nvPr/>
              </p:nvSpPr>
              <p:spPr>
                <a:xfrm>
                  <a:off x="2921040" y="4840200"/>
                  <a:ext cx="441360" cy="722160"/>
                </a:xfrm>
                <a:prstGeom prst="rect">
                  <a:avLst/>
                </a:prstGeom>
                <a:solidFill>
                  <a:srgbClr val="000000"/>
                </a:solidFill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919191"/>
                      </a:solidFill>
                      <a:latin typeface="GillSans"/>
                      <a:ea typeface="GillSans"/>
                    </a:rPr>
                    <a:t>MD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 txBox="1"/>
                <p:nvPr/>
              </p:nvSpPr>
              <p:spPr>
                <a:xfrm>
                  <a:off x="3510000" y="4840200"/>
                  <a:ext cx="441360" cy="722160"/>
                </a:xfrm>
                <a:prstGeom prst="rect">
                  <a:avLst/>
                </a:prstGeom>
                <a:solidFill>
                  <a:srgbClr val="000000"/>
                </a:solidFill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919191"/>
                      </a:solidFill>
                      <a:latin typeface="GillSans"/>
                      <a:ea typeface="GillSans"/>
                    </a:rPr>
                    <a:t>MD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 txBox="1"/>
                <p:nvPr/>
              </p:nvSpPr>
              <p:spPr>
                <a:xfrm>
                  <a:off x="4097160" y="4840200"/>
                  <a:ext cx="441360" cy="722160"/>
                </a:xfrm>
                <a:prstGeom prst="rect">
                  <a:avLst/>
                </a:prstGeom>
                <a:solidFill>
                  <a:srgbClr val="000000"/>
                </a:solidFill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919191"/>
                      </a:solidFill>
                      <a:latin typeface="GillSans"/>
                      <a:ea typeface="GillSans"/>
                    </a:rPr>
                    <a:t>MD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 txBox="1"/>
              <p:nvPr/>
            </p:nvSpPr>
            <p:spPr>
              <a:xfrm>
                <a:off x="4738680" y="4267080"/>
                <a:ext cx="514440" cy="1295280"/>
              </a:xfrm>
              <a:prstGeom prst="rect">
                <a:avLst/>
              </a:prstGeom>
              <a:blipFill rotWithShape="0">
                <a:blip r:embed="rId1"/>
                <a:tile tx="0" ty="0" sx="133018" sy="133018" algn="ctr"/>
              </a:blipFill>
              <a:ln w="25560">
                <a:solidFill>
                  <a:srgbClr val="919191"/>
                </a:solidFill>
                <a:custDash>
                  <a:ds d="198592" sp="198592"/>
                </a:custDash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919191"/>
                    </a:solidFill>
                    <a:latin typeface="GillSans"/>
                    <a:ea typeface="GillSans"/>
                  </a:rPr>
                  <a:t>OD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4343400" y="3505320"/>
                <a:ext cx="990720" cy="685800"/>
              </a:xfrm>
              <a:prstGeom prst="rect">
                <a:avLst/>
              </a:prstGeom>
              <a:solidFill>
                <a:srgbClr val="00ae00"/>
              </a:solidFill>
              <a:ln w="25560">
                <a:solidFill>
                  <a:srgbClr val="919191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919191"/>
                    </a:solidFill>
                    <a:latin typeface="GillSans"/>
                    <a:ea typeface="GillSans"/>
                  </a:rPr>
                  <a:t>ODI Shi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>
                <a:off x="5408640" y="3535200"/>
                <a:ext cx="812880" cy="2027160"/>
              </a:xfrm>
              <a:prstGeom prst="rect">
                <a:avLst/>
              </a:prstGeom>
              <a:blipFill rotWithShape="0">
                <a:blip r:embed="rId2"/>
                <a:tile tx="0" ty="0" sx="133018" sy="133018" algn="ctr"/>
              </a:blipFill>
              <a:ln w="25560">
                <a:solidFill>
                  <a:srgbClr val="000000"/>
                </a:solidFill>
                <a:custDash>
                  <a:ds d="198592" sp="198592"/>
                </a:custDash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DLP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Dri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2895480" y="5638680"/>
                <a:ext cx="3352680" cy="483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618ffd"/>
                    </a:solidFill>
                    <a:latin typeface="GillSans"/>
                    <a:ea typeface="GillSans"/>
                  </a:rPr>
                  <a:t>Gemin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6477120" y="1447920"/>
              <a:ext cx="2665440" cy="4647960"/>
              <a:chOff x="6477120" y="1447920"/>
              <a:chExt cx="2665440" cy="4647960"/>
            </a:xfrm>
          </p:grpSpPr>
          <p:sp>
            <p:nvSpPr>
              <p:cNvPr id="184" name=""/>
              <p:cNvSpPr txBox="1"/>
              <p:nvPr/>
            </p:nvSpPr>
            <p:spPr>
              <a:xfrm>
                <a:off x="7192800" y="1447920"/>
                <a:ext cx="1212840" cy="1878120"/>
              </a:xfrm>
              <a:prstGeom prst="rect">
                <a:avLst/>
              </a:prstGeom>
              <a:solidFill>
                <a:srgbClr val="f0105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Protoco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Stack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7116840" y="3505320"/>
                <a:ext cx="1212840" cy="1128600"/>
              </a:xfrm>
              <a:prstGeom prst="rect">
                <a:avLst/>
              </a:prstGeom>
              <a:solidFill>
                <a:srgbClr val="00ae0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DLP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Modu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058160" y="4726080"/>
                <a:ext cx="133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145280" y="3427560"/>
                <a:ext cx="132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>
                <a:off x="8346960" y="3112920"/>
                <a:ext cx="79524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DLP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6934320" y="4840200"/>
                <a:ext cx="1495080" cy="722160"/>
                <a:chOff x="6934320" y="4840200"/>
                <a:chExt cx="1495080" cy="722160"/>
              </a:xfrm>
            </p:grpSpPr>
            <p:sp>
              <p:nvSpPr>
                <p:cNvPr id="190" name=""/>
                <p:cNvSpPr txBox="1"/>
                <p:nvPr/>
              </p:nvSpPr>
              <p:spPr>
                <a:xfrm>
                  <a:off x="6934320" y="4840200"/>
                  <a:ext cx="407880" cy="722160"/>
                </a:xfrm>
                <a:prstGeom prst="rect">
                  <a:avLst/>
                </a:prstGeom>
                <a:solidFill>
                  <a:srgbClr val="000000"/>
                </a:solidFill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919191"/>
                      </a:solidFill>
                      <a:latin typeface="GillSans"/>
                      <a:ea typeface="GillSans"/>
                    </a:rPr>
                    <a:t>MD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 txBox="1"/>
                <p:nvPr/>
              </p:nvSpPr>
              <p:spPr>
                <a:xfrm>
                  <a:off x="7477200" y="4840200"/>
                  <a:ext cx="407880" cy="722160"/>
                </a:xfrm>
                <a:prstGeom prst="rect">
                  <a:avLst/>
                </a:prstGeom>
                <a:solidFill>
                  <a:srgbClr val="000000"/>
                </a:solidFill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919191"/>
                      </a:solidFill>
                      <a:latin typeface="GillSans"/>
                      <a:ea typeface="GillSans"/>
                    </a:rPr>
                    <a:t>MD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 txBox="1"/>
                <p:nvPr/>
              </p:nvSpPr>
              <p:spPr>
                <a:xfrm>
                  <a:off x="8021520" y="4840200"/>
                  <a:ext cx="407880" cy="722160"/>
                </a:xfrm>
                <a:prstGeom prst="rect">
                  <a:avLst/>
                </a:prstGeom>
                <a:solidFill>
                  <a:srgbClr val="000000"/>
                </a:solidFill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919191"/>
                      </a:solidFill>
                      <a:latin typeface="GillSans"/>
                      <a:ea typeface="GillSans"/>
                    </a:rPr>
                    <a:t>MD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477120" y="3429000"/>
                <a:ext cx="538200" cy="343080"/>
                <a:chOff x="6477120" y="3429000"/>
                <a:chExt cx="538200" cy="343080"/>
              </a:xfrm>
            </p:grpSpPr>
            <p:sp>
              <p:nvSpPr>
                <p:cNvPr id="194" name=""/>
                <p:cNvSpPr/>
                <p:nvPr/>
              </p:nvSpPr>
              <p:spPr>
                <a:xfrm flipH="1">
                  <a:off x="6518160" y="3600360"/>
                  <a:ext cx="497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-64080" bIns="-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>
                  <a:off x="6477120" y="3429000"/>
                  <a:ext cx="214200" cy="169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 flipV="1">
                  <a:off x="6477120" y="3595680"/>
                  <a:ext cx="214200" cy="176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"/>
              <p:cNvSpPr txBox="1"/>
              <p:nvPr/>
            </p:nvSpPr>
            <p:spPr>
              <a:xfrm>
                <a:off x="7086600" y="5715000"/>
                <a:ext cx="19051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618ffd"/>
                    </a:solidFill>
                    <a:latin typeface="GillSans"/>
                    <a:ea typeface="GillSans"/>
                  </a:rPr>
                  <a:t>OpenServ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8534520" y="3535200"/>
                <a:ext cx="608040" cy="2027160"/>
              </a:xfrm>
              <a:prstGeom prst="rect">
                <a:avLst/>
              </a:prstGeom>
              <a:blipFill rotWithShape="0">
                <a:blip r:embed="rId3"/>
                <a:tile tx="0" ty="0" sx="133018" sy="133018" algn="ctr"/>
              </a:blipFill>
              <a:ln w="25560">
                <a:solidFill>
                  <a:srgbClr val="000000"/>
                </a:solidFill>
                <a:custDash>
                  <a:ds d="198592" sp="198592"/>
                </a:custDash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LL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illSans"/>
                    <a:ea typeface="GillSans"/>
                  </a:rPr>
                  <a:t>Driv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0" y="457200"/>
            <a:ext cx="906624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Gemini</a:t>
            </a:r>
            <a:br>
              <a:rPr sz="4000"/>
            </a:b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etwork Interface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3360" y="1930320"/>
            <a:ext cx="90788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8587"/>
              </a:spcBef>
              <a:buClr>
                <a:srgbClr val="0038ef"/>
              </a:buClr>
              <a:buSzPct val="45000"/>
              <a:buFont typeface="CP1252"/>
              <a:buChar char=""/>
              <a:tabLst>
                <a:tab algn="l" pos="343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Featuring Key OpenServer DLPI/MDI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00000"/>
              </a:lnSpc>
              <a:spcBef>
                <a:spcPts val="118587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MDI is strategic network driver interface in Gem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00000"/>
              </a:lnSpc>
              <a:spcBef>
                <a:spcPts val="118587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ll network drivers in Gemini will be MDI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00000"/>
              </a:lnSpc>
              <a:spcBef>
                <a:spcPts val="118587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Gemini network driver certification designed for M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8587"/>
              </a:spcBef>
              <a:buClr>
                <a:srgbClr val="0038ef"/>
              </a:buClr>
              <a:buSzPct val="45000"/>
              <a:buFont typeface="CP1252"/>
              <a:buChar char=""/>
              <a:tabLst>
                <a:tab algn="l" pos="343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Updated DLPI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00000"/>
              </a:lnSpc>
              <a:spcBef>
                <a:spcPts val="118587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Better compliance with X/Open and Open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00000"/>
              </a:lnSpc>
              <a:spcBef>
                <a:spcPts val="118587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Defined for protocol stack development &amp; 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00000"/>
              </a:lnSpc>
              <a:spcBef>
                <a:spcPts val="118587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nd monolithic drivers for uncommon device types  (other than ethernet, fast ethernet, TR, FDDI, ISD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76320" y="152280"/>
            <a:ext cx="9066240" cy="18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Gemini</a:t>
            </a:r>
            <a:br>
              <a:rPr sz="4000"/>
            </a:b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Legacy Network Driver Compat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981080"/>
            <a:ext cx="716292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Binary compatibility with UnixWare 2.x DLPI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587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ome ODI Emulation Carried Forward in Gemi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00000"/>
              </a:lnSpc>
              <a:spcBef>
                <a:spcPts val="118587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Binary compatible with ODI drivers that work on UnixWare 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00000"/>
              </a:lnSpc>
              <a:spcBef>
                <a:spcPts val="118587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Netware binary transmogrification is no longer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00000"/>
              </a:lnSpc>
              <a:spcBef>
                <a:spcPts val="118587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ODI emulation being phase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iki Nakada</dc:creator>
  <dc:description/>
  <dc:language>en-US</dc:language>
  <cp:lastModifiedBy>Niki Nakada</cp:lastModifiedBy>
  <cp:revision>0</cp:revision>
  <dc:subject/>
  <dc:title>Title of Presentation Goes Here</dc:title>
</cp:coreProperties>
</file>