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1EEAB-594D-41F8-9DB1-6D167F370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one option for your presentation title page. Use when only title of presentation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itle and Bullets are in Reflex Blue which are defined as the following HSL numbers  in Power Poi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H:  41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65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  <a:tabLst>
                <a:tab algn="l" pos="685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L: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307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This is another option for your presentation title page when name and title of presenter are desire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3629160" y="6238800"/>
            <a:ext cx="18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SCO’s New C++ Comp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610080" y="6469200"/>
            <a:ext cx="191916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© 1996 SCO  All Rights Reserved - Slide </a:t>
            </a:r>
            <a:fld id="{AAB8545B-B739-4E05-813C-F54A777E59A9}" type="slidenum"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74760" y="5959440"/>
            <a:ext cx="1011240" cy="6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444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0038ef"/>
                </a:solidFill>
                <a:latin typeface="GillSans"/>
                <a:ea typeface="GillSans"/>
              </a:rPr>
              <a:t>SCO’s New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77840"/>
            <a:ext cx="6746760" cy="2468520"/>
          </a:xfrm>
          <a:prstGeom prst="rect">
            <a:avLst/>
          </a:prstGeom>
          <a:solidFill>
            <a:srgbClr val="ffd80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5080" y="1077840"/>
            <a:ext cx="4172040" cy="219384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20960" y="863640"/>
            <a:ext cx="37432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 EA SDK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 C++ Standard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90720" y="198108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tandard Con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EH, RTTI,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exception class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these in namespace s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98108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ld, non-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o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t in namespace s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t in namespace s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 EA SDK 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C++ Standard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98108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Overlap with ANSI/ISO Standard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81080"/>
            <a:ext cx="350532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o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OS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Other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F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Reg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Memory check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C++ Performance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06360" y="1650960"/>
            <a:ext cx="716292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anguage designer nirv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f you don’t use a language feature, you don’t pay for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mplementation must not distribut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 consistent design goal of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virtual functions, multiple inheritance,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ut is it true for exception hand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921040" y="1073160"/>
            <a:ext cx="5851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mplementing Exception 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52560" y="17524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ust find the righ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ust know what objects to destroy when unwind stack to a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“easy 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aintain runtime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rack try blocks, handlers, object lif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one but never released in UnixWare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mplementing C++ Exceptions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27000" y="1549440"/>
            <a:ext cx="7162920" cy="44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“Gemini 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aintain PC range-mapping tables on th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r1 - addr2:  Object A needs 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r2 - addr3:  Also, try block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r3 - addr4:  Now A &amp; B need 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reate new sections to minimize spac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.eh_ranges, .eh_reloc, .eh_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ference:  </a:t>
            </a: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++ Report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, March/April ‘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 primitive EH bench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90720" y="1536840"/>
            <a:ext cx="71629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all this function 1,000,000 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a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out-of-line ctor does 1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.method_call;  // out-of-line, does 1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out-of-line dtor,1 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o far, no EH constructs at all - so this will measure distributed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arning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:  Believing benchmarks may be hazardous to your programming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51800" y="4829040"/>
            <a:ext cx="793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Distributed Overhead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486080"/>
            <a:ext cx="716292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 calls, object creation/destruction, no try block or other EH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easy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4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Gemini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31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disabled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2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ry it </a:t>
            </a: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ithout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 optimization (n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C -O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Gemini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5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disabled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5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Distributed Overhead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1981080"/>
            <a:ext cx="7162920" cy="41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“easy way” has unacceptable degradation even when no EH features use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Gemini way has no degradation when optimization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ut does have some when optimization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an the application programmer do anything to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Exception 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981080"/>
            <a:ext cx="35053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()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o function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estricts exceptions function can 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Helps compiler opt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n this case, removes all indirect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Gemini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 0.26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27000" y="1968480"/>
            <a:ext cx="3505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Limitations of Exception 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346040" y="1803240"/>
            <a:ext cx="6794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ceptions are the best way for constructors to repor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, RTTI, standard library classes will all thro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ottom line:  Don’t make exception specifications narrower than they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47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38ef"/>
                </a:solidFill>
                <a:latin typeface="GillSans"/>
                <a:ea typeface="GillSans"/>
              </a:rPr>
              <a:t>SCO’s New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Jonathan Sch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Software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4400" y="5029200"/>
            <a:ext cx="3276720" cy="1371600"/>
          </a:xfrm>
          <a:prstGeom prst="rect">
            <a:avLst/>
          </a:prstGeom>
          <a:solidFill>
            <a:srgbClr val="ffd80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4400" y="5029200"/>
            <a:ext cx="2438280" cy="1219320"/>
          </a:xfrm>
          <a:prstGeom prst="rect">
            <a:avLst/>
          </a:prstGeom>
          <a:solidFill>
            <a:srgbClr val="0038e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60960" y="4867200"/>
            <a:ext cx="212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ry Block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28880" y="17146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all the function from within a try block, but don’t do any 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is is a typical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 calls, object creation/destruction, try block but no 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easy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79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Gemini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0.39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row and Catch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52560" y="16128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row exception from the method call, catch it within th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 calls, object creation/destruction, try block, exception thrown and ca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easy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5.9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H enabled, Gemini way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17.4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90720" y="1968480"/>
            <a:ext cx="3505320" cy="3733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648320" y="1981080"/>
            <a:ext cx="3505320" cy="401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Gemini EH support has zero-to-small distribut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ry blocks have only minor performanc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ut throws are slow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ave exceptions for exception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A Real-Life Benchmark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How much does EH support co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28880" y="1625760"/>
            <a:ext cx="7162920" cy="42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ublic domain </a:t>
            </a: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mat 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trix algeb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o EH u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Just measuring the distributed overhea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ed penalty without optimization:  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ed penalty with optimization: 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ize penalty with optimization:  1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ut most of this in special EH data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52280" y="228600"/>
            <a:ext cx="88390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e of the C++ Language Standard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Who/What Defines C++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97160" y="1486080"/>
            <a:ext cx="716292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T&amp;T?  No, out of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front compiler?  Once, but no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RM?  No, out of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NSI/ISO Standard?  It will; not ye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Result:  Every compiler implements a different version of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e of the C++ Language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53684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NSI X3J16 / ISO WG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oposed language still undergoing changes ... but is now conv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2nd public review due December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heduled for completion end ‘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9920" y="4083120"/>
            <a:ext cx="348624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52280" y="228600"/>
            <a:ext cx="88390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e of the C++ Language Standard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What’s It Trying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333440" y="1486080"/>
            <a:ext cx="71629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larify/fix exis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emplates, ODR, for loop scop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dd “missing”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TTI, new-style 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utable, bool, international characters, etc.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fy a large standard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52280" y="228600"/>
            <a:ext cx="88390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tate of the C++ Langauge Standard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How Big Is 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09480" y="1576440"/>
            <a:ext cx="4203720" cy="413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978440" y="1879560"/>
            <a:ext cx="3505320" cy="42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upport for three programming paradig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object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ramework library (ST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ew way of specifying data structures,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ither C++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28880" y="15876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andard has been slow in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andard is on the leading (bleeding?) edge of new programm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competition from J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s C++’s day past?   Or can it 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do many things th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... Time will tell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13480" y="4021200"/>
            <a:ext cx="20955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This Session Co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981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O’s existing C++ 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O’s new C++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CO’s C++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erformance implications of C++ exception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tate of the C++ languag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CO’s Existing C++ Compilers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Open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5040" y="2057400"/>
            <a:ext cx="4160880" cy="3083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181480" y="1841400"/>
            <a:ext cx="3505320" cy="37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ased on original Cfront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Release 3.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AT&amp;T =&gt; USL =&gt;Novell =&gt; 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No updates for language since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Cfront has reached the end of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CO’s Existing C++ Compilers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Unix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86080" y="1295280"/>
            <a:ext cx="71629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Versions for UW 1.1, 2.0,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Based on new, non-Cfront compil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front compatibility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Accurate and rel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aster, easier-to-use template insta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CO’s Existing C++ Compilers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UnixWare 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86080" y="1473120"/>
            <a:ext cx="716292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L C-style enhanced asms and prag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recompiled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Pentium, Pentium Pro (P6) specific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ome minor new ANSI/ISO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igraphs, operator keywords,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CO’s New C++ Compi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54080" y="15876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any new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High-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mproved symbolic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03400" y="3317760"/>
            <a:ext cx="2673360" cy="27273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654960" y="3492360"/>
            <a:ext cx="900360" cy="1419480"/>
            <a:chOff x="6654960" y="3492360"/>
            <a:chExt cx="900360" cy="1419480"/>
          </a:xfrm>
        </p:grpSpPr>
        <p:grpSp>
          <p:nvGrpSpPr>
            <p:cNvPr id="148" name=""/>
            <p:cNvGrpSpPr/>
            <p:nvPr/>
          </p:nvGrpSpPr>
          <p:grpSpPr>
            <a:xfrm>
              <a:off x="6757920" y="3492360"/>
              <a:ext cx="540000" cy="714960"/>
              <a:chOff x="6757920" y="3492360"/>
              <a:chExt cx="540000" cy="7149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6757920" y="3492360"/>
                <a:ext cx="540000" cy="610200"/>
                <a:chOff x="6757920" y="3492360"/>
                <a:chExt cx="540000" cy="6102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6757920" y="3492360"/>
                  <a:ext cx="540000" cy="592560"/>
                  <a:chOff x="6757920" y="3492360"/>
                  <a:chExt cx="540000" cy="5925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6757920" y="3492360"/>
                    <a:ext cx="540000" cy="592560"/>
                  </a:xfrm>
                  <a:custGeom>
                    <a:avLst/>
                    <a:gdLst/>
                    <a:ahLst/>
                    <a:rect l="0" t="0" r="r" b="b"/>
                    <a:pathLst>
                      <a:path w="1500" h="1646">
                        <a:moveTo>
                          <a:pt x="93" y="387"/>
                        </a:moveTo>
                        <a:lnTo>
                          <a:pt x="58" y="460"/>
                        </a:lnTo>
                        <a:lnTo>
                          <a:pt x="18" y="551"/>
                        </a:lnTo>
                        <a:lnTo>
                          <a:pt x="0" y="611"/>
                        </a:lnTo>
                        <a:lnTo>
                          <a:pt x="0" y="694"/>
                        </a:lnTo>
                        <a:lnTo>
                          <a:pt x="0" y="765"/>
                        </a:lnTo>
                        <a:lnTo>
                          <a:pt x="10" y="806"/>
                        </a:lnTo>
                        <a:lnTo>
                          <a:pt x="23" y="892"/>
                        </a:lnTo>
                        <a:lnTo>
                          <a:pt x="42" y="969"/>
                        </a:lnTo>
                        <a:lnTo>
                          <a:pt x="69" y="1073"/>
                        </a:lnTo>
                        <a:lnTo>
                          <a:pt x="95" y="1172"/>
                        </a:lnTo>
                        <a:lnTo>
                          <a:pt x="141" y="1267"/>
                        </a:lnTo>
                        <a:lnTo>
                          <a:pt x="186" y="1443"/>
                        </a:lnTo>
                        <a:lnTo>
                          <a:pt x="197" y="1646"/>
                        </a:lnTo>
                        <a:lnTo>
                          <a:pt x="340" y="1619"/>
                        </a:lnTo>
                        <a:lnTo>
                          <a:pt x="524" y="1591"/>
                        </a:lnTo>
                        <a:lnTo>
                          <a:pt x="770" y="1564"/>
                        </a:lnTo>
                        <a:lnTo>
                          <a:pt x="1321" y="1481"/>
                        </a:lnTo>
                        <a:lnTo>
                          <a:pt x="1500" y="1503"/>
                        </a:lnTo>
                        <a:lnTo>
                          <a:pt x="1481" y="1325"/>
                        </a:lnTo>
                        <a:lnTo>
                          <a:pt x="1452" y="1128"/>
                        </a:lnTo>
                        <a:lnTo>
                          <a:pt x="1447" y="1015"/>
                        </a:lnTo>
                        <a:lnTo>
                          <a:pt x="1431" y="892"/>
                        </a:lnTo>
                        <a:lnTo>
                          <a:pt x="1396" y="776"/>
                        </a:lnTo>
                        <a:lnTo>
                          <a:pt x="1345" y="666"/>
                        </a:lnTo>
                        <a:lnTo>
                          <a:pt x="1300" y="531"/>
                        </a:lnTo>
                        <a:lnTo>
                          <a:pt x="1239" y="371"/>
                        </a:lnTo>
                        <a:lnTo>
                          <a:pt x="1140" y="209"/>
                        </a:lnTo>
                        <a:lnTo>
                          <a:pt x="962" y="71"/>
                        </a:lnTo>
                        <a:lnTo>
                          <a:pt x="799" y="13"/>
                        </a:lnTo>
                        <a:lnTo>
                          <a:pt x="625" y="0"/>
                        </a:lnTo>
                        <a:lnTo>
                          <a:pt x="492" y="0"/>
                        </a:lnTo>
                        <a:lnTo>
                          <a:pt x="330" y="52"/>
                        </a:lnTo>
                        <a:lnTo>
                          <a:pt x="226" y="132"/>
                        </a:lnTo>
                        <a:lnTo>
                          <a:pt x="154" y="233"/>
                        </a:lnTo>
                        <a:lnTo>
                          <a:pt x="154" y="341"/>
                        </a:lnTo>
                        <a:lnTo>
                          <a:pt x="93" y="387"/>
                        </a:lnTo>
                        <a:close/>
                      </a:path>
                    </a:pathLst>
                  </a:custGeom>
                  <a:solidFill>
                    <a:srgbClr val="603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761160" y="3513240"/>
                    <a:ext cx="513000" cy="552600"/>
                    <a:chOff x="6761160" y="3513240"/>
                    <a:chExt cx="513000" cy="55260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761160" y="3641760"/>
                      <a:ext cx="187560" cy="4240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1178">
                          <a:moveTo>
                            <a:pt x="51" y="103"/>
                          </a:moveTo>
                          <a:lnTo>
                            <a:pt x="22" y="184"/>
                          </a:lnTo>
                          <a:lnTo>
                            <a:pt x="0" y="271"/>
                          </a:lnTo>
                          <a:lnTo>
                            <a:pt x="12" y="355"/>
                          </a:lnTo>
                          <a:lnTo>
                            <a:pt x="22" y="453"/>
                          </a:lnTo>
                          <a:lnTo>
                            <a:pt x="56" y="534"/>
                          </a:lnTo>
                          <a:lnTo>
                            <a:pt x="91" y="641"/>
                          </a:lnTo>
                          <a:lnTo>
                            <a:pt x="112" y="730"/>
                          </a:lnTo>
                          <a:lnTo>
                            <a:pt x="150" y="801"/>
                          </a:lnTo>
                          <a:lnTo>
                            <a:pt x="209" y="977"/>
                          </a:lnTo>
                          <a:lnTo>
                            <a:pt x="234" y="1091"/>
                          </a:lnTo>
                          <a:lnTo>
                            <a:pt x="229" y="1178"/>
                          </a:lnTo>
                          <a:lnTo>
                            <a:pt x="401" y="1170"/>
                          </a:lnTo>
                          <a:lnTo>
                            <a:pt x="521" y="1145"/>
                          </a:lnTo>
                          <a:lnTo>
                            <a:pt x="480" y="1018"/>
                          </a:lnTo>
                          <a:lnTo>
                            <a:pt x="216" y="203"/>
                          </a:lnTo>
                          <a:lnTo>
                            <a:pt x="257" y="225"/>
                          </a:lnTo>
                          <a:lnTo>
                            <a:pt x="244" y="195"/>
                          </a:lnTo>
                          <a:lnTo>
                            <a:pt x="296" y="206"/>
                          </a:lnTo>
                          <a:lnTo>
                            <a:pt x="214" y="146"/>
                          </a:lnTo>
                          <a:lnTo>
                            <a:pt x="188" y="108"/>
                          </a:lnTo>
                          <a:lnTo>
                            <a:pt x="127" y="70"/>
                          </a:lnTo>
                          <a:lnTo>
                            <a:pt x="107" y="0"/>
                          </a:lnTo>
                          <a:lnTo>
                            <a:pt x="68" y="37"/>
                          </a:lnTo>
                          <a:lnTo>
                            <a:pt x="51" y="103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816600" y="3513240"/>
                      <a:ext cx="457560" cy="513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71" h="1425">
                          <a:moveTo>
                            <a:pt x="23" y="198"/>
                          </a:moveTo>
                          <a:lnTo>
                            <a:pt x="10" y="307"/>
                          </a:lnTo>
                          <a:lnTo>
                            <a:pt x="0" y="383"/>
                          </a:lnTo>
                          <a:lnTo>
                            <a:pt x="75" y="451"/>
                          </a:lnTo>
                          <a:lnTo>
                            <a:pt x="167" y="483"/>
                          </a:lnTo>
                          <a:lnTo>
                            <a:pt x="229" y="502"/>
                          </a:lnTo>
                          <a:lnTo>
                            <a:pt x="287" y="530"/>
                          </a:lnTo>
                          <a:lnTo>
                            <a:pt x="250" y="486"/>
                          </a:lnTo>
                          <a:lnTo>
                            <a:pt x="331" y="470"/>
                          </a:lnTo>
                          <a:lnTo>
                            <a:pt x="436" y="443"/>
                          </a:lnTo>
                          <a:lnTo>
                            <a:pt x="344" y="418"/>
                          </a:lnTo>
                          <a:lnTo>
                            <a:pt x="475" y="410"/>
                          </a:lnTo>
                          <a:lnTo>
                            <a:pt x="397" y="369"/>
                          </a:lnTo>
                          <a:lnTo>
                            <a:pt x="572" y="375"/>
                          </a:lnTo>
                          <a:lnTo>
                            <a:pt x="527" y="328"/>
                          </a:lnTo>
                          <a:lnTo>
                            <a:pt x="662" y="391"/>
                          </a:lnTo>
                          <a:lnTo>
                            <a:pt x="714" y="551"/>
                          </a:lnTo>
                          <a:lnTo>
                            <a:pt x="779" y="657"/>
                          </a:lnTo>
                          <a:lnTo>
                            <a:pt x="842" y="756"/>
                          </a:lnTo>
                          <a:lnTo>
                            <a:pt x="858" y="684"/>
                          </a:lnTo>
                          <a:lnTo>
                            <a:pt x="847" y="600"/>
                          </a:lnTo>
                          <a:lnTo>
                            <a:pt x="805" y="470"/>
                          </a:lnTo>
                          <a:lnTo>
                            <a:pt x="886" y="611"/>
                          </a:lnTo>
                          <a:lnTo>
                            <a:pt x="842" y="440"/>
                          </a:lnTo>
                          <a:lnTo>
                            <a:pt x="811" y="361"/>
                          </a:lnTo>
                          <a:lnTo>
                            <a:pt x="879" y="424"/>
                          </a:lnTo>
                          <a:lnTo>
                            <a:pt x="926" y="570"/>
                          </a:lnTo>
                          <a:lnTo>
                            <a:pt x="986" y="598"/>
                          </a:lnTo>
                          <a:lnTo>
                            <a:pt x="1025" y="655"/>
                          </a:lnTo>
                          <a:lnTo>
                            <a:pt x="1054" y="740"/>
                          </a:lnTo>
                          <a:lnTo>
                            <a:pt x="1033" y="838"/>
                          </a:lnTo>
                          <a:lnTo>
                            <a:pt x="1048" y="990"/>
                          </a:lnTo>
                          <a:lnTo>
                            <a:pt x="1054" y="1305"/>
                          </a:lnTo>
                          <a:lnTo>
                            <a:pt x="1051" y="1398"/>
                          </a:lnTo>
                          <a:lnTo>
                            <a:pt x="1153" y="1398"/>
                          </a:lnTo>
                          <a:lnTo>
                            <a:pt x="1271" y="1425"/>
                          </a:lnTo>
                          <a:lnTo>
                            <a:pt x="1208" y="1091"/>
                          </a:lnTo>
                          <a:lnTo>
                            <a:pt x="1203" y="859"/>
                          </a:lnTo>
                          <a:lnTo>
                            <a:pt x="1156" y="682"/>
                          </a:lnTo>
                          <a:lnTo>
                            <a:pt x="1103" y="568"/>
                          </a:lnTo>
                          <a:lnTo>
                            <a:pt x="1048" y="399"/>
                          </a:lnTo>
                          <a:lnTo>
                            <a:pt x="983" y="247"/>
                          </a:lnTo>
                          <a:lnTo>
                            <a:pt x="912" y="187"/>
                          </a:lnTo>
                          <a:lnTo>
                            <a:pt x="821" y="106"/>
                          </a:lnTo>
                          <a:lnTo>
                            <a:pt x="696" y="46"/>
                          </a:lnTo>
                          <a:lnTo>
                            <a:pt x="572" y="5"/>
                          </a:lnTo>
                          <a:lnTo>
                            <a:pt x="423" y="0"/>
                          </a:lnTo>
                          <a:lnTo>
                            <a:pt x="276" y="10"/>
                          </a:lnTo>
                          <a:lnTo>
                            <a:pt x="159" y="65"/>
                          </a:lnTo>
                          <a:lnTo>
                            <a:pt x="81" y="116"/>
                          </a:lnTo>
                          <a:lnTo>
                            <a:pt x="23" y="198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815160" y="3656160"/>
                  <a:ext cx="376560" cy="446400"/>
                  <a:chOff x="6815160" y="3656160"/>
                  <a:chExt cx="376560" cy="4464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6815160" y="3656160"/>
                    <a:ext cx="376560" cy="44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046" h="1240">
                        <a:moveTo>
                          <a:pt x="18" y="190"/>
                        </a:moveTo>
                        <a:lnTo>
                          <a:pt x="0" y="371"/>
                        </a:lnTo>
                        <a:lnTo>
                          <a:pt x="13" y="468"/>
                        </a:lnTo>
                        <a:lnTo>
                          <a:pt x="53" y="567"/>
                        </a:lnTo>
                        <a:lnTo>
                          <a:pt x="63" y="656"/>
                        </a:lnTo>
                        <a:lnTo>
                          <a:pt x="82" y="741"/>
                        </a:lnTo>
                        <a:lnTo>
                          <a:pt x="109" y="796"/>
                        </a:lnTo>
                        <a:lnTo>
                          <a:pt x="156" y="849"/>
                        </a:lnTo>
                        <a:lnTo>
                          <a:pt x="199" y="906"/>
                        </a:lnTo>
                        <a:lnTo>
                          <a:pt x="247" y="967"/>
                        </a:lnTo>
                        <a:lnTo>
                          <a:pt x="292" y="1019"/>
                        </a:lnTo>
                        <a:lnTo>
                          <a:pt x="348" y="1077"/>
                        </a:lnTo>
                        <a:lnTo>
                          <a:pt x="412" y="1146"/>
                        </a:lnTo>
                        <a:lnTo>
                          <a:pt x="462" y="1182"/>
                        </a:lnTo>
                        <a:lnTo>
                          <a:pt x="515" y="1218"/>
                        </a:lnTo>
                        <a:lnTo>
                          <a:pt x="572" y="1240"/>
                        </a:lnTo>
                        <a:lnTo>
                          <a:pt x="615" y="1240"/>
                        </a:lnTo>
                        <a:lnTo>
                          <a:pt x="660" y="1229"/>
                        </a:lnTo>
                        <a:lnTo>
                          <a:pt x="711" y="1196"/>
                        </a:lnTo>
                        <a:lnTo>
                          <a:pt x="774" y="1152"/>
                        </a:lnTo>
                        <a:lnTo>
                          <a:pt x="862" y="1033"/>
                        </a:lnTo>
                        <a:lnTo>
                          <a:pt x="937" y="904"/>
                        </a:lnTo>
                        <a:lnTo>
                          <a:pt x="966" y="838"/>
                        </a:lnTo>
                        <a:lnTo>
                          <a:pt x="979" y="761"/>
                        </a:lnTo>
                        <a:lnTo>
                          <a:pt x="984" y="639"/>
                        </a:lnTo>
                        <a:lnTo>
                          <a:pt x="984" y="542"/>
                        </a:lnTo>
                        <a:lnTo>
                          <a:pt x="1011" y="514"/>
                        </a:lnTo>
                        <a:lnTo>
                          <a:pt x="1030" y="459"/>
                        </a:lnTo>
                        <a:lnTo>
                          <a:pt x="1040" y="413"/>
                        </a:lnTo>
                        <a:lnTo>
                          <a:pt x="1046" y="341"/>
                        </a:lnTo>
                        <a:lnTo>
                          <a:pt x="1024" y="286"/>
                        </a:lnTo>
                        <a:lnTo>
                          <a:pt x="984" y="228"/>
                        </a:lnTo>
                        <a:lnTo>
                          <a:pt x="931" y="220"/>
                        </a:lnTo>
                        <a:lnTo>
                          <a:pt x="907" y="269"/>
                        </a:lnTo>
                        <a:lnTo>
                          <a:pt x="870" y="404"/>
                        </a:lnTo>
                        <a:lnTo>
                          <a:pt x="774" y="280"/>
                        </a:lnTo>
                        <a:lnTo>
                          <a:pt x="716" y="206"/>
                        </a:lnTo>
                        <a:lnTo>
                          <a:pt x="671" y="118"/>
                        </a:lnTo>
                        <a:lnTo>
                          <a:pt x="647" y="52"/>
                        </a:lnTo>
                        <a:lnTo>
                          <a:pt x="612" y="16"/>
                        </a:lnTo>
                        <a:lnTo>
                          <a:pt x="543" y="0"/>
                        </a:lnTo>
                        <a:lnTo>
                          <a:pt x="505" y="19"/>
                        </a:lnTo>
                        <a:lnTo>
                          <a:pt x="460" y="60"/>
                        </a:lnTo>
                        <a:lnTo>
                          <a:pt x="396" y="85"/>
                        </a:lnTo>
                        <a:lnTo>
                          <a:pt x="295" y="104"/>
                        </a:lnTo>
                        <a:lnTo>
                          <a:pt x="308" y="132"/>
                        </a:lnTo>
                        <a:lnTo>
                          <a:pt x="420" y="178"/>
                        </a:lnTo>
                        <a:lnTo>
                          <a:pt x="305" y="154"/>
                        </a:lnTo>
                        <a:lnTo>
                          <a:pt x="234" y="118"/>
                        </a:lnTo>
                        <a:lnTo>
                          <a:pt x="132" y="126"/>
                        </a:lnTo>
                        <a:lnTo>
                          <a:pt x="300" y="242"/>
                        </a:lnTo>
                        <a:lnTo>
                          <a:pt x="93" y="148"/>
                        </a:lnTo>
                        <a:lnTo>
                          <a:pt x="212" y="234"/>
                        </a:lnTo>
                        <a:lnTo>
                          <a:pt x="31" y="165"/>
                        </a:lnTo>
                        <a:lnTo>
                          <a:pt x="119" y="239"/>
                        </a:lnTo>
                        <a:lnTo>
                          <a:pt x="18" y="19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12600">
                    <a:solidFill>
                      <a:srgbClr val="402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6831000" y="3749760"/>
                    <a:ext cx="339840" cy="276480"/>
                    <a:chOff x="6831000" y="3749760"/>
                    <a:chExt cx="339840" cy="27648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149960" y="3749760"/>
                      <a:ext cx="20880" cy="71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" h="199">
                          <a:moveTo>
                            <a:pt x="0" y="48"/>
                          </a:moveTo>
                          <a:lnTo>
                            <a:pt x="9" y="2"/>
                          </a:lnTo>
                          <a:lnTo>
                            <a:pt x="24" y="0"/>
                          </a:lnTo>
                          <a:lnTo>
                            <a:pt x="56" y="48"/>
                          </a:lnTo>
                          <a:lnTo>
                            <a:pt x="58" y="123"/>
                          </a:lnTo>
                          <a:lnTo>
                            <a:pt x="48" y="191"/>
                          </a:lnTo>
                          <a:lnTo>
                            <a:pt x="35" y="199"/>
                          </a:lnTo>
                          <a:lnTo>
                            <a:pt x="52" y="143"/>
                          </a:lnTo>
                          <a:lnTo>
                            <a:pt x="50" y="83"/>
                          </a:lnTo>
                          <a:lnTo>
                            <a:pt x="35" y="48"/>
                          </a:lnTo>
                          <a:lnTo>
                            <a:pt x="0" y="48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6831000" y="3755880"/>
                      <a:ext cx="219600" cy="270360"/>
                      <a:chOff x="6831000" y="3755880"/>
                      <a:chExt cx="219600" cy="270360"/>
                    </a:xfrm>
                  </p:grpSpPr>
                  <p:grpSp>
                    <p:nvGrpSpPr>
                      <p:cNvPr id="160" name=""/>
                      <p:cNvGrpSpPr/>
                      <p:nvPr/>
                    </p:nvGrpSpPr>
                    <p:grpSpPr>
                      <a:xfrm>
                        <a:off x="6848640" y="3798720"/>
                        <a:ext cx="190800" cy="87840"/>
                        <a:chOff x="6848640" y="3798720"/>
                        <a:chExt cx="190800" cy="87840"/>
                      </a:xfrm>
                    </p:grpSpPr>
                    <p:grpSp>
                      <p:nvGrpSpPr>
                        <p:cNvPr id="161" name=""/>
                        <p:cNvGrpSpPr/>
                        <p:nvPr/>
                      </p:nvGrpSpPr>
                      <p:grpSpPr>
                        <a:xfrm>
                          <a:off x="6969240" y="3798720"/>
                          <a:ext cx="70200" cy="38520"/>
                          <a:chOff x="6969240" y="3798720"/>
                          <a:chExt cx="70200" cy="38520"/>
                        </a:xfrm>
                      </p:grpSpPr>
                      <p:sp>
                        <p:nvSpPr>
                          <p:cNvPr id="162" name=""/>
                          <p:cNvSpPr/>
                          <p:nvPr/>
                        </p:nvSpPr>
                        <p:spPr>
                          <a:xfrm>
                            <a:off x="6969240" y="3798720"/>
                            <a:ext cx="7020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95" h="107">
                                <a:moveTo>
                                  <a:pt x="0" y="96"/>
                                </a:moveTo>
                                <a:lnTo>
                                  <a:pt x="31" y="105"/>
                                </a:lnTo>
                                <a:lnTo>
                                  <a:pt x="61" y="107"/>
                                </a:lnTo>
                                <a:lnTo>
                                  <a:pt x="90" y="105"/>
                                </a:lnTo>
                                <a:lnTo>
                                  <a:pt x="123" y="88"/>
                                </a:lnTo>
                                <a:lnTo>
                                  <a:pt x="149" y="65"/>
                                </a:lnTo>
                                <a:lnTo>
                                  <a:pt x="163" y="37"/>
                                </a:lnTo>
                                <a:lnTo>
                                  <a:pt x="195" y="2"/>
                                </a:lnTo>
                                <a:lnTo>
                                  <a:pt x="147" y="0"/>
                                </a:lnTo>
                                <a:lnTo>
                                  <a:pt x="104" y="5"/>
                                </a:lnTo>
                                <a:lnTo>
                                  <a:pt x="53" y="13"/>
                                </a:lnTo>
                                <a:lnTo>
                                  <a:pt x="26" y="45"/>
                                </a:lnTo>
                                <a:lnTo>
                                  <a:pt x="15" y="70"/>
                                </a:lnTo>
                                <a:lnTo>
                                  <a:pt x="0" y="9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2600">
                            <a:solidFill>
                              <a:srgbClr val="402000"/>
                            </a:solidFill>
                            <a:round/>
                          </a:ln>
                        </p:spPr>
                        <p:txBody>
                          <a:bodyPr lIns="96120" rIns="96120" tIns="-12600" bIns="-1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" name=""/>
                          <p:cNvSpPr/>
                          <p:nvPr/>
                        </p:nvSpPr>
                        <p:spPr>
                          <a:xfrm>
                            <a:off x="6985080" y="3803760"/>
                            <a:ext cx="23760" cy="25560"/>
                          </a:xfrm>
                          <a:prstGeom prst="ellipse">
                            <a:avLst/>
                          </a:prstGeom>
                          <a:solidFill>
                            <a:srgbClr val="00c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9440" bIns="-19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" name=""/>
                          <p:cNvSpPr/>
                          <p:nvPr/>
                        </p:nvSpPr>
                        <p:spPr>
                          <a:xfrm>
                            <a:off x="6994440" y="3816360"/>
                            <a:ext cx="7920" cy="79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6969240" y="3798720"/>
                            <a:ext cx="63720" cy="27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77" h="76">
                                <a:moveTo>
                                  <a:pt x="0" y="76"/>
                                </a:moveTo>
                                <a:lnTo>
                                  <a:pt x="30" y="62"/>
                                </a:lnTo>
                                <a:lnTo>
                                  <a:pt x="51" y="46"/>
                                </a:lnTo>
                                <a:lnTo>
                                  <a:pt x="76" y="30"/>
                                </a:lnTo>
                                <a:lnTo>
                                  <a:pt x="112" y="16"/>
                                </a:lnTo>
                                <a:lnTo>
                                  <a:pt x="177" y="2"/>
                                </a:lnTo>
                                <a:lnTo>
                                  <a:pt x="126" y="2"/>
                                </a:lnTo>
                                <a:lnTo>
                                  <a:pt x="91" y="0"/>
                                </a:lnTo>
                                <a:lnTo>
                                  <a:pt x="51" y="10"/>
                                </a:lnTo>
                                <a:lnTo>
                                  <a:pt x="23" y="34"/>
                                </a:lnTo>
                                <a:lnTo>
                                  <a:pt x="11" y="58"/>
                                </a:lnTo>
                                <a:lnTo>
                                  <a:pt x="0" y="7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7640" bIns="-17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6" name=""/>
                        <p:cNvGrpSpPr/>
                        <p:nvPr/>
                      </p:nvGrpSpPr>
                      <p:grpSpPr>
                        <a:xfrm>
                          <a:off x="6848640" y="3851280"/>
                          <a:ext cx="68760" cy="35280"/>
                          <a:chOff x="6848640" y="3851280"/>
                          <a:chExt cx="68760" cy="35280"/>
                        </a:xfrm>
                      </p:grpSpPr>
                      <p:sp>
                        <p:nvSpPr>
                          <p:cNvPr id="167" name=""/>
                          <p:cNvSpPr/>
                          <p:nvPr/>
                        </p:nvSpPr>
                        <p:spPr>
                          <a:xfrm>
                            <a:off x="6848640" y="3851280"/>
                            <a:ext cx="6876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91" h="98">
                                <a:moveTo>
                                  <a:pt x="0" y="58"/>
                                </a:moveTo>
                                <a:lnTo>
                                  <a:pt x="32" y="69"/>
                                </a:lnTo>
                                <a:lnTo>
                                  <a:pt x="65" y="95"/>
                                </a:lnTo>
                                <a:lnTo>
                                  <a:pt x="102" y="98"/>
                                </a:lnTo>
                                <a:lnTo>
                                  <a:pt x="137" y="78"/>
                                </a:lnTo>
                                <a:lnTo>
                                  <a:pt x="159" y="42"/>
                                </a:lnTo>
                                <a:lnTo>
                                  <a:pt x="191" y="19"/>
                                </a:lnTo>
                                <a:lnTo>
                                  <a:pt x="121" y="0"/>
                                </a:lnTo>
                                <a:lnTo>
                                  <a:pt x="73" y="0"/>
                                </a:lnTo>
                                <a:lnTo>
                                  <a:pt x="37" y="25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2600">
                            <a:solidFill>
                              <a:srgbClr val="402000"/>
                            </a:solidFill>
                            <a:round/>
                          </a:ln>
                        </p:spPr>
                        <p:txBody>
                          <a:bodyPr lIns="96120" rIns="96120" tIns="-15840" bIns="-15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8" name=""/>
                          <p:cNvSpPr/>
                          <p:nvPr/>
                        </p:nvSpPr>
                        <p:spPr>
                          <a:xfrm>
                            <a:off x="6867360" y="3852720"/>
                            <a:ext cx="25560" cy="23760"/>
                          </a:xfrm>
                          <a:prstGeom prst="ellipse">
                            <a:avLst/>
                          </a:prstGeom>
                          <a:solidFill>
                            <a:srgbClr val="00c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9" name=""/>
                          <p:cNvSpPr/>
                          <p:nvPr/>
                        </p:nvSpPr>
                        <p:spPr>
                          <a:xfrm>
                            <a:off x="6877080" y="3863880"/>
                            <a:ext cx="6480" cy="79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0" name=""/>
                          <p:cNvSpPr/>
                          <p:nvPr/>
                        </p:nvSpPr>
                        <p:spPr>
                          <a:xfrm>
                            <a:off x="6848640" y="3851280"/>
                            <a:ext cx="60840" cy="14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69" h="41">
                                <a:moveTo>
                                  <a:pt x="0" y="38"/>
                                </a:moveTo>
                                <a:lnTo>
                                  <a:pt x="30" y="41"/>
                                </a:lnTo>
                                <a:lnTo>
                                  <a:pt x="56" y="26"/>
                                </a:lnTo>
                                <a:lnTo>
                                  <a:pt x="84" y="21"/>
                                </a:lnTo>
                                <a:lnTo>
                                  <a:pt x="115" y="16"/>
                                </a:lnTo>
                                <a:lnTo>
                                  <a:pt x="169" y="14"/>
                                </a:lnTo>
                                <a:lnTo>
                                  <a:pt x="117" y="1"/>
                                </a:lnTo>
                                <a:lnTo>
                                  <a:pt x="63" y="0"/>
                                </a:lnTo>
                                <a:lnTo>
                                  <a:pt x="23" y="23"/>
                                </a:lnTo>
                                <a:lnTo>
                                  <a:pt x="0" y="3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0240" bIns="-30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6831000" y="3755880"/>
                        <a:ext cx="219600" cy="270360"/>
                        <a:chOff x="6831000" y="3755880"/>
                        <a:chExt cx="219600" cy="27036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6945480" y="3755880"/>
                          <a:ext cx="95760" cy="478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66" h="133">
                              <a:moveTo>
                                <a:pt x="19" y="97"/>
                              </a:moveTo>
                              <a:lnTo>
                                <a:pt x="0" y="133"/>
                              </a:lnTo>
                              <a:lnTo>
                                <a:pt x="29" y="133"/>
                              </a:lnTo>
                              <a:lnTo>
                                <a:pt x="54" y="104"/>
                              </a:lnTo>
                              <a:lnTo>
                                <a:pt x="92" y="71"/>
                              </a:lnTo>
                              <a:lnTo>
                                <a:pt x="127" y="51"/>
                              </a:lnTo>
                              <a:lnTo>
                                <a:pt x="266" y="0"/>
                              </a:lnTo>
                              <a:lnTo>
                                <a:pt x="109" y="37"/>
                              </a:lnTo>
                              <a:lnTo>
                                <a:pt x="59" y="63"/>
                              </a:lnTo>
                              <a:lnTo>
                                <a:pt x="19" y="9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6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2880" bIns="2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6831000" y="3814920"/>
                          <a:ext cx="68760" cy="9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91" h="27">
                              <a:moveTo>
                                <a:pt x="172" y="3"/>
                              </a:moveTo>
                              <a:lnTo>
                                <a:pt x="191" y="14"/>
                              </a:lnTo>
                              <a:lnTo>
                                <a:pt x="184" y="27"/>
                              </a:lnTo>
                              <a:lnTo>
                                <a:pt x="155" y="14"/>
                              </a:lnTo>
                              <a:lnTo>
                                <a:pt x="101" y="15"/>
                              </a:lnTo>
                              <a:lnTo>
                                <a:pt x="0" y="27"/>
                              </a:lnTo>
                              <a:lnTo>
                                <a:pt x="92" y="7"/>
                              </a:lnTo>
                              <a:lnTo>
                                <a:pt x="137" y="0"/>
                              </a:lnTo>
                              <a:lnTo>
                                <a:pt x="172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6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6943680" y="3925800"/>
                          <a:ext cx="54360" cy="27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51" h="76">
                              <a:moveTo>
                                <a:pt x="0" y="46"/>
                              </a:moveTo>
                              <a:lnTo>
                                <a:pt x="36" y="48"/>
                              </a:lnTo>
                              <a:lnTo>
                                <a:pt x="70" y="46"/>
                              </a:lnTo>
                              <a:lnTo>
                                <a:pt x="100" y="30"/>
                              </a:lnTo>
                              <a:lnTo>
                                <a:pt x="121" y="6"/>
                              </a:lnTo>
                              <a:lnTo>
                                <a:pt x="151" y="0"/>
                              </a:lnTo>
                              <a:lnTo>
                                <a:pt x="142" y="14"/>
                              </a:lnTo>
                              <a:lnTo>
                                <a:pt x="121" y="28"/>
                              </a:lnTo>
                              <a:lnTo>
                                <a:pt x="109" y="62"/>
                              </a:lnTo>
                              <a:lnTo>
                                <a:pt x="93" y="74"/>
                              </a:lnTo>
                              <a:lnTo>
                                <a:pt x="65" y="76"/>
                              </a:lnTo>
                              <a:lnTo>
                                <a:pt x="44" y="70"/>
                              </a:lnTo>
                              <a:lnTo>
                                <a:pt x="0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6962760" y="3978360"/>
                          <a:ext cx="87840" cy="32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44" h="89">
                              <a:moveTo>
                                <a:pt x="0" y="68"/>
                              </a:moveTo>
                              <a:lnTo>
                                <a:pt x="21" y="73"/>
                              </a:lnTo>
                              <a:lnTo>
                                <a:pt x="31" y="50"/>
                              </a:lnTo>
                              <a:lnTo>
                                <a:pt x="52" y="33"/>
                              </a:lnTo>
                              <a:lnTo>
                                <a:pt x="73" y="31"/>
                              </a:lnTo>
                              <a:lnTo>
                                <a:pt x="92" y="15"/>
                              </a:lnTo>
                              <a:lnTo>
                                <a:pt x="116" y="9"/>
                              </a:lnTo>
                              <a:lnTo>
                                <a:pt x="157" y="13"/>
                              </a:lnTo>
                              <a:lnTo>
                                <a:pt x="208" y="9"/>
                              </a:lnTo>
                              <a:lnTo>
                                <a:pt x="230" y="0"/>
                              </a:lnTo>
                              <a:lnTo>
                                <a:pt x="244" y="13"/>
                              </a:lnTo>
                              <a:lnTo>
                                <a:pt x="118" y="40"/>
                              </a:lnTo>
                              <a:lnTo>
                                <a:pt x="97" y="59"/>
                              </a:lnTo>
                              <a:lnTo>
                                <a:pt x="52" y="68"/>
                              </a:lnTo>
                              <a:lnTo>
                                <a:pt x="31" y="80"/>
                              </a:lnTo>
                              <a:lnTo>
                                <a:pt x="24" y="89"/>
                              </a:lnTo>
                              <a:lnTo>
                                <a:pt x="0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4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6994440" y="4016520"/>
                          <a:ext cx="25920" cy="9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" h="27">
                              <a:moveTo>
                                <a:pt x="0" y="19"/>
                              </a:moveTo>
                              <a:lnTo>
                                <a:pt x="26" y="17"/>
                              </a:lnTo>
                              <a:lnTo>
                                <a:pt x="42" y="11"/>
                              </a:lnTo>
                              <a:lnTo>
                                <a:pt x="72" y="0"/>
                              </a:lnTo>
                              <a:lnTo>
                                <a:pt x="48" y="22"/>
                              </a:lnTo>
                              <a:lnTo>
                                <a:pt x="26" y="27"/>
                              </a:lnTo>
                              <a:lnTo>
                                <a:pt x="0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6975360" y="4014720"/>
                          <a:ext cx="12960" cy="18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6" h="5">
                              <a:moveTo>
                                <a:pt x="0" y="3"/>
                              </a:moveTo>
                              <a:lnTo>
                                <a:pt x="19" y="5"/>
                              </a:lnTo>
                              <a:lnTo>
                                <a:pt x="36" y="4"/>
                              </a:lnTo>
                              <a:lnTo>
                                <a:pt x="34" y="0"/>
                              </a:lnTo>
                              <a:lnTo>
                                <a:pt x="13" y="0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6993000" y="3984480"/>
                          <a:ext cx="9360" cy="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6" h="0">
                              <a:moveTo>
                                <a:pt x="26" y="0"/>
                              </a:moveTo>
                              <a:lnTo>
                                <a:pt x="17" y="0"/>
                              </a:lnTo>
                              <a:lnTo>
                                <a:pt x="11" y="0"/>
                              </a:lnTo>
                              <a:lnTo>
                                <a:pt x="1" y="0"/>
                              </a:lnTo>
                              <a:lnTo>
                                <a:pt x="0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6994440" y="3944880"/>
                <a:ext cx="213120" cy="262440"/>
                <a:chOff x="6994440" y="3944880"/>
                <a:chExt cx="213120" cy="262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994440" y="3944880"/>
                  <a:ext cx="213120" cy="262440"/>
                </a:xfrm>
                <a:custGeom>
                  <a:avLst/>
                  <a:gdLst/>
                  <a:ahLst/>
                  <a:rect l="0" t="0" r="r" b="b"/>
                  <a:pathLst>
                    <a:path w="592" h="729">
                      <a:moveTo>
                        <a:pt x="0" y="411"/>
                      </a:moveTo>
                      <a:lnTo>
                        <a:pt x="13" y="578"/>
                      </a:lnTo>
                      <a:lnTo>
                        <a:pt x="64" y="649"/>
                      </a:lnTo>
                      <a:lnTo>
                        <a:pt x="166" y="704"/>
                      </a:lnTo>
                      <a:lnTo>
                        <a:pt x="241" y="729"/>
                      </a:lnTo>
                      <a:lnTo>
                        <a:pt x="351" y="724"/>
                      </a:lnTo>
                      <a:lnTo>
                        <a:pt x="418" y="699"/>
                      </a:lnTo>
                      <a:lnTo>
                        <a:pt x="483" y="644"/>
                      </a:lnTo>
                      <a:lnTo>
                        <a:pt x="536" y="583"/>
                      </a:lnTo>
                      <a:lnTo>
                        <a:pt x="571" y="516"/>
                      </a:lnTo>
                      <a:lnTo>
                        <a:pt x="592" y="436"/>
                      </a:lnTo>
                      <a:lnTo>
                        <a:pt x="592" y="356"/>
                      </a:lnTo>
                      <a:lnTo>
                        <a:pt x="550" y="312"/>
                      </a:lnTo>
                      <a:lnTo>
                        <a:pt x="504" y="249"/>
                      </a:lnTo>
                      <a:lnTo>
                        <a:pt x="477" y="146"/>
                      </a:lnTo>
                      <a:lnTo>
                        <a:pt x="472" y="0"/>
                      </a:lnTo>
                      <a:lnTo>
                        <a:pt x="436" y="112"/>
                      </a:lnTo>
                      <a:lnTo>
                        <a:pt x="386" y="202"/>
                      </a:lnTo>
                      <a:lnTo>
                        <a:pt x="327" y="284"/>
                      </a:lnTo>
                      <a:lnTo>
                        <a:pt x="284" y="348"/>
                      </a:lnTo>
                      <a:lnTo>
                        <a:pt x="230" y="381"/>
                      </a:lnTo>
                      <a:lnTo>
                        <a:pt x="161" y="430"/>
                      </a:lnTo>
                      <a:lnTo>
                        <a:pt x="109" y="444"/>
                      </a:lnTo>
                      <a:lnTo>
                        <a:pt x="61" y="439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031160" y="4124160"/>
                  <a:ext cx="35280" cy="73440"/>
                </a:xfrm>
                <a:custGeom>
                  <a:avLst/>
                  <a:gdLst/>
                  <a:ahLst/>
                  <a:rect l="0" t="0" r="r" b="b"/>
                  <a:pathLst>
                    <a:path w="98" h="204">
                      <a:moveTo>
                        <a:pt x="0" y="0"/>
                      </a:moveTo>
                      <a:lnTo>
                        <a:pt x="35" y="39"/>
                      </a:lnTo>
                      <a:lnTo>
                        <a:pt x="58" y="108"/>
                      </a:lnTo>
                      <a:lnTo>
                        <a:pt x="84" y="165"/>
                      </a:lnTo>
                      <a:lnTo>
                        <a:pt x="98" y="204"/>
                      </a:lnTo>
                      <a:lnTo>
                        <a:pt x="39" y="110"/>
                      </a:lnTo>
                      <a:lnTo>
                        <a:pt x="15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6654960" y="4000680"/>
              <a:ext cx="900360" cy="910080"/>
              <a:chOff x="6654960" y="4000680"/>
              <a:chExt cx="900360" cy="910080"/>
            </a:xfrm>
          </p:grpSpPr>
          <p:sp>
            <p:nvSpPr>
              <p:cNvPr id="183" name=""/>
              <p:cNvSpPr/>
              <p:nvPr/>
            </p:nvSpPr>
            <p:spPr>
              <a:xfrm>
                <a:off x="6654960" y="4000680"/>
                <a:ext cx="900360" cy="910080"/>
              </a:xfrm>
              <a:custGeom>
                <a:avLst/>
                <a:gdLst/>
                <a:ahLst/>
                <a:rect l="0" t="0" r="r" b="b"/>
                <a:pathLst>
                  <a:path w="2501" h="2528">
                    <a:moveTo>
                      <a:pt x="869" y="234"/>
                    </a:moveTo>
                    <a:lnTo>
                      <a:pt x="570" y="417"/>
                    </a:lnTo>
                    <a:lnTo>
                      <a:pt x="298" y="562"/>
                    </a:lnTo>
                    <a:lnTo>
                      <a:pt x="240" y="592"/>
                    </a:lnTo>
                    <a:lnTo>
                      <a:pt x="182" y="664"/>
                    </a:lnTo>
                    <a:lnTo>
                      <a:pt x="150" y="798"/>
                    </a:lnTo>
                    <a:lnTo>
                      <a:pt x="161" y="929"/>
                    </a:lnTo>
                    <a:lnTo>
                      <a:pt x="166" y="1140"/>
                    </a:lnTo>
                    <a:lnTo>
                      <a:pt x="166" y="1440"/>
                    </a:lnTo>
                    <a:lnTo>
                      <a:pt x="166" y="1702"/>
                    </a:lnTo>
                    <a:lnTo>
                      <a:pt x="179" y="1874"/>
                    </a:lnTo>
                    <a:lnTo>
                      <a:pt x="155" y="1979"/>
                    </a:lnTo>
                    <a:lnTo>
                      <a:pt x="105" y="2146"/>
                    </a:lnTo>
                    <a:lnTo>
                      <a:pt x="79" y="2252"/>
                    </a:lnTo>
                    <a:lnTo>
                      <a:pt x="52" y="2383"/>
                    </a:lnTo>
                    <a:lnTo>
                      <a:pt x="0" y="2528"/>
                    </a:lnTo>
                    <a:lnTo>
                      <a:pt x="2123" y="2528"/>
                    </a:lnTo>
                    <a:lnTo>
                      <a:pt x="2067" y="2403"/>
                    </a:lnTo>
                    <a:lnTo>
                      <a:pt x="2213" y="2233"/>
                    </a:lnTo>
                    <a:lnTo>
                      <a:pt x="2316" y="1996"/>
                    </a:lnTo>
                    <a:lnTo>
                      <a:pt x="2408" y="1648"/>
                    </a:lnTo>
                    <a:lnTo>
                      <a:pt x="2456" y="1303"/>
                    </a:lnTo>
                    <a:lnTo>
                      <a:pt x="2501" y="820"/>
                    </a:lnTo>
                    <a:lnTo>
                      <a:pt x="2482" y="637"/>
                    </a:lnTo>
                    <a:lnTo>
                      <a:pt x="2435" y="494"/>
                    </a:lnTo>
                    <a:lnTo>
                      <a:pt x="2337" y="385"/>
                    </a:lnTo>
                    <a:lnTo>
                      <a:pt x="2205" y="289"/>
                    </a:lnTo>
                    <a:lnTo>
                      <a:pt x="2075" y="248"/>
                    </a:lnTo>
                    <a:lnTo>
                      <a:pt x="1898" y="215"/>
                    </a:lnTo>
                    <a:lnTo>
                      <a:pt x="1734" y="169"/>
                    </a:lnTo>
                    <a:lnTo>
                      <a:pt x="1576" y="125"/>
                    </a:lnTo>
                    <a:lnTo>
                      <a:pt x="1549" y="180"/>
                    </a:lnTo>
                    <a:lnTo>
                      <a:pt x="1470" y="98"/>
                    </a:lnTo>
                    <a:lnTo>
                      <a:pt x="1449" y="60"/>
                    </a:lnTo>
                    <a:lnTo>
                      <a:pt x="1446" y="0"/>
                    </a:lnTo>
                    <a:lnTo>
                      <a:pt x="1412" y="2"/>
                    </a:lnTo>
                    <a:lnTo>
                      <a:pt x="1383" y="65"/>
                    </a:lnTo>
                    <a:lnTo>
                      <a:pt x="1343" y="144"/>
                    </a:lnTo>
                    <a:lnTo>
                      <a:pt x="1309" y="199"/>
                    </a:lnTo>
                    <a:lnTo>
                      <a:pt x="1256" y="248"/>
                    </a:lnTo>
                    <a:lnTo>
                      <a:pt x="1194" y="297"/>
                    </a:lnTo>
                    <a:lnTo>
                      <a:pt x="1139" y="322"/>
                    </a:lnTo>
                    <a:lnTo>
                      <a:pt x="1057" y="335"/>
                    </a:lnTo>
                    <a:lnTo>
                      <a:pt x="985" y="322"/>
                    </a:lnTo>
                    <a:lnTo>
                      <a:pt x="932" y="289"/>
                    </a:lnTo>
                    <a:lnTo>
                      <a:pt x="906" y="346"/>
                    </a:lnTo>
                    <a:lnTo>
                      <a:pt x="890" y="251"/>
                    </a:lnTo>
                    <a:lnTo>
                      <a:pt x="869" y="234"/>
                    </a:lnTo>
                    <a:close/>
                  </a:path>
                </a:pathLst>
              </a:custGeom>
              <a:solidFill>
                <a:srgbClr val="000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673680" y="4054320"/>
                <a:ext cx="862560" cy="846360"/>
                <a:chOff x="6673680" y="4054320"/>
                <a:chExt cx="862560" cy="84636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6673680" y="4054320"/>
                  <a:ext cx="862560" cy="846360"/>
                  <a:chOff x="6673680" y="4054320"/>
                  <a:chExt cx="862560" cy="8463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7097760" y="4110120"/>
                    <a:ext cx="438480" cy="770400"/>
                  </a:xfrm>
                  <a:custGeom>
                    <a:avLst/>
                    <a:gdLst/>
                    <a:ahLst/>
                    <a:rect l="0" t="0" r="r" b="b"/>
                    <a:pathLst>
                      <a:path w="1218" h="2140">
                        <a:moveTo>
                          <a:pt x="385" y="500"/>
                        </a:moveTo>
                        <a:lnTo>
                          <a:pt x="351" y="377"/>
                        </a:lnTo>
                        <a:lnTo>
                          <a:pt x="236" y="385"/>
                        </a:lnTo>
                        <a:lnTo>
                          <a:pt x="149" y="423"/>
                        </a:lnTo>
                        <a:lnTo>
                          <a:pt x="57" y="495"/>
                        </a:lnTo>
                        <a:lnTo>
                          <a:pt x="23" y="545"/>
                        </a:lnTo>
                        <a:lnTo>
                          <a:pt x="0" y="610"/>
                        </a:lnTo>
                        <a:lnTo>
                          <a:pt x="110" y="1239"/>
                        </a:lnTo>
                        <a:lnTo>
                          <a:pt x="209" y="1543"/>
                        </a:lnTo>
                        <a:lnTo>
                          <a:pt x="312" y="1768"/>
                        </a:lnTo>
                        <a:lnTo>
                          <a:pt x="424" y="1897"/>
                        </a:lnTo>
                        <a:lnTo>
                          <a:pt x="521" y="1993"/>
                        </a:lnTo>
                        <a:lnTo>
                          <a:pt x="605" y="2140"/>
                        </a:lnTo>
                        <a:lnTo>
                          <a:pt x="703" y="2140"/>
                        </a:lnTo>
                        <a:lnTo>
                          <a:pt x="819" y="2086"/>
                        </a:lnTo>
                        <a:lnTo>
                          <a:pt x="945" y="1930"/>
                        </a:lnTo>
                        <a:lnTo>
                          <a:pt x="1021" y="1727"/>
                        </a:lnTo>
                        <a:lnTo>
                          <a:pt x="963" y="1653"/>
                        </a:lnTo>
                        <a:lnTo>
                          <a:pt x="1034" y="1708"/>
                        </a:lnTo>
                        <a:lnTo>
                          <a:pt x="1113" y="1461"/>
                        </a:lnTo>
                        <a:lnTo>
                          <a:pt x="1152" y="1305"/>
                        </a:lnTo>
                        <a:lnTo>
                          <a:pt x="1165" y="1084"/>
                        </a:lnTo>
                        <a:lnTo>
                          <a:pt x="1189" y="887"/>
                        </a:lnTo>
                        <a:lnTo>
                          <a:pt x="1107" y="766"/>
                        </a:lnTo>
                        <a:lnTo>
                          <a:pt x="1029" y="736"/>
                        </a:lnTo>
                        <a:lnTo>
                          <a:pt x="945" y="731"/>
                        </a:lnTo>
                        <a:lnTo>
                          <a:pt x="1016" y="703"/>
                        </a:lnTo>
                        <a:lnTo>
                          <a:pt x="1126" y="712"/>
                        </a:lnTo>
                        <a:lnTo>
                          <a:pt x="1210" y="799"/>
                        </a:lnTo>
                        <a:lnTo>
                          <a:pt x="1218" y="597"/>
                        </a:lnTo>
                        <a:lnTo>
                          <a:pt x="1210" y="432"/>
                        </a:lnTo>
                        <a:lnTo>
                          <a:pt x="1189" y="268"/>
                        </a:lnTo>
                        <a:lnTo>
                          <a:pt x="1126" y="166"/>
                        </a:lnTo>
                        <a:lnTo>
                          <a:pt x="1034" y="87"/>
                        </a:lnTo>
                        <a:lnTo>
                          <a:pt x="919" y="0"/>
                        </a:lnTo>
                        <a:lnTo>
                          <a:pt x="801" y="177"/>
                        </a:lnTo>
                        <a:lnTo>
                          <a:pt x="761" y="382"/>
                        </a:lnTo>
                        <a:lnTo>
                          <a:pt x="735" y="500"/>
                        </a:lnTo>
                        <a:lnTo>
                          <a:pt x="730" y="575"/>
                        </a:lnTo>
                        <a:lnTo>
                          <a:pt x="814" y="404"/>
                        </a:lnTo>
                        <a:lnTo>
                          <a:pt x="945" y="298"/>
                        </a:lnTo>
                        <a:lnTo>
                          <a:pt x="884" y="391"/>
                        </a:lnTo>
                        <a:lnTo>
                          <a:pt x="819" y="492"/>
                        </a:lnTo>
                        <a:lnTo>
                          <a:pt x="761" y="602"/>
                        </a:lnTo>
                        <a:lnTo>
                          <a:pt x="853" y="547"/>
                        </a:lnTo>
                        <a:lnTo>
                          <a:pt x="945" y="525"/>
                        </a:lnTo>
                        <a:lnTo>
                          <a:pt x="1113" y="556"/>
                        </a:lnTo>
                        <a:lnTo>
                          <a:pt x="984" y="569"/>
                        </a:lnTo>
                        <a:lnTo>
                          <a:pt x="858" y="610"/>
                        </a:lnTo>
                        <a:lnTo>
                          <a:pt x="787" y="638"/>
                        </a:lnTo>
                        <a:lnTo>
                          <a:pt x="703" y="657"/>
                        </a:lnTo>
                        <a:lnTo>
                          <a:pt x="696" y="758"/>
                        </a:lnTo>
                        <a:lnTo>
                          <a:pt x="664" y="887"/>
                        </a:lnTo>
                        <a:lnTo>
                          <a:pt x="858" y="873"/>
                        </a:lnTo>
                        <a:lnTo>
                          <a:pt x="989" y="892"/>
                        </a:lnTo>
                        <a:lnTo>
                          <a:pt x="832" y="922"/>
                        </a:lnTo>
                        <a:lnTo>
                          <a:pt x="651" y="933"/>
                        </a:lnTo>
                        <a:lnTo>
                          <a:pt x="625" y="1015"/>
                        </a:lnTo>
                        <a:lnTo>
                          <a:pt x="690" y="1103"/>
                        </a:lnTo>
                        <a:lnTo>
                          <a:pt x="753" y="1163"/>
                        </a:lnTo>
                        <a:lnTo>
                          <a:pt x="840" y="1253"/>
                        </a:lnTo>
                        <a:lnTo>
                          <a:pt x="877" y="1341"/>
                        </a:lnTo>
                        <a:lnTo>
                          <a:pt x="787" y="1286"/>
                        </a:lnTo>
                        <a:lnTo>
                          <a:pt x="722" y="1231"/>
                        </a:lnTo>
                        <a:lnTo>
                          <a:pt x="753" y="1341"/>
                        </a:lnTo>
                        <a:lnTo>
                          <a:pt x="819" y="1401"/>
                        </a:lnTo>
                        <a:lnTo>
                          <a:pt x="890" y="1510"/>
                        </a:lnTo>
                        <a:lnTo>
                          <a:pt x="761" y="1401"/>
                        </a:lnTo>
                        <a:lnTo>
                          <a:pt x="774" y="1524"/>
                        </a:lnTo>
                        <a:lnTo>
                          <a:pt x="717" y="1373"/>
                        </a:lnTo>
                        <a:lnTo>
                          <a:pt x="672" y="1434"/>
                        </a:lnTo>
                        <a:lnTo>
                          <a:pt x="696" y="1332"/>
                        </a:lnTo>
                        <a:lnTo>
                          <a:pt x="592" y="1395"/>
                        </a:lnTo>
                        <a:lnTo>
                          <a:pt x="690" y="1280"/>
                        </a:lnTo>
                        <a:lnTo>
                          <a:pt x="672" y="1171"/>
                        </a:lnTo>
                        <a:lnTo>
                          <a:pt x="553" y="960"/>
                        </a:lnTo>
                        <a:lnTo>
                          <a:pt x="474" y="758"/>
                        </a:lnTo>
                        <a:lnTo>
                          <a:pt x="377" y="791"/>
                        </a:lnTo>
                        <a:lnTo>
                          <a:pt x="461" y="703"/>
                        </a:lnTo>
                        <a:lnTo>
                          <a:pt x="411" y="569"/>
                        </a:lnTo>
                        <a:lnTo>
                          <a:pt x="385" y="500"/>
                        </a:lnTo>
                        <a:close/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218360" y="4054320"/>
                    <a:ext cx="216360" cy="411480"/>
                  </a:xfrm>
                  <a:custGeom>
                    <a:avLst/>
                    <a:gdLst/>
                    <a:ahLst/>
                    <a:rect l="0" t="0" r="r" b="b"/>
                    <a:pathLst>
                      <a:path w="601" h="1143">
                        <a:moveTo>
                          <a:pt x="275" y="70"/>
                        </a:moveTo>
                        <a:lnTo>
                          <a:pt x="33" y="0"/>
                        </a:lnTo>
                        <a:lnTo>
                          <a:pt x="23" y="151"/>
                        </a:lnTo>
                        <a:lnTo>
                          <a:pt x="12" y="287"/>
                        </a:lnTo>
                        <a:lnTo>
                          <a:pt x="0" y="450"/>
                        </a:lnTo>
                        <a:lnTo>
                          <a:pt x="49" y="523"/>
                        </a:lnTo>
                        <a:lnTo>
                          <a:pt x="105" y="676"/>
                        </a:lnTo>
                        <a:lnTo>
                          <a:pt x="144" y="806"/>
                        </a:lnTo>
                        <a:lnTo>
                          <a:pt x="197" y="974"/>
                        </a:lnTo>
                        <a:lnTo>
                          <a:pt x="241" y="662"/>
                        </a:lnTo>
                        <a:lnTo>
                          <a:pt x="280" y="488"/>
                        </a:lnTo>
                        <a:lnTo>
                          <a:pt x="344" y="333"/>
                        </a:lnTo>
                        <a:lnTo>
                          <a:pt x="427" y="271"/>
                        </a:lnTo>
                        <a:lnTo>
                          <a:pt x="362" y="385"/>
                        </a:lnTo>
                        <a:lnTo>
                          <a:pt x="306" y="603"/>
                        </a:lnTo>
                        <a:lnTo>
                          <a:pt x="280" y="728"/>
                        </a:lnTo>
                        <a:lnTo>
                          <a:pt x="228" y="1026"/>
                        </a:lnTo>
                        <a:lnTo>
                          <a:pt x="267" y="1143"/>
                        </a:lnTo>
                        <a:lnTo>
                          <a:pt x="344" y="749"/>
                        </a:lnTo>
                        <a:lnTo>
                          <a:pt x="362" y="589"/>
                        </a:lnTo>
                        <a:lnTo>
                          <a:pt x="414" y="420"/>
                        </a:lnTo>
                        <a:lnTo>
                          <a:pt x="475" y="276"/>
                        </a:lnTo>
                        <a:lnTo>
                          <a:pt x="544" y="203"/>
                        </a:lnTo>
                        <a:lnTo>
                          <a:pt x="601" y="157"/>
                        </a:lnTo>
                        <a:lnTo>
                          <a:pt x="493" y="130"/>
                        </a:lnTo>
                        <a:lnTo>
                          <a:pt x="362" y="108"/>
                        </a:lnTo>
                        <a:lnTo>
                          <a:pt x="275" y="70"/>
                        </a:lnTo>
                        <a:close/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815160" y="4089240"/>
                    <a:ext cx="268560" cy="808560"/>
                  </a:xfrm>
                  <a:custGeom>
                    <a:avLst/>
                    <a:gdLst/>
                    <a:ahLst/>
                    <a:rect l="0" t="0" r="r" b="b"/>
                    <a:pathLst>
                      <a:path w="746" h="2246">
                        <a:moveTo>
                          <a:pt x="435" y="0"/>
                        </a:moveTo>
                        <a:lnTo>
                          <a:pt x="414" y="147"/>
                        </a:lnTo>
                        <a:lnTo>
                          <a:pt x="427" y="335"/>
                        </a:lnTo>
                        <a:lnTo>
                          <a:pt x="496" y="568"/>
                        </a:lnTo>
                        <a:lnTo>
                          <a:pt x="543" y="820"/>
                        </a:lnTo>
                        <a:lnTo>
                          <a:pt x="607" y="1101"/>
                        </a:lnTo>
                        <a:lnTo>
                          <a:pt x="676" y="1325"/>
                        </a:lnTo>
                        <a:lnTo>
                          <a:pt x="689" y="1513"/>
                        </a:lnTo>
                        <a:lnTo>
                          <a:pt x="746" y="1861"/>
                        </a:lnTo>
                        <a:lnTo>
                          <a:pt x="694" y="2246"/>
                        </a:lnTo>
                        <a:lnTo>
                          <a:pt x="192" y="2246"/>
                        </a:lnTo>
                        <a:lnTo>
                          <a:pt x="249" y="1853"/>
                        </a:lnTo>
                        <a:lnTo>
                          <a:pt x="203" y="1642"/>
                        </a:lnTo>
                        <a:lnTo>
                          <a:pt x="128" y="1467"/>
                        </a:lnTo>
                        <a:lnTo>
                          <a:pt x="95" y="1298"/>
                        </a:lnTo>
                        <a:lnTo>
                          <a:pt x="95" y="1101"/>
                        </a:lnTo>
                        <a:lnTo>
                          <a:pt x="138" y="926"/>
                        </a:lnTo>
                        <a:lnTo>
                          <a:pt x="138" y="825"/>
                        </a:lnTo>
                        <a:lnTo>
                          <a:pt x="197" y="880"/>
                        </a:lnTo>
                        <a:lnTo>
                          <a:pt x="223" y="967"/>
                        </a:lnTo>
                        <a:lnTo>
                          <a:pt x="223" y="847"/>
                        </a:lnTo>
                        <a:lnTo>
                          <a:pt x="172" y="784"/>
                        </a:lnTo>
                        <a:lnTo>
                          <a:pt x="138" y="738"/>
                        </a:lnTo>
                        <a:lnTo>
                          <a:pt x="197" y="659"/>
                        </a:lnTo>
                        <a:lnTo>
                          <a:pt x="274" y="596"/>
                        </a:lnTo>
                        <a:lnTo>
                          <a:pt x="172" y="629"/>
                        </a:lnTo>
                        <a:lnTo>
                          <a:pt x="107" y="724"/>
                        </a:lnTo>
                        <a:lnTo>
                          <a:pt x="95" y="637"/>
                        </a:lnTo>
                        <a:lnTo>
                          <a:pt x="95" y="513"/>
                        </a:lnTo>
                        <a:lnTo>
                          <a:pt x="113" y="404"/>
                        </a:lnTo>
                        <a:lnTo>
                          <a:pt x="74" y="477"/>
                        </a:lnTo>
                        <a:lnTo>
                          <a:pt x="56" y="609"/>
                        </a:lnTo>
                        <a:lnTo>
                          <a:pt x="64" y="719"/>
                        </a:lnTo>
                        <a:lnTo>
                          <a:pt x="17" y="532"/>
                        </a:lnTo>
                        <a:lnTo>
                          <a:pt x="0" y="417"/>
                        </a:lnTo>
                        <a:lnTo>
                          <a:pt x="7" y="262"/>
                        </a:lnTo>
                        <a:lnTo>
                          <a:pt x="100" y="223"/>
                        </a:lnTo>
                        <a:lnTo>
                          <a:pt x="241" y="133"/>
                        </a:lnTo>
                        <a:lnTo>
                          <a:pt x="435" y="0"/>
                        </a:lnTo>
                        <a:close/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673680" y="4184640"/>
                    <a:ext cx="209880" cy="709920"/>
                  </a:xfrm>
                  <a:custGeom>
                    <a:avLst/>
                    <a:gdLst/>
                    <a:ahLst/>
                    <a:rect l="0" t="0" r="r" b="b"/>
                    <a:pathLst>
                      <a:path w="583" h="1972">
                        <a:moveTo>
                          <a:pt x="384" y="0"/>
                        </a:moveTo>
                        <a:lnTo>
                          <a:pt x="371" y="103"/>
                        </a:lnTo>
                        <a:lnTo>
                          <a:pt x="379" y="383"/>
                        </a:lnTo>
                        <a:lnTo>
                          <a:pt x="454" y="514"/>
                        </a:lnTo>
                        <a:lnTo>
                          <a:pt x="320" y="383"/>
                        </a:lnTo>
                        <a:lnTo>
                          <a:pt x="257" y="255"/>
                        </a:lnTo>
                        <a:lnTo>
                          <a:pt x="236" y="209"/>
                        </a:lnTo>
                        <a:lnTo>
                          <a:pt x="244" y="283"/>
                        </a:lnTo>
                        <a:lnTo>
                          <a:pt x="262" y="351"/>
                        </a:lnTo>
                        <a:lnTo>
                          <a:pt x="302" y="419"/>
                        </a:lnTo>
                        <a:lnTo>
                          <a:pt x="371" y="484"/>
                        </a:lnTo>
                        <a:lnTo>
                          <a:pt x="402" y="528"/>
                        </a:lnTo>
                        <a:lnTo>
                          <a:pt x="449" y="569"/>
                        </a:lnTo>
                        <a:lnTo>
                          <a:pt x="389" y="675"/>
                        </a:lnTo>
                        <a:lnTo>
                          <a:pt x="333" y="756"/>
                        </a:lnTo>
                        <a:lnTo>
                          <a:pt x="236" y="830"/>
                        </a:lnTo>
                        <a:lnTo>
                          <a:pt x="338" y="784"/>
                        </a:lnTo>
                        <a:lnTo>
                          <a:pt x="415" y="716"/>
                        </a:lnTo>
                        <a:lnTo>
                          <a:pt x="454" y="634"/>
                        </a:lnTo>
                        <a:lnTo>
                          <a:pt x="467" y="724"/>
                        </a:lnTo>
                        <a:lnTo>
                          <a:pt x="449" y="784"/>
                        </a:lnTo>
                        <a:lnTo>
                          <a:pt x="436" y="879"/>
                        </a:lnTo>
                        <a:lnTo>
                          <a:pt x="428" y="1027"/>
                        </a:lnTo>
                        <a:lnTo>
                          <a:pt x="454" y="1168"/>
                        </a:lnTo>
                        <a:lnTo>
                          <a:pt x="492" y="1288"/>
                        </a:lnTo>
                        <a:lnTo>
                          <a:pt x="539" y="1389"/>
                        </a:lnTo>
                        <a:lnTo>
                          <a:pt x="428" y="1337"/>
                        </a:lnTo>
                        <a:lnTo>
                          <a:pt x="351" y="1310"/>
                        </a:lnTo>
                        <a:lnTo>
                          <a:pt x="275" y="1310"/>
                        </a:lnTo>
                        <a:lnTo>
                          <a:pt x="384" y="1343"/>
                        </a:lnTo>
                        <a:lnTo>
                          <a:pt x="454" y="1389"/>
                        </a:lnTo>
                        <a:lnTo>
                          <a:pt x="508" y="1430"/>
                        </a:lnTo>
                        <a:lnTo>
                          <a:pt x="570" y="1501"/>
                        </a:lnTo>
                        <a:lnTo>
                          <a:pt x="583" y="1629"/>
                        </a:lnTo>
                        <a:lnTo>
                          <a:pt x="500" y="1539"/>
                        </a:lnTo>
                        <a:lnTo>
                          <a:pt x="415" y="1492"/>
                        </a:lnTo>
                        <a:lnTo>
                          <a:pt x="325" y="1471"/>
                        </a:lnTo>
                        <a:lnTo>
                          <a:pt x="236" y="1471"/>
                        </a:lnTo>
                        <a:lnTo>
                          <a:pt x="389" y="1520"/>
                        </a:lnTo>
                        <a:lnTo>
                          <a:pt x="492" y="1585"/>
                        </a:lnTo>
                        <a:lnTo>
                          <a:pt x="544" y="1634"/>
                        </a:lnTo>
                        <a:lnTo>
                          <a:pt x="570" y="1702"/>
                        </a:lnTo>
                        <a:lnTo>
                          <a:pt x="544" y="1836"/>
                        </a:lnTo>
                        <a:lnTo>
                          <a:pt x="500" y="1972"/>
                        </a:lnTo>
                        <a:lnTo>
                          <a:pt x="0" y="1972"/>
                        </a:lnTo>
                        <a:lnTo>
                          <a:pt x="38" y="1863"/>
                        </a:lnTo>
                        <a:lnTo>
                          <a:pt x="64" y="1757"/>
                        </a:lnTo>
                        <a:lnTo>
                          <a:pt x="82" y="1607"/>
                        </a:lnTo>
                        <a:lnTo>
                          <a:pt x="128" y="1501"/>
                        </a:lnTo>
                        <a:lnTo>
                          <a:pt x="139" y="1430"/>
                        </a:lnTo>
                        <a:lnTo>
                          <a:pt x="257" y="1416"/>
                        </a:lnTo>
                        <a:lnTo>
                          <a:pt x="315" y="1424"/>
                        </a:lnTo>
                        <a:lnTo>
                          <a:pt x="436" y="1452"/>
                        </a:lnTo>
                        <a:lnTo>
                          <a:pt x="384" y="1411"/>
                        </a:lnTo>
                        <a:lnTo>
                          <a:pt x="315" y="1384"/>
                        </a:lnTo>
                        <a:lnTo>
                          <a:pt x="216" y="1365"/>
                        </a:lnTo>
                        <a:lnTo>
                          <a:pt x="154" y="1365"/>
                        </a:lnTo>
                        <a:lnTo>
                          <a:pt x="154" y="1283"/>
                        </a:lnTo>
                        <a:lnTo>
                          <a:pt x="146" y="1196"/>
                        </a:lnTo>
                        <a:lnTo>
                          <a:pt x="139" y="1068"/>
                        </a:lnTo>
                        <a:lnTo>
                          <a:pt x="139" y="950"/>
                        </a:lnTo>
                        <a:lnTo>
                          <a:pt x="146" y="852"/>
                        </a:lnTo>
                        <a:lnTo>
                          <a:pt x="146" y="803"/>
                        </a:lnTo>
                        <a:lnTo>
                          <a:pt x="203" y="696"/>
                        </a:lnTo>
                        <a:lnTo>
                          <a:pt x="216" y="601"/>
                        </a:lnTo>
                        <a:lnTo>
                          <a:pt x="172" y="702"/>
                        </a:lnTo>
                        <a:lnTo>
                          <a:pt x="139" y="762"/>
                        </a:lnTo>
                        <a:lnTo>
                          <a:pt x="146" y="656"/>
                        </a:lnTo>
                        <a:lnTo>
                          <a:pt x="139" y="560"/>
                        </a:lnTo>
                        <a:lnTo>
                          <a:pt x="139" y="419"/>
                        </a:lnTo>
                        <a:lnTo>
                          <a:pt x="128" y="343"/>
                        </a:lnTo>
                        <a:lnTo>
                          <a:pt x="121" y="296"/>
                        </a:lnTo>
                        <a:lnTo>
                          <a:pt x="128" y="215"/>
                        </a:lnTo>
                        <a:lnTo>
                          <a:pt x="167" y="136"/>
                        </a:lnTo>
                        <a:lnTo>
                          <a:pt x="224" y="95"/>
                        </a:lnTo>
                        <a:lnTo>
                          <a:pt x="384" y="0"/>
                        </a:lnTo>
                        <a:close/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077240" y="4503600"/>
                    <a:ext cx="325800" cy="397080"/>
                  </a:xfrm>
                  <a:custGeom>
                    <a:avLst/>
                    <a:gdLst/>
                    <a:ahLst/>
                    <a:rect l="0" t="0" r="r" b="b"/>
                    <a:pathLst>
                      <a:path w="905" h="1103">
                        <a:moveTo>
                          <a:pt x="96" y="146"/>
                        </a:moveTo>
                        <a:lnTo>
                          <a:pt x="78" y="227"/>
                        </a:lnTo>
                        <a:lnTo>
                          <a:pt x="52" y="316"/>
                        </a:lnTo>
                        <a:lnTo>
                          <a:pt x="7" y="449"/>
                        </a:lnTo>
                        <a:lnTo>
                          <a:pt x="0" y="659"/>
                        </a:lnTo>
                        <a:lnTo>
                          <a:pt x="52" y="1103"/>
                        </a:lnTo>
                        <a:lnTo>
                          <a:pt x="905" y="1103"/>
                        </a:lnTo>
                        <a:lnTo>
                          <a:pt x="866" y="1035"/>
                        </a:lnTo>
                        <a:lnTo>
                          <a:pt x="791" y="1054"/>
                        </a:lnTo>
                        <a:lnTo>
                          <a:pt x="713" y="1068"/>
                        </a:lnTo>
                        <a:lnTo>
                          <a:pt x="621" y="1054"/>
                        </a:lnTo>
                        <a:lnTo>
                          <a:pt x="581" y="967"/>
                        </a:lnTo>
                        <a:lnTo>
                          <a:pt x="472" y="840"/>
                        </a:lnTo>
                        <a:lnTo>
                          <a:pt x="344" y="705"/>
                        </a:lnTo>
                        <a:lnTo>
                          <a:pt x="292" y="591"/>
                        </a:lnTo>
                        <a:lnTo>
                          <a:pt x="218" y="403"/>
                        </a:lnTo>
                        <a:lnTo>
                          <a:pt x="161" y="232"/>
                        </a:lnTo>
                        <a:lnTo>
                          <a:pt x="122" y="0"/>
                        </a:lnTo>
                        <a:lnTo>
                          <a:pt x="96" y="146"/>
                        </a:lnTo>
                        <a:close/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7066080" y="4692600"/>
                  <a:ext cx="20520" cy="23760"/>
                </a:xfrm>
                <a:prstGeom prst="ellipse">
                  <a:avLst/>
                </a:prstGeom>
                <a:solidFill>
                  <a:srgbClr val="0000c0"/>
                </a:solidFill>
                <a:ln w="0">
                  <a:noFill/>
                </a:ln>
              </p:spPr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892920" y="3755880"/>
              <a:ext cx="325800" cy="1155960"/>
              <a:chOff x="6892920" y="3755880"/>
              <a:chExt cx="325800" cy="1155960"/>
            </a:xfrm>
          </p:grpSpPr>
          <p:sp>
            <p:nvSpPr>
              <p:cNvPr id="193" name=""/>
              <p:cNvSpPr/>
              <p:nvPr/>
            </p:nvSpPr>
            <p:spPr>
              <a:xfrm>
                <a:off x="6892920" y="4108320"/>
                <a:ext cx="141480" cy="803520"/>
              </a:xfrm>
              <a:custGeom>
                <a:avLst/>
                <a:gdLst/>
                <a:ahLst/>
                <a:rect l="0" t="0" r="r" b="b"/>
                <a:pathLst>
                  <a:path fill="none" w="393" h="2232">
                    <a:moveTo>
                      <a:pt x="235" y="0"/>
                    </a:moveTo>
                    <a:lnTo>
                      <a:pt x="97" y="143"/>
                    </a:lnTo>
                    <a:lnTo>
                      <a:pt x="36" y="275"/>
                    </a:lnTo>
                    <a:lnTo>
                      <a:pt x="0" y="410"/>
                    </a:lnTo>
                    <a:lnTo>
                      <a:pt x="5" y="584"/>
                    </a:lnTo>
                    <a:lnTo>
                      <a:pt x="36" y="736"/>
                    </a:lnTo>
                    <a:lnTo>
                      <a:pt x="84" y="855"/>
                    </a:lnTo>
                    <a:lnTo>
                      <a:pt x="144" y="951"/>
                    </a:lnTo>
                    <a:lnTo>
                      <a:pt x="216" y="1045"/>
                    </a:lnTo>
                    <a:lnTo>
                      <a:pt x="303" y="1189"/>
                    </a:lnTo>
                    <a:lnTo>
                      <a:pt x="359" y="1275"/>
                    </a:lnTo>
                    <a:lnTo>
                      <a:pt x="388" y="1410"/>
                    </a:lnTo>
                    <a:lnTo>
                      <a:pt x="393" y="1548"/>
                    </a:lnTo>
                    <a:lnTo>
                      <a:pt x="372" y="1722"/>
                    </a:lnTo>
                    <a:lnTo>
                      <a:pt x="351" y="1865"/>
                    </a:lnTo>
                    <a:lnTo>
                      <a:pt x="301" y="2003"/>
                    </a:lnTo>
                    <a:lnTo>
                      <a:pt x="232" y="2105"/>
                    </a:lnTo>
                    <a:lnTo>
                      <a:pt x="118" y="2232"/>
                    </a:lnTo>
                  </a:path>
                </a:pathLst>
              </a:custGeom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6942240" y="3755880"/>
                <a:ext cx="276480" cy="524520"/>
                <a:chOff x="6942240" y="3755880"/>
                <a:chExt cx="276480" cy="52452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6942240" y="3755880"/>
                  <a:ext cx="271800" cy="392400"/>
                  <a:chOff x="6942240" y="3755880"/>
                  <a:chExt cx="271800" cy="3924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942240" y="3755880"/>
                    <a:ext cx="271800" cy="3924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090">
                        <a:moveTo>
                          <a:pt x="580" y="5"/>
                        </a:moveTo>
                        <a:lnTo>
                          <a:pt x="502" y="291"/>
                        </a:lnTo>
                        <a:lnTo>
                          <a:pt x="262" y="699"/>
                        </a:lnTo>
                        <a:lnTo>
                          <a:pt x="15" y="828"/>
                        </a:lnTo>
                        <a:lnTo>
                          <a:pt x="0" y="879"/>
                        </a:lnTo>
                        <a:lnTo>
                          <a:pt x="140" y="1090"/>
                        </a:lnTo>
                        <a:lnTo>
                          <a:pt x="435" y="950"/>
                        </a:lnTo>
                        <a:lnTo>
                          <a:pt x="708" y="455"/>
                        </a:lnTo>
                        <a:lnTo>
                          <a:pt x="755" y="199"/>
                        </a:lnTo>
                        <a:lnTo>
                          <a:pt x="651" y="0"/>
                        </a:lnTo>
                        <a:lnTo>
                          <a:pt x="580" y="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948360" y="3762360"/>
                    <a:ext cx="222480" cy="306720"/>
                  </a:xfrm>
                  <a:custGeom>
                    <a:avLst/>
                    <a:gdLst/>
                    <a:ahLst/>
                    <a:rect l="0" t="0" r="r" b="b"/>
                    <a:pathLst>
                      <a:path w="618" h="852">
                        <a:moveTo>
                          <a:pt x="12" y="806"/>
                        </a:moveTo>
                        <a:lnTo>
                          <a:pt x="0" y="852"/>
                        </a:lnTo>
                        <a:lnTo>
                          <a:pt x="277" y="723"/>
                        </a:lnTo>
                        <a:lnTo>
                          <a:pt x="541" y="292"/>
                        </a:lnTo>
                        <a:lnTo>
                          <a:pt x="618" y="0"/>
                        </a:lnTo>
                        <a:lnTo>
                          <a:pt x="569" y="0"/>
                        </a:lnTo>
                        <a:lnTo>
                          <a:pt x="497" y="276"/>
                        </a:lnTo>
                        <a:lnTo>
                          <a:pt x="252" y="688"/>
                        </a:lnTo>
                        <a:lnTo>
                          <a:pt x="12" y="80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951600" y="4033800"/>
                    <a:ext cx="136800" cy="108360"/>
                  </a:xfrm>
                  <a:custGeom>
                    <a:avLst/>
                    <a:gdLst/>
                    <a:ahLst/>
                    <a:rect l="0" t="0" r="r" b="b"/>
                    <a:pathLst>
                      <a:path w="380" h="301">
                        <a:moveTo>
                          <a:pt x="0" y="124"/>
                        </a:moveTo>
                        <a:lnTo>
                          <a:pt x="118" y="301"/>
                        </a:lnTo>
                        <a:lnTo>
                          <a:pt x="380" y="177"/>
                        </a:lnTo>
                        <a:lnTo>
                          <a:pt x="267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058160" y="3873600"/>
                    <a:ext cx="133560" cy="21636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601">
                        <a:moveTo>
                          <a:pt x="0" y="422"/>
                        </a:moveTo>
                        <a:lnTo>
                          <a:pt x="111" y="601"/>
                        </a:lnTo>
                        <a:lnTo>
                          <a:pt x="371" y="127"/>
                        </a:lnTo>
                        <a:lnTo>
                          <a:pt x="262" y="0"/>
                        </a:lnTo>
                        <a:lnTo>
                          <a:pt x="0" y="42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157880" y="3768840"/>
                    <a:ext cx="49680" cy="138600"/>
                  </a:xfrm>
                  <a:custGeom>
                    <a:avLst/>
                    <a:gdLst/>
                    <a:ahLst/>
                    <a:rect l="0" t="0" r="r" b="b"/>
                    <a:pathLst>
                      <a:path w="138" h="385">
                        <a:moveTo>
                          <a:pt x="0" y="257"/>
                        </a:moveTo>
                        <a:lnTo>
                          <a:pt x="98" y="385"/>
                        </a:lnTo>
                        <a:lnTo>
                          <a:pt x="138" y="172"/>
                        </a:lnTo>
                        <a:lnTo>
                          <a:pt x="57" y="0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043760" y="3832200"/>
                  <a:ext cx="174960" cy="448200"/>
                  <a:chOff x="7043760" y="3832200"/>
                  <a:chExt cx="174960" cy="4482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7043760" y="3832200"/>
                    <a:ext cx="174960" cy="44820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1245">
                        <a:moveTo>
                          <a:pt x="475" y="1121"/>
                        </a:moveTo>
                        <a:lnTo>
                          <a:pt x="443" y="1071"/>
                        </a:lnTo>
                        <a:lnTo>
                          <a:pt x="456" y="972"/>
                        </a:lnTo>
                        <a:lnTo>
                          <a:pt x="464" y="841"/>
                        </a:lnTo>
                        <a:lnTo>
                          <a:pt x="480" y="764"/>
                        </a:lnTo>
                        <a:lnTo>
                          <a:pt x="486" y="684"/>
                        </a:lnTo>
                        <a:lnTo>
                          <a:pt x="478" y="569"/>
                        </a:lnTo>
                        <a:lnTo>
                          <a:pt x="480" y="436"/>
                        </a:lnTo>
                        <a:lnTo>
                          <a:pt x="480" y="329"/>
                        </a:lnTo>
                        <a:lnTo>
                          <a:pt x="486" y="278"/>
                        </a:lnTo>
                        <a:lnTo>
                          <a:pt x="475" y="157"/>
                        </a:lnTo>
                        <a:lnTo>
                          <a:pt x="467" y="113"/>
                        </a:lnTo>
                        <a:lnTo>
                          <a:pt x="451" y="85"/>
                        </a:lnTo>
                        <a:lnTo>
                          <a:pt x="432" y="71"/>
                        </a:lnTo>
                        <a:lnTo>
                          <a:pt x="424" y="102"/>
                        </a:lnTo>
                        <a:lnTo>
                          <a:pt x="416" y="179"/>
                        </a:lnTo>
                        <a:lnTo>
                          <a:pt x="411" y="250"/>
                        </a:lnTo>
                        <a:lnTo>
                          <a:pt x="376" y="353"/>
                        </a:lnTo>
                        <a:lnTo>
                          <a:pt x="335" y="198"/>
                        </a:lnTo>
                        <a:lnTo>
                          <a:pt x="298" y="132"/>
                        </a:lnTo>
                        <a:lnTo>
                          <a:pt x="287" y="90"/>
                        </a:lnTo>
                        <a:lnTo>
                          <a:pt x="250" y="33"/>
                        </a:lnTo>
                        <a:lnTo>
                          <a:pt x="230" y="8"/>
                        </a:lnTo>
                        <a:lnTo>
                          <a:pt x="209" y="0"/>
                        </a:lnTo>
                        <a:lnTo>
                          <a:pt x="200" y="41"/>
                        </a:lnTo>
                        <a:lnTo>
                          <a:pt x="200" y="148"/>
                        </a:lnTo>
                        <a:lnTo>
                          <a:pt x="150" y="102"/>
                        </a:lnTo>
                        <a:lnTo>
                          <a:pt x="115" y="85"/>
                        </a:lnTo>
                        <a:lnTo>
                          <a:pt x="91" y="79"/>
                        </a:lnTo>
                        <a:lnTo>
                          <a:pt x="93" y="118"/>
                        </a:lnTo>
                        <a:lnTo>
                          <a:pt x="109" y="173"/>
                        </a:lnTo>
                        <a:lnTo>
                          <a:pt x="142" y="226"/>
                        </a:lnTo>
                        <a:lnTo>
                          <a:pt x="166" y="318"/>
                        </a:lnTo>
                        <a:lnTo>
                          <a:pt x="182" y="425"/>
                        </a:lnTo>
                        <a:lnTo>
                          <a:pt x="96" y="342"/>
                        </a:lnTo>
                        <a:lnTo>
                          <a:pt x="32" y="303"/>
                        </a:lnTo>
                        <a:lnTo>
                          <a:pt x="0" y="297"/>
                        </a:lnTo>
                        <a:lnTo>
                          <a:pt x="2" y="331"/>
                        </a:lnTo>
                        <a:lnTo>
                          <a:pt x="10" y="364"/>
                        </a:lnTo>
                        <a:lnTo>
                          <a:pt x="58" y="417"/>
                        </a:lnTo>
                        <a:lnTo>
                          <a:pt x="96" y="486"/>
                        </a:lnTo>
                        <a:lnTo>
                          <a:pt x="115" y="580"/>
                        </a:lnTo>
                        <a:lnTo>
                          <a:pt x="104" y="679"/>
                        </a:lnTo>
                        <a:lnTo>
                          <a:pt x="88" y="762"/>
                        </a:lnTo>
                        <a:lnTo>
                          <a:pt x="77" y="850"/>
                        </a:lnTo>
                        <a:lnTo>
                          <a:pt x="88" y="953"/>
                        </a:lnTo>
                        <a:lnTo>
                          <a:pt x="104" y="1013"/>
                        </a:lnTo>
                        <a:lnTo>
                          <a:pt x="144" y="1071"/>
                        </a:lnTo>
                        <a:lnTo>
                          <a:pt x="171" y="1126"/>
                        </a:lnTo>
                        <a:lnTo>
                          <a:pt x="182" y="1245"/>
                        </a:lnTo>
                        <a:lnTo>
                          <a:pt x="268" y="1176"/>
                        </a:lnTo>
                        <a:lnTo>
                          <a:pt x="362" y="1129"/>
                        </a:lnTo>
                        <a:lnTo>
                          <a:pt x="475" y="1121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12600">
                    <a:solidFill>
                      <a:srgbClr val="402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139160" y="3938760"/>
                    <a:ext cx="14760" cy="6228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73">
                        <a:moveTo>
                          <a:pt x="0" y="0"/>
                        </a:moveTo>
                        <a:lnTo>
                          <a:pt x="17" y="78"/>
                        </a:lnTo>
                        <a:lnTo>
                          <a:pt x="22" y="161"/>
                        </a:lnTo>
                        <a:lnTo>
                          <a:pt x="41" y="173"/>
                        </a:lnTo>
                        <a:lnTo>
                          <a:pt x="36" y="136"/>
                        </a:lnTo>
                        <a:lnTo>
                          <a:pt x="26" y="6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108920" y="3994200"/>
                    <a:ext cx="97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41">
                        <a:moveTo>
                          <a:pt x="0" y="0"/>
                        </a:moveTo>
                        <a:lnTo>
                          <a:pt x="9" y="41"/>
                        </a:lnTo>
                        <a:lnTo>
                          <a:pt x="27" y="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124760" y="3898800"/>
                    <a:ext cx="6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72">
                        <a:moveTo>
                          <a:pt x="0" y="0"/>
                        </a:moveTo>
                        <a:lnTo>
                          <a:pt x="12" y="32"/>
                        </a:lnTo>
                        <a:lnTo>
                          <a:pt x="19" y="72"/>
                        </a:lnTo>
                        <a:lnTo>
                          <a:pt x="19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180200" y="3967200"/>
                    <a:ext cx="972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85">
                        <a:moveTo>
                          <a:pt x="0" y="0"/>
                        </a:moveTo>
                        <a:lnTo>
                          <a:pt x="7" y="58"/>
                        </a:lnTo>
                        <a:lnTo>
                          <a:pt x="27" y="85"/>
                        </a:lnTo>
                        <a:lnTo>
                          <a:pt x="18" y="4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054920" y="3954600"/>
                    <a:ext cx="82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5">
                        <a:moveTo>
                          <a:pt x="23" y="0"/>
                        </a:moveTo>
                        <a:lnTo>
                          <a:pt x="17" y="5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88040" y="3886200"/>
                    <a:ext cx="9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5">
                        <a:moveTo>
                          <a:pt x="27" y="0"/>
                        </a:moveTo>
                        <a:lnTo>
                          <a:pt x="23" y="5"/>
                        </a:lnTo>
                        <a:lnTo>
                          <a:pt x="0" y="1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126200" y="386244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10" y="14"/>
                        </a:lnTo>
                        <a:lnTo>
                          <a:pt x="19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201080" y="388296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10" y="16"/>
                        </a:moveTo>
                        <a:lnTo>
                          <a:pt x="6" y="19"/>
                        </a:lnTo>
                        <a:lnTo>
                          <a:pt x="0" y="0"/>
                        </a:lnTo>
                        <a:lnTo>
                          <a:pt x="10" y="1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37360" y="4205160"/>
                    <a:ext cx="41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0">
                        <a:moveTo>
                          <a:pt x="116" y="10"/>
                        </a:moveTo>
                        <a:lnTo>
                          <a:pt x="61" y="5"/>
                        </a:lnTo>
                        <a:lnTo>
                          <a:pt x="0" y="10"/>
                        </a:lnTo>
                        <a:lnTo>
                          <a:pt x="57" y="0"/>
                        </a:lnTo>
                        <a:lnTo>
                          <a:pt x="116" y="1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Gemini EA SDK C++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Language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689120"/>
            <a:ext cx="3505320" cy="39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exception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untime type identification (R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ew-style 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rray new/delete, nothrow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wchar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89120"/>
            <a:ext cx="3505320" cy="42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utable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member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efault template a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emplate instantiation 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ypename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ong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NCEG relation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C++ New Language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39960" y="142236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ere do you find the rules for all these new fea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NSI/ISO April 95 public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NSI/ISO Dec 96 public draft [if dates hold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troustrup’s </a:t>
            </a: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Design and Evolution of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ssues of </a:t>
            </a:r>
            <a:r>
              <a:rPr b="1" i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C++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Join th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886360" y="3537000"/>
            <a:ext cx="20890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Schilling</dc:creator>
  <dc:description/>
  <dc:language>en-US</dc:language>
  <cp:lastModifiedBy>Jonathan Schilling</cp:lastModifiedBy>
  <cp:revision>0</cp:revision>
  <dc:subject>SCO's New C++ Compiler</dc:subject>
  <dc:title>SCO's New C++ Compiler</dc:title>
</cp:coreProperties>
</file>