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l and Messaging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32520" y="5257800"/>
            <a:ext cx="172080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65160" y="2013120"/>
            <a:ext cx="6729480" cy="325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41360" y="6126120"/>
            <a:ext cx="175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rt Hutch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617220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181480"/>
            <a:ext cx="12952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502920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5181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5181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-Client enables IMAP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819520" y="4191120"/>
            <a:ext cx="33526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520" y="27432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52480" y="2743200"/>
            <a:ext cx="12193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124080" y="27432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562720" y="27432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43400" y="27432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19520" y="4952880"/>
            <a:ext cx="1828800" cy="838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733920"/>
            <a:ext cx="6553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3520" y="1752480"/>
            <a:ext cx="78487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 Enabl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228600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0" y="4952880"/>
            <a:ext cx="1905120" cy="1600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4952880"/>
            <a:ext cx="1523880" cy="838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781680" y="2743200"/>
            <a:ext cx="160020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410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609588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520" y="5105520"/>
            <a:ext cx="1295280" cy="11430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495288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5105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828800" y="5410080"/>
            <a:ext cx="990720" cy="0"/>
          </a:xfrm>
          <a:prstGeom prst="line">
            <a:avLst/>
          </a:prstGeom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5105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AP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mailfolders on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ill supports offline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sers to read mail from multiple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multiple folders on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mailfolders mean central backups and central ad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181480" y="6095880"/>
            <a:ext cx="259092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6095880"/>
            <a:ext cx="220968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3962520"/>
            <a:ext cx="1828800" cy="1447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3962520"/>
            <a:ext cx="1828800" cy="1447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6483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76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mail to singl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 is possible, but all messages on host are marked a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folders are stored on a singl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486400" y="3886200"/>
            <a:ext cx="1828800" cy="1447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00200" y="3886200"/>
            <a:ext cx="1828800" cy="1447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334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47920" y="6019920"/>
            <a:ext cx="22096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09588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8672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4771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05520" y="6019920"/>
            <a:ext cx="259092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733920" y="41911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95280" y="6095880"/>
            <a:ext cx="259092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6095880"/>
            <a:ext cx="259092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3962520"/>
            <a:ext cx="1828800" cy="1447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962520"/>
            <a:ext cx="1828800" cy="1447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A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6483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1676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 folders can be stored 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ultiple cli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on is possible allowing offline mode with a folder hierar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86400" y="3886200"/>
            <a:ext cx="1828800" cy="1447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00200" y="3886200"/>
            <a:ext cx="1828800" cy="1447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9588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8672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771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105520" y="6019920"/>
            <a:ext cx="259092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581280" y="41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20968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334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810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909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563868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19320" y="6019920"/>
            <a:ext cx="259092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AP Supports Multipl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e Client-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olders stored on host, no data on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server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network PC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etched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ata on server, some on client, at the users dis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ata moved to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 added benefit of synchronization that all data can be put back on the host when online access is re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743200" y="114480"/>
            <a:ext cx="2438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880" y="609480"/>
            <a:ext cx="2362320" cy="619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mi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029200" y="609480"/>
            <a:ext cx="2514600" cy="619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mini 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9440" y="1523880"/>
            <a:ext cx="434484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9440" y="2514600"/>
            <a:ext cx="4344840" cy="31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-MS ena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-MS and IMAP 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e M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 M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27760" y="2514600"/>
            <a:ext cx="3735360" cy="8380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enable Send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27760" y="3506760"/>
            <a:ext cx="3735360" cy="1370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UNIX-MS ena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27760" y="5029200"/>
            <a:ext cx="3735360" cy="1600200"/>
          </a:xfrm>
          <a:prstGeom prst="rect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I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, LDAP, 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25960" y="1523880"/>
            <a:ext cx="373680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 enable Send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Admin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variety of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ssaging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819520"/>
            <a:ext cx="8458200" cy="3657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4876920"/>
            <a:ext cx="213372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81280" y="4876920"/>
            <a:ext cx="213372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324480" y="4876920"/>
            <a:ext cx="213372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89548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2895480"/>
            <a:ext cx="175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9000" y="289548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19720" y="2895480"/>
            <a:ext cx="175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72200" y="289548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62920" y="2895480"/>
            <a:ext cx="175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752480"/>
            <a:ext cx="8458200" cy="6858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438280"/>
            <a:ext cx="609840" cy="381240"/>
          </a:xfrm>
          <a:custGeom>
            <a:avLst/>
            <a:gdLst/>
            <a:ahLst/>
            <a:rect l="0" t="0" r="r" b="b"/>
            <a:pathLst>
              <a:path w="1694" h="1059">
                <a:moveTo>
                  <a:pt x="0" y="352"/>
                </a:moveTo>
                <a:lnTo>
                  <a:pt x="0" y="705"/>
                </a:lnTo>
                <a:lnTo>
                  <a:pt x="1186" y="705"/>
                </a:lnTo>
                <a:lnTo>
                  <a:pt x="1186" y="1059"/>
                </a:lnTo>
                <a:lnTo>
                  <a:pt x="1694" y="530"/>
                </a:lnTo>
                <a:lnTo>
                  <a:pt x="1186" y="0"/>
                </a:lnTo>
                <a:lnTo>
                  <a:pt x="1186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43828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86600" y="144792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467480" y="251460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PI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819520"/>
            <a:ext cx="8458200" cy="3657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4876920"/>
            <a:ext cx="213372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29000" y="4876920"/>
            <a:ext cx="243828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-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24480" y="4876920"/>
            <a:ext cx="213372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52480" y="2971800"/>
            <a:ext cx="1295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2971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971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/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581280"/>
            <a:ext cx="686160" cy="1295640"/>
          </a:xfrm>
          <a:custGeom>
            <a:avLst/>
            <a:gdLst/>
            <a:ahLst/>
            <a:rect l="0" t="0" r="r" b="b"/>
            <a:pathLst>
              <a:path w="1906" h="3599">
                <a:moveTo>
                  <a:pt x="0" y="719"/>
                </a:moveTo>
                <a:lnTo>
                  <a:pt x="0" y="2879"/>
                </a:lnTo>
                <a:lnTo>
                  <a:pt x="1334" y="2879"/>
                </a:lnTo>
                <a:lnTo>
                  <a:pt x="1334" y="3599"/>
                </a:lnTo>
                <a:lnTo>
                  <a:pt x="1906" y="1800"/>
                </a:lnTo>
                <a:lnTo>
                  <a:pt x="1334" y="0"/>
                </a:lnTo>
                <a:lnTo>
                  <a:pt x="1334" y="719"/>
                </a:lnTo>
                <a:lnTo>
                  <a:pt x="0" y="71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00800" y="2819520"/>
            <a:ext cx="990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391520" y="2819520"/>
            <a:ext cx="1219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3581280"/>
            <a:ext cx="838440" cy="1295640"/>
          </a:xfrm>
          <a:custGeom>
            <a:avLst/>
            <a:gdLst/>
            <a:ahLst/>
            <a:rect l="0" t="0" r="r" b="b"/>
            <a:pathLst>
              <a:path w="2329" h="3599">
                <a:moveTo>
                  <a:pt x="846" y="3599"/>
                </a:moveTo>
                <a:lnTo>
                  <a:pt x="2329" y="3599"/>
                </a:lnTo>
                <a:lnTo>
                  <a:pt x="1906" y="2084"/>
                </a:lnTo>
                <a:lnTo>
                  <a:pt x="2329" y="2084"/>
                </a:lnTo>
                <a:lnTo>
                  <a:pt x="1694" y="568"/>
                </a:lnTo>
                <a:lnTo>
                  <a:pt x="2117" y="568"/>
                </a:lnTo>
                <a:lnTo>
                  <a:pt x="1058" y="0"/>
                </a:lnTo>
                <a:lnTo>
                  <a:pt x="0" y="568"/>
                </a:lnTo>
                <a:lnTo>
                  <a:pt x="423" y="568"/>
                </a:lnTo>
                <a:lnTo>
                  <a:pt x="846" y="2084"/>
                </a:lnTo>
                <a:lnTo>
                  <a:pt x="423" y="2084"/>
                </a:lnTo>
                <a:lnTo>
                  <a:pt x="846" y="3599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752480"/>
            <a:ext cx="8458200" cy="6858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438280"/>
            <a:ext cx="609840" cy="381240"/>
          </a:xfrm>
          <a:custGeom>
            <a:avLst/>
            <a:gdLst/>
            <a:ahLst/>
            <a:rect l="0" t="0" r="r" b="b"/>
            <a:pathLst>
              <a:path w="1694" h="1059">
                <a:moveTo>
                  <a:pt x="0" y="352"/>
                </a:moveTo>
                <a:lnTo>
                  <a:pt x="0" y="705"/>
                </a:lnTo>
                <a:lnTo>
                  <a:pt x="1186" y="705"/>
                </a:lnTo>
                <a:lnTo>
                  <a:pt x="1186" y="1059"/>
                </a:lnTo>
                <a:lnTo>
                  <a:pt x="1694" y="530"/>
                </a:lnTo>
                <a:lnTo>
                  <a:pt x="1186" y="0"/>
                </a:lnTo>
                <a:lnTo>
                  <a:pt x="1186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243828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144792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67480" y="251460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PI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2971800"/>
            <a:ext cx="1219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724280"/>
            <a:ext cx="2590920" cy="838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29718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52480" y="2971800"/>
            <a:ext cx="12193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29718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62720" y="29718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343400" y="2971800"/>
            <a:ext cx="106668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81680" y="2971800"/>
            <a:ext cx="160020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5562720"/>
            <a:ext cx="2590920" cy="838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-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943600" y="4724280"/>
            <a:ext cx="2362320" cy="16765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962520"/>
            <a:ext cx="66294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9625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5053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35053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419720"/>
            <a:ext cx="15242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419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752480"/>
            <a:ext cx="78487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 Enabl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28600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72200" y="22860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4724280"/>
            <a:ext cx="2362320" cy="1676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35053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35053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880" y="419112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0" cy="53316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5053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5053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77120" y="228600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3276720"/>
            <a:ext cx="21337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66880" y="5562720"/>
            <a:ext cx="1295280" cy="9907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438280" y="3886200"/>
            <a:ext cx="12952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62520" y="5562720"/>
            <a:ext cx="1295280" cy="9907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1600200"/>
            <a:ext cx="3276720" cy="9907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ME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, PPT, Exc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5909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25909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666880" y="25909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57800" y="5562720"/>
            <a:ext cx="1295280" cy="99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86400" y="1981080"/>
            <a:ext cx="1295280" cy="6094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934320" y="1981080"/>
            <a:ext cx="1447920" cy="6094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3341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10552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48769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4876920"/>
            <a:ext cx="52578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259092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259092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419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105520"/>
            <a:ext cx="525780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2590920"/>
            <a:ext cx="0" cy="25146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590920"/>
            <a:ext cx="0" cy="25146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419720"/>
            <a:ext cx="0" cy="68580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5334120"/>
            <a:ext cx="525780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315200" y="259092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44197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590920" y="2057400"/>
            <a:ext cx="2286000" cy="1905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617220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029200"/>
            <a:ext cx="1295280" cy="1295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487692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5029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029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ssage Transport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752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rvice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14600" y="1981080"/>
            <a:ext cx="2286000" cy="19051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6000" y="388620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371600" y="22860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71600" y="29718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7080" y="2031840"/>
            <a:ext cx="1270080" cy="5698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7080" y="2717640"/>
            <a:ext cx="1270080" cy="5698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609588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3880" y="4952880"/>
            <a:ext cx="1295280" cy="12952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663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80060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952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952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114800" y="4800600"/>
            <a:ext cx="1828800" cy="15238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8862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X Message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343400" y="15238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+ clients on PC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events as they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to disk sync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s mailbox 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s mailbox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py to tmp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s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folder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lients st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s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ormats plug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828800"/>
            <a:ext cx="609480" cy="32767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828800"/>
            <a:ext cx="609480" cy="1676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1055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5053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828800" y="6095880"/>
            <a:ext cx="2514600" cy="544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828800" y="5334120"/>
            <a:ext cx="2514600" cy="544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DB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666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124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581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038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495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2286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514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3200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057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362320"/>
            <a:ext cx="1600200" cy="121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1828800"/>
            <a:ext cx="2057400" cy="4267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67120" y="1600200"/>
            <a:ext cx="429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o adv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Admin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mail and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browser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VTC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90920" y="1752480"/>
            <a:ext cx="2057400" cy="42670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2362320"/>
            <a:ext cx="1371600" cy="1295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1800" y="2286000"/>
            <a:ext cx="1371600" cy="1295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657600" y="35812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2286000"/>
            <a:ext cx="1600200" cy="12193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556272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4419720"/>
            <a:ext cx="1295280" cy="1295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4267080"/>
            <a:ext cx="129528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4419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419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48640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8120" y="4343400"/>
            <a:ext cx="1295280" cy="12952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663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91120"/>
            <a:ext cx="1295280" cy="3049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4343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4343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rt Hutchison</dc:creator>
  <dc:description/>
  <dc:language>en-US</dc:language>
  <cp:lastModifiedBy>Kurt Hutchison</cp:lastModifiedBy>
  <cp:revision>0</cp:revision>
  <dc:subject/>
  <dc:title>No Slide Title</dc:title>
</cp:coreProperties>
</file>