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46BB5C-063A-44D4-A10C-4A0A74235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one option for your color 35mm slide or interactive presentation title page. Use when only title of presentation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:  For imaging to 35mm slides, change slide setup to 35mm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Background is gradated Reflex Blue which is defined as the following HSL numbers  in Power Poi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H:  41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65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307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e gradation is VERTICAL and shading is to extreme dark side of sliding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itle has black text shadow and is Gold as defined in Power Point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H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91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65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853920"/>
                <a:tab algn="l" pos="108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34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another option for your presentation title page when name and title of presenter are des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3360600" y="6213600"/>
            <a:ext cx="2435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Performance Improvement Tools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613320" y="6443640"/>
            <a:ext cx="191916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© 1996 SCO  All Rights Reserved - Slide </a:t>
            </a:r>
            <a:fld id="{BCEFFF1F-01DF-45B7-B591-FD371EC53361}" type="slidenum"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74760" y="5959440"/>
            <a:ext cx="1011240" cy="65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991640" y="6067440"/>
            <a:ext cx="814320" cy="5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4449600"/>
            <a:ext cx="7772400" cy="1676520"/>
          </a:xfrm>
          <a:prstGeom prst="rect">
            <a:avLst/>
          </a:prstGeom>
          <a:noFill/>
          <a:ln w="12600">
            <a:solidFill>
              <a:srgbClr val="0038e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0038ef"/>
                </a:solidFill>
                <a:latin typeface="GillSans"/>
                <a:ea typeface="GillSans"/>
              </a:rPr>
              <a:t>Performance Improvement Tools for Unix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77840"/>
            <a:ext cx="6746760" cy="2468520"/>
          </a:xfrm>
          <a:prstGeom prst="rect">
            <a:avLst/>
          </a:prstGeom>
          <a:solidFill>
            <a:srgbClr val="381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5080" y="1077840"/>
            <a:ext cx="4172040" cy="219384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20960" y="863640"/>
            <a:ext cx="37432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ypes of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Tra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51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atistical Profiling (pro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51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ine Profiling (lpro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Block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35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asiest way to speed up CPU-bound programs - by as much 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35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s automated profil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35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Often called “compiler feedba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Block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ogs number of executions of ea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ogs number of times each test “branches” and the number of times each test “doesn’t branc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fur to insert code, analyze logs and rearrang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Block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Cod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de runs faster if it “falls thr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ache space should be used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xperiments show what optimizer can’t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low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utomated analysis is used to reduce 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grammers can analyze cumulative statistics about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grammers can analyze the flow of control through their programs by viewing the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low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cords time of each entry and exit of every function (or selected fun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ode inserted at the beginning and end of each function by fur (or the compi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tool ‘fprof’ is used to analyze statistics and view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tool ‘lrt_scan’ calculates the best order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Call Prof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6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for Gem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unts number of calls to each function by ever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160000"/>
              </a:lnSpc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Useful for programm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stant size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tatistical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Very 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nswers simplest performance question: “Where is the time going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tatistical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981080"/>
            <a:ext cx="7162920" cy="418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llows programmers to see how much time each function spends in an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1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unts number of calls to each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utomatically available for kernel but only count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an be used in conjunction with call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tatistical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How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fur or the compiler to insert code at the beginning of eac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‘prof’ to view results of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867280" y="5029200"/>
            <a:ext cx="3276720" cy="1371600"/>
          </a:xfrm>
          <a:prstGeom prst="rect">
            <a:avLst/>
          </a:prstGeom>
          <a:solidFill>
            <a:srgbClr val="381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5029200"/>
            <a:ext cx="2438280" cy="121932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06360"/>
            <a:ext cx="777240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38ef"/>
                </a:solidFill>
                <a:latin typeface="GillSans"/>
                <a:ea typeface="GillSans"/>
              </a:rPr>
              <a:t>Performance Improvement Tools for UnixWare</a:t>
            </a: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2800" spc="-1" strike="noStrike">
                <a:solidFill>
                  <a:srgbClr val="0038ef"/>
                </a:solidFill>
                <a:latin typeface="GillSans"/>
                <a:ea typeface="GillSans"/>
              </a:rPr>
              <a:t>Larry Fe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Senior Software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0" lang="en-US" sz="1600" spc="-1" strike="noStrike">
                <a:solidFill>
                  <a:srgbClr val="0038ef"/>
                </a:solidFill>
                <a:latin typeface="GillSans"/>
                <a:ea typeface="GillSans"/>
              </a:rPr>
              <a:t>E-mail: lef@sc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64200" y="4867200"/>
            <a:ext cx="212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Line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unts number of times each line is executed in an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etter used for test coverage analysis than performanc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Line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compiler to insert code into ea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528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lprof to analyze results of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Using Fur on the 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OS “kernel” is distributed as relocatabl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r works on relocatabl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lock profiling and call profiling have kernel support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2160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Retuning the Operating System Kern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for Gem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nixWare 2.1 has been tuned to standard work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mmand interfaces are under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Retuning the OS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Step-by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un fur on the kernel object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stall new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Retuning the OS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Step-by-Step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un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un fur on the kernel to rearrang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stall new kernel, reboot and you’re d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216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statistical profiling to find where the time is go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216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block profiling to improve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216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e fur to avoid re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r - the Object Code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fil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60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tuning the Operating System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3811fe"/>
                </a:solidFill>
                <a:latin typeface="GillSans"/>
                <a:ea typeface="GillSans"/>
              </a:rPr>
              <a:t>Fur - The Object Code Ed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981080"/>
            <a:ext cx="71629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91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Object files can be de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91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ecoding an object file is disassembling, reading the relocation information and doing a little detectiv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191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r allows you to manipulate code in various ways without recompiling or even having the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ur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What Can You Do With F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ser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arrang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nalyze Block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ur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Insert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12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sert code at the beginning of each function (or only certain fun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12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sert code at the logical end of each function (or only certain fun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3121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sert code in each “blo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ur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Rearrang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nalysis indicates better cod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locks can be re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s can be re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Prof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288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filing captures what happened during an execution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288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files can be analyzed by software (Automated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2880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files can be analyzed by people (Manual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280" y="216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ypes of Profiling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New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198108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lock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low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spcAft>
                <a:spcPts val="4799"/>
              </a:spcAft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all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rry Feigen</dc:creator>
  <dc:description/>
  <dc:language>en-US</dc:language>
  <cp:lastModifiedBy>Larry Feigen</cp:lastModifiedBy>
  <cp:revision>0</cp:revision>
  <dc:subject/>
  <dc:title>Performance Improvement Tools for UnixWare</dc:title>
</cp:coreProperties>
</file>