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EC98A9-4347-4A4D-B8EF-BA6EC9E32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is is one option for your color 35mm slide or interactive presentation title page. Use when only title of presentation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NOTE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:  For imaging to 35mm slides, change slide setup to 35mm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Background is gradated Reflex Blue which is defined as the following HSL numbers  in Power Poi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H:  41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S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65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L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307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e gradation is VERTICAL and shading is to extreme dark side of sliding sc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itle has black text shadow and is Gold as defined in Power Point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H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91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S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65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L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34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is is another option for your presentation title page when name and title of presenter are des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422280" y="6238800"/>
            <a:ext cx="1892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UnixWare Core OS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61880" y="6469200"/>
            <a:ext cx="191916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GillSans"/>
                <a:ea typeface="GillSans"/>
              </a:rPr>
              <a:t>© 1996 SCO  All Rights Reserved - Slide </a:t>
            </a:r>
            <a:fld id="{42BA1CE0-D998-4B2E-8B7A-71772763B62B}" type="slidenum">
              <a:rPr b="0" lang="en-US" sz="800" spc="-1" strike="noStrike">
                <a:solidFill>
                  <a:srgbClr val="000000"/>
                </a:solidFill>
                <a:latin typeface="GillSans"/>
                <a:ea typeface="GillSans"/>
              </a:rPr>
              <a:t>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91640" y="6067440"/>
            <a:ext cx="814320" cy="52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44496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</a:pPr>
            <a:r>
              <a:rPr b="1" lang="en-US" sz="4400" spc="-1" strike="noStrike">
                <a:solidFill>
                  <a:srgbClr val="0038ef"/>
                </a:solidFill>
                <a:latin typeface="GillSans"/>
                <a:ea typeface="GillSans"/>
              </a:rPr>
              <a:t>Gemini Engineering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83200" y="5029200"/>
            <a:ext cx="77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077840"/>
            <a:ext cx="6746760" cy="246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75080" y="1077840"/>
            <a:ext cx="4172040" cy="2193840"/>
          </a:xfrm>
          <a:prstGeom prst="rect">
            <a:avLst/>
          </a:prstGeom>
          <a:solidFill>
            <a:srgbClr val="0038e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20960" y="863640"/>
            <a:ext cx="37432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VFS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90720" y="198108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  <a:tabLst>
                <a:tab algn="l" pos="857160"/>
                <a:tab algn="l" pos="114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File system tree represented as list of </a:t>
            </a:r>
            <a:r>
              <a:rPr b="1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vfs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  <a:tabLst>
                <a:tab algn="l" pos="457200"/>
                <a:tab algn="l" pos="743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one per mounted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  <a:tabLst>
                <a:tab algn="l" pos="457200"/>
                <a:tab algn="l" pos="743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oints to vector of operations (mount, sync, get root vnode, get vnode of covered mount point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  <a:tabLst>
                <a:tab algn="l" pos="857160"/>
                <a:tab algn="l" pos="1143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vnode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 is file ab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  <a:tabLst>
                <a:tab algn="l" pos="457200"/>
                <a:tab algn="l" pos="743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one per distinct fil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  <a:tabLst>
                <a:tab algn="l" pos="457200"/>
                <a:tab algn="l" pos="743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oints to vector of operations (open, read, wr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  <a:tabLst>
                <a:tab algn="l" pos="857160"/>
                <a:tab algn="l" pos="114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memory management system based on paradigm of mapping file ob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Generic FS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98108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Multi-Threaded Fil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finely multi-thre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er-process and per-fd 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Generic File System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thin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Buffer Pool (b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Only used for inodes and indirect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Directory Name Lookup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for quick mapping of pathnames to v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Pseudo File System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6112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VM Concepts - Address Space (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98108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truct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one pe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one (</a:t>
            </a:r>
            <a:r>
              <a:rPr b="1" i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kas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) per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egmen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working se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ha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7339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37339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2400" y="37339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29600" y="3133800"/>
            <a:ext cx="228960" cy="609840"/>
          </a:xfrm>
          <a:custGeom>
            <a:avLst/>
            <a:gdLst/>
            <a:ahLst/>
            <a:rect l="0" t="0" r="r" b="b"/>
            <a:pathLst>
              <a:path fill="none" w="636" h="1694">
                <a:moveTo>
                  <a:pt x="636" y="1694"/>
                </a:moveTo>
                <a:lnTo>
                  <a:pt x="636" y="1694"/>
                </a:lnTo>
                <a:lnTo>
                  <a:pt x="636" y="1694"/>
                </a:lnTo>
                <a:cubicBezTo>
                  <a:pt x="636" y="1397"/>
                  <a:pt x="607" y="1105"/>
                  <a:pt x="551" y="847"/>
                </a:cubicBezTo>
                <a:cubicBezTo>
                  <a:pt x="495" y="589"/>
                  <a:pt x="415" y="376"/>
                  <a:pt x="318" y="227"/>
                </a:cubicBezTo>
                <a:cubicBezTo>
                  <a:pt x="221" y="78"/>
                  <a:pt x="112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38624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3854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2971800"/>
            <a:ext cx="26668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232680" y="3024360"/>
            <a:ext cx="93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Rockwell"/>
              </a:rPr>
              <a:t>struct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003640" y="3646440"/>
            <a:ext cx="142236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84960" y="3656160"/>
            <a:ext cx="1403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756560" y="3656160"/>
            <a:ext cx="1403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78600" y="3127320"/>
            <a:ext cx="228960" cy="609840"/>
          </a:xfrm>
          <a:custGeom>
            <a:avLst/>
            <a:gdLst/>
            <a:ahLst/>
            <a:rect l="0" t="0" r="r" b="b"/>
            <a:pathLst>
              <a:path fill="none" w="636" h="1694">
                <a:moveTo>
                  <a:pt x="636" y="0"/>
                </a:moveTo>
                <a:lnTo>
                  <a:pt x="636" y="0"/>
                </a:lnTo>
                <a:cubicBezTo>
                  <a:pt x="524" y="0"/>
                  <a:pt x="415" y="78"/>
                  <a:pt x="318" y="227"/>
                </a:cubicBezTo>
                <a:cubicBezTo>
                  <a:pt x="221" y="376"/>
                  <a:pt x="141" y="589"/>
                  <a:pt x="85" y="847"/>
                </a:cubicBezTo>
                <a:cubicBezTo>
                  <a:pt x="29" y="1105"/>
                  <a:pt x="0" y="1397"/>
                  <a:pt x="0" y="1694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21360" y="382284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71"/>
                </a:moveTo>
                <a:lnTo>
                  <a:pt x="213" y="141"/>
                </a:lnTo>
                <a:lnTo>
                  <a:pt x="64" y="141"/>
                </a:lnTo>
                <a:lnTo>
                  <a:pt x="64" y="213"/>
                </a:lnTo>
                <a:lnTo>
                  <a:pt x="0" y="106"/>
                </a:lnTo>
                <a:lnTo>
                  <a:pt x="64" y="0"/>
                </a:lnTo>
                <a:lnTo>
                  <a:pt x="64" y="71"/>
                </a:lnTo>
                <a:lnTo>
                  <a:pt x="213" y="71"/>
                </a:lnTo>
                <a:close/>
              </a:path>
            </a:pathLst>
          </a:custGeom>
          <a:solidFill>
            <a:srgbClr val="0038e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23040" y="382104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71"/>
                </a:moveTo>
                <a:lnTo>
                  <a:pt x="0" y="141"/>
                </a:lnTo>
                <a:lnTo>
                  <a:pt x="149" y="141"/>
                </a:lnTo>
                <a:lnTo>
                  <a:pt x="149" y="213"/>
                </a:lnTo>
                <a:lnTo>
                  <a:pt x="213" y="106"/>
                </a:lnTo>
                <a:lnTo>
                  <a:pt x="149" y="0"/>
                </a:lnTo>
                <a:lnTo>
                  <a:pt x="149" y="71"/>
                </a:lnTo>
                <a:lnTo>
                  <a:pt x="0" y="71"/>
                </a:lnTo>
                <a:close/>
              </a:path>
            </a:pathLst>
          </a:custGeom>
          <a:solidFill>
            <a:srgbClr val="0038e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92960" y="38196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71"/>
                </a:moveTo>
                <a:lnTo>
                  <a:pt x="213" y="141"/>
                </a:lnTo>
                <a:lnTo>
                  <a:pt x="64" y="141"/>
                </a:lnTo>
                <a:lnTo>
                  <a:pt x="64" y="213"/>
                </a:lnTo>
                <a:lnTo>
                  <a:pt x="0" y="106"/>
                </a:lnTo>
                <a:lnTo>
                  <a:pt x="64" y="0"/>
                </a:lnTo>
                <a:lnTo>
                  <a:pt x="64" y="71"/>
                </a:lnTo>
                <a:lnTo>
                  <a:pt x="213" y="71"/>
                </a:lnTo>
                <a:close/>
              </a:path>
            </a:pathLst>
          </a:custGeom>
          <a:solidFill>
            <a:srgbClr val="0038e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46560" y="365616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71" y="0"/>
                </a:moveTo>
                <a:lnTo>
                  <a:pt x="141" y="0"/>
                </a:lnTo>
                <a:lnTo>
                  <a:pt x="141" y="149"/>
                </a:lnTo>
                <a:lnTo>
                  <a:pt x="213" y="149"/>
                </a:lnTo>
                <a:lnTo>
                  <a:pt x="106" y="213"/>
                </a:lnTo>
                <a:lnTo>
                  <a:pt x="0" y="149"/>
                </a:lnTo>
                <a:lnTo>
                  <a:pt x="71" y="149"/>
                </a:lnTo>
                <a:lnTo>
                  <a:pt x="71" y="0"/>
                </a:lnTo>
                <a:close/>
              </a:path>
            </a:pathLst>
          </a:custGeom>
          <a:solidFill>
            <a:srgbClr val="0038e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01120" y="38196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71"/>
                </a:moveTo>
                <a:lnTo>
                  <a:pt x="0" y="141"/>
                </a:lnTo>
                <a:lnTo>
                  <a:pt x="149" y="141"/>
                </a:lnTo>
                <a:lnTo>
                  <a:pt x="149" y="213"/>
                </a:lnTo>
                <a:lnTo>
                  <a:pt x="213" y="106"/>
                </a:lnTo>
                <a:lnTo>
                  <a:pt x="149" y="0"/>
                </a:lnTo>
                <a:lnTo>
                  <a:pt x="149" y="71"/>
                </a:lnTo>
                <a:lnTo>
                  <a:pt x="0" y="71"/>
                </a:lnTo>
                <a:close/>
              </a:path>
            </a:pathLst>
          </a:custGeom>
          <a:solidFill>
            <a:srgbClr val="0038e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415360" y="366876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71" y="0"/>
                </a:moveTo>
                <a:lnTo>
                  <a:pt x="141" y="0"/>
                </a:lnTo>
                <a:lnTo>
                  <a:pt x="141" y="149"/>
                </a:lnTo>
                <a:lnTo>
                  <a:pt x="213" y="149"/>
                </a:lnTo>
                <a:lnTo>
                  <a:pt x="106" y="213"/>
                </a:lnTo>
                <a:lnTo>
                  <a:pt x="0" y="149"/>
                </a:lnTo>
                <a:lnTo>
                  <a:pt x="71" y="149"/>
                </a:lnTo>
                <a:lnTo>
                  <a:pt x="71" y="0"/>
                </a:lnTo>
                <a:close/>
              </a:path>
            </a:pathLst>
          </a:custGeom>
          <a:solidFill>
            <a:srgbClr val="0038e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07200" y="30942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71"/>
                </a:moveTo>
                <a:lnTo>
                  <a:pt x="0" y="141"/>
                </a:lnTo>
                <a:lnTo>
                  <a:pt x="149" y="141"/>
                </a:lnTo>
                <a:lnTo>
                  <a:pt x="149" y="213"/>
                </a:lnTo>
                <a:lnTo>
                  <a:pt x="213" y="106"/>
                </a:lnTo>
                <a:lnTo>
                  <a:pt x="149" y="0"/>
                </a:lnTo>
                <a:lnTo>
                  <a:pt x="149" y="71"/>
                </a:lnTo>
                <a:lnTo>
                  <a:pt x="0" y="71"/>
                </a:lnTo>
                <a:close/>
              </a:path>
            </a:pathLst>
          </a:custGeom>
          <a:solidFill>
            <a:srgbClr val="0038e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30942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71"/>
                </a:moveTo>
                <a:lnTo>
                  <a:pt x="213" y="141"/>
                </a:lnTo>
                <a:lnTo>
                  <a:pt x="64" y="141"/>
                </a:lnTo>
                <a:lnTo>
                  <a:pt x="64" y="213"/>
                </a:lnTo>
                <a:lnTo>
                  <a:pt x="0" y="106"/>
                </a:lnTo>
                <a:lnTo>
                  <a:pt x="64" y="0"/>
                </a:lnTo>
                <a:lnTo>
                  <a:pt x="64" y="71"/>
                </a:lnTo>
                <a:lnTo>
                  <a:pt x="213" y="71"/>
                </a:lnTo>
                <a:close/>
              </a:path>
            </a:pathLst>
          </a:custGeom>
          <a:solidFill>
            <a:srgbClr val="0038e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4197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5105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775480" y="5157720"/>
            <a:ext cx="1784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Rockwell"/>
              </a:rPr>
              <a:t>user virtual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4419720"/>
            <a:ext cx="457200" cy="6858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feccd4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33412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4419720"/>
            <a:ext cx="457200" cy="6858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feccd4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4419720"/>
            <a:ext cx="457200" cy="6858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feccd4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70572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807732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VM concepts - segment dri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44720" y="2000160"/>
            <a:ext cx="70326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VM Concepts - Address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0720" y="1981080"/>
            <a:ext cx="7162920" cy="42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kernel vir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32-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depending on object, may be global, per-node, per-engine or per-process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hysic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64-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for cc-NUMA may be node-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memaddr_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64-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abstraction for global access to physic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hysical address translation determined by P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VM Concepts - Page P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90720" y="198108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Global Page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Free Memory Divided into pages at star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vnode links pages to construct list of “cached” m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no more “buffer pool” as in SVR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Each page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&lt;vnode, offset&gt;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frame number (physical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age private state (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KMA </a:t>
            </a:r>
            <a:r>
              <a:rPr b="1" i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(kmem_alloc</a:t>
            </a: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, etc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90720" y="198108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emory Allocated in Pools, chunk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glob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per-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per-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i386 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90720" y="198108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2-Level 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1 Level-1 Page Table Per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hared By Kernel and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k Level-2 Page Tables for the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k fixed at startup time (k &lt;= 2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 Level-2 Page Tables P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OPTIMIZATION: Try to fit in 1 pag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Autotuning Fac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90720" y="198108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utotu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dbuild 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generates tune.c files from Autot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dtune -g 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recomputes the auto-tun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ee /etc/conf/autotune.d for tuneables that are automatically tuned based on memor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867280" y="5029200"/>
            <a:ext cx="32767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5029200"/>
            <a:ext cx="2438280" cy="1219320"/>
          </a:xfrm>
          <a:prstGeom prst="rect">
            <a:avLst/>
          </a:prstGeom>
          <a:solidFill>
            <a:srgbClr val="0038e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83200" y="5029200"/>
            <a:ext cx="77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206360"/>
            <a:ext cx="77724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Gemini Engineering Overview</a:t>
            </a:r>
            <a:br>
              <a:rPr sz="4000"/>
            </a:b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Core Operating Syste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314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2800" spc="-1" strike="noStrike">
                <a:solidFill>
                  <a:srgbClr val="0038ef"/>
                </a:solidFill>
                <a:latin typeface="GillSans"/>
                <a:ea typeface="GillSans"/>
              </a:rPr>
              <a:t>James M. Hoh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lang="en-US" sz="2400" spc="-1" strike="noStrike">
                <a:solidFill>
                  <a:srgbClr val="0038ef"/>
                </a:solidFill>
                <a:latin typeface="GillSans"/>
                <a:ea typeface="GillSans"/>
              </a:rPr>
              <a:t>Sr. Section Manager, Core O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0" lang="en-US" sz="1600" spc="-1" strike="noStrike">
                <a:solidFill>
                  <a:srgbClr val="0038ef"/>
                </a:solidFill>
                <a:latin typeface="GillSans"/>
                <a:ea typeface="GillSans"/>
              </a:rPr>
              <a:t>E-mail: jmh@sc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64200" y="4867200"/>
            <a:ext cx="2125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Kernel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90720" y="1981080"/>
            <a:ext cx="7162920" cy="40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All are LWPs of </a:t>
            </a:r>
            <a:r>
              <a:rPr b="1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ys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wapin swaps processes in upo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leeper_search swaps out long time slee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wapout forces a process out in des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wallclock_ager for external working set 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kma_giveback returns chunks of per-engine pools to global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ageout writes dirty pages older than page_age_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fsflush flushes buffer cache, inode caches and mapped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Architectural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90720" y="1981080"/>
            <a:ext cx="716292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Major Sub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Memory Management</a:t>
            </a:r>
            <a:r>
              <a:rPr b="1" lang="en-US" sz="2000" spc="-1" strike="noStrike">
                <a:solidFill>
                  <a:srgbClr val="0038ef"/>
                </a:solidFill>
                <a:latin typeface="GillSans"/>
                <a:ea typeface="GillSans"/>
              </a:rPr>
              <a:t> (replaces reg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rocess Management </a:t>
            </a:r>
            <a:r>
              <a:rPr b="1" lang="en-US" sz="2000" spc="-1" strike="noStrike">
                <a:solidFill>
                  <a:srgbClr val="0038ef"/>
                </a:solidFill>
                <a:latin typeface="GillSans"/>
                <a:ea typeface="GillSans"/>
              </a:rPr>
              <a:t>(support for LWPs, threa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VFS </a:t>
            </a:r>
            <a:r>
              <a:rPr b="1" lang="en-US" sz="2000" spc="-1" strike="noStrike">
                <a:solidFill>
                  <a:srgbClr val="0038ef"/>
                </a:solidFill>
                <a:latin typeface="GillSans"/>
                <a:ea typeface="GillSans"/>
              </a:rPr>
              <a:t>(replaces File System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latform Support Module </a:t>
            </a:r>
            <a:r>
              <a:rPr b="1" lang="en-US" sz="2000" spc="-1" strike="noStrike">
                <a:solidFill>
                  <a:srgbClr val="0038ef"/>
                </a:solidFill>
                <a:latin typeface="GillSans"/>
                <a:ea typeface="GillSans"/>
              </a:rPr>
              <a:t>(replaces G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Drivers, STREAMS, SDI </a:t>
            </a:r>
            <a:r>
              <a:rPr b="1" lang="en-US" sz="2000" spc="-1" strike="noStrike">
                <a:solidFill>
                  <a:srgbClr val="0038ef"/>
                </a:solidFill>
                <a:latin typeface="GillSans"/>
                <a:ea typeface="GillSans"/>
              </a:rPr>
              <a:t>(no cl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rimitives</a:t>
            </a:r>
            <a:r>
              <a:rPr b="1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ksynch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, DLM, </a:t>
            </a:r>
            <a:r>
              <a:rPr b="1" i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kdb,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traps, syscall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Dynamically allocated structures replace static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no more: proc, file, region, pregion, stream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New tune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More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90720" y="1981080"/>
            <a:ext cx="7162920" cy="46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Expanded Fundamental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uid_t, gid_t, pid_t, dev_t, mode_t are unsigned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values constrained by kernel for binary 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TREAMS everywhere!  TTYs, pipes, 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torage Device Interface (S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dynamic, multi-HBA support for disk, tape, CD-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Kernel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loadable modules - drivers, VFS, COFF/x.out, K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interface versioning (for driver, etc., compati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autoconfiguration of device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ecurity - discrete privilege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Gemini Kernel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90720" y="1981080"/>
            <a:ext cx="3505320" cy="42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Large Fil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64-bit per LFS s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Large Memory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Max 16 GB (P6 PA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Multi-path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automatic fail-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Controller hot-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Improved crash/d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Improved K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New driver, PSM (HAL) interfaces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981080"/>
            <a:ext cx="350532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cc-N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no app chan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node abstraction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GillSans"/>
                <a:ea typeface="GillSans"/>
              </a:rPr>
              <a:t>CPU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GillSans"/>
                <a:ea typeface="GillSans"/>
              </a:rPr>
              <a:t>Mem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GillSans"/>
                <a:ea typeface="GillSans"/>
              </a:rPr>
              <a:t>multi-path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GillSans"/>
                <a:ea typeface="GillSans"/>
              </a:rPr>
              <a:t>new APIs in fork, exec, shm, fcntl, m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locality changes will improve SMP as wel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Process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43280" y="2305080"/>
            <a:ext cx="4610160" cy="118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43280" y="3486240"/>
            <a:ext cx="4610160" cy="118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43280" y="4991040"/>
            <a:ext cx="45720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91240" y="2952720"/>
            <a:ext cx="11811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394344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554364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62400" y="554364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937200" y="2674800"/>
            <a:ext cx="698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956280" y="3598920"/>
            <a:ext cx="52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203800" y="5770440"/>
            <a:ext cx="755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917800" y="5751360"/>
            <a:ext cx="755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936880" y="5141880"/>
            <a:ext cx="235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 I L E  I /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67160" y="3505320"/>
            <a:ext cx="0" cy="1162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10120" y="3486240"/>
            <a:ext cx="0" cy="1200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74760" y="3916440"/>
            <a:ext cx="9460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U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(lw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603600" y="3935520"/>
            <a:ext cx="9460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U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(lw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241960" y="3935520"/>
            <a:ext cx="8701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(lw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17840" y="2506680"/>
            <a:ext cx="24703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UTION ENVIRONMENT STA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+ ADDRESS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+ FILE DESCRIP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+ CREDEN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Process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90720" y="1981080"/>
            <a:ext cx="3505320" cy="441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nformation sha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IDs (pid, gid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Address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ignal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Cdir/R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Credent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Resource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rocess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rofiling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Accounting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File/IPC Descrip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981080"/>
            <a:ext cx="35053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nformation related to an LW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cheduling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ignal M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Accounting Inf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ointer to fields (cdir, rlimit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chedu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9536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Four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TS, FP, FC, S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Global, per-node and per-CPU run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Automatic load bal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Explicit binding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User level 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Kernel 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Designed for cache affi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upports pre-emptible 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VM/VFS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676520"/>
            <a:ext cx="85345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124080" y="1676520"/>
            <a:ext cx="3962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Rockwell"/>
              </a:rPr>
              <a:t>System Call/Trap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2286000"/>
            <a:ext cx="42670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2895480"/>
            <a:ext cx="61722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3505320"/>
            <a:ext cx="85345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114800"/>
            <a:ext cx="42670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4724280"/>
            <a:ext cx="6629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334120"/>
            <a:ext cx="85345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114800" y="2895480"/>
            <a:ext cx="3962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Rockwell"/>
              </a:rPr>
              <a:t>Address Space (AS)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286000"/>
            <a:ext cx="3962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Rockwell"/>
              </a:rPr>
              <a:t>Upper Level FS (VOP)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8120" y="3505320"/>
            <a:ext cx="3962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Rockwell"/>
              </a:rPr>
              <a:t>Segment Driver (SOP)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86200" y="5334120"/>
            <a:ext cx="3962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Rockwell"/>
              </a:rPr>
              <a:t>Hat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8080" y="4114800"/>
            <a:ext cx="3962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Rockwell"/>
              </a:rPr>
              <a:t>Lower Level FS (VOP)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447920" y="4724280"/>
            <a:ext cx="3962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Rockwell"/>
              </a:rPr>
              <a:t>Page/Pvn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2590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3200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4419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3809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0120" y="38098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5943600"/>
            <a:ext cx="85345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5638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05320" y="5943600"/>
            <a:ext cx="3962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Rockwell"/>
              </a:rPr>
              <a:t>MMU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09880" y="5029200"/>
            <a:ext cx="228960" cy="304920"/>
            <a:chOff x="3809880" y="5029200"/>
            <a:chExt cx="228960" cy="304920"/>
          </a:xfrm>
        </p:grpSpPr>
        <p:sp>
          <p:nvSpPr>
            <p:cNvPr id="193" name=""/>
            <p:cNvSpPr/>
            <p:nvPr/>
          </p:nvSpPr>
          <p:spPr>
            <a:xfrm>
              <a:off x="3809880" y="5029200"/>
              <a:ext cx="228960" cy="152640"/>
            </a:xfrm>
            <a:custGeom>
              <a:avLst/>
              <a:gdLst/>
              <a:ahLst/>
              <a:rect l="0" t="0" r="r" b="b"/>
              <a:pathLst>
                <a:path w="636" h="424">
                  <a:moveTo>
                    <a:pt x="211" y="424"/>
                  </a:moveTo>
                  <a:lnTo>
                    <a:pt x="423" y="424"/>
                  </a:lnTo>
                  <a:lnTo>
                    <a:pt x="423" y="127"/>
                  </a:lnTo>
                  <a:lnTo>
                    <a:pt x="636" y="127"/>
                  </a:lnTo>
                  <a:lnTo>
                    <a:pt x="317" y="0"/>
                  </a:lnTo>
                  <a:lnTo>
                    <a:pt x="0" y="127"/>
                  </a:lnTo>
                  <a:lnTo>
                    <a:pt x="211" y="127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0038e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5181480"/>
              <a:ext cx="228960" cy="152640"/>
            </a:xfrm>
            <a:custGeom>
              <a:avLst/>
              <a:gdLst/>
              <a:ahLst/>
              <a:rect l="0" t="0" r="r" b="b"/>
              <a:pathLst>
                <a:path w="636" h="424">
                  <a:moveTo>
                    <a:pt x="211" y="0"/>
                  </a:moveTo>
                  <a:lnTo>
                    <a:pt x="423" y="0"/>
                  </a:lnTo>
                  <a:lnTo>
                    <a:pt x="423" y="297"/>
                  </a:lnTo>
                  <a:lnTo>
                    <a:pt x="636" y="297"/>
                  </a:lnTo>
                  <a:lnTo>
                    <a:pt x="317" y="424"/>
                  </a:lnTo>
                  <a:lnTo>
                    <a:pt x="0" y="297"/>
                  </a:lnTo>
                  <a:lnTo>
                    <a:pt x="211" y="297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38e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mes M. Hohman</dc:creator>
  <dc:description/>
  <dc:language>en-US</dc:language>
  <cp:lastModifiedBy>jim hohman</cp:lastModifiedBy>
  <cp:revision>0</cp:revision>
  <dc:subject>Gemini core OS architecture notes</dc:subject>
  <dc:title>OS overview/forum</dc:title>
</cp:coreProperties>
</file>