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24D69F-DD0E-40BA-87E3-0E9C7436F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422280" y="6238800"/>
            <a:ext cx="27828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IPv6: Migration to a new Internet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61880" y="6469200"/>
            <a:ext cx="191916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GillSans"/>
                <a:ea typeface="GillSans"/>
              </a:rPr>
              <a:t>© 1996 SCO  All Rights Reserved - Slide </a:t>
            </a:r>
            <a:fld id="{9B968705-8F85-45FD-AEDE-CAE7A9989F12}" type="slidenum">
              <a:rPr b="0" lang="en-US" sz="800" spc="-1" strike="noStrike">
                <a:solidFill>
                  <a:srgbClr val="000000"/>
                </a:solidFill>
                <a:latin typeface="GillSans"/>
                <a:ea typeface="GillSans"/>
              </a:rPr>
              <a:t>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91640" y="6067440"/>
            <a:ext cx="814320" cy="52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932520" y="5257800"/>
            <a:ext cx="1720800" cy="1104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183200" y="5029200"/>
            <a:ext cx="77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473120"/>
            <a:ext cx="777240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IPv6: Migration to a new</a:t>
            </a:r>
            <a:br>
              <a:rPr sz="4000"/>
            </a:b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Internet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55640" y="314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2800" spc="-1" strike="noStrike">
                <a:solidFill>
                  <a:srgbClr val="0038ef"/>
                </a:solidFill>
                <a:latin typeface="GillSans"/>
                <a:ea typeface="GillSans"/>
              </a:rPr>
              <a:t>Harvey Thomp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lang="en-US" sz="2400" spc="-1" strike="noStrike">
                <a:solidFill>
                  <a:srgbClr val="0038ef"/>
                </a:solidFill>
                <a:latin typeface="GillSans"/>
                <a:ea typeface="GillSans"/>
              </a:rPr>
              <a:t>Software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o crea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F_INET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cke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unctions tak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kaddr_in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(), connec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msg(), sendt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unctions return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kaddr_in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pt(), recvfrom(), recvmsg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peername(), getsocknam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upport in socket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sually written as eight 16 bit hex numbers, separated by a 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080:0000:0000:0000:0008:0800:0200c:41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Leading zeroes in each field not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080:0:0:0:8:800:200c:41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One group of multiple 16 bit zeroes may be written as two co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080::8:800:200c:41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ew name/address functions (1)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IPv6 Address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pecial case for IPv4 embedded addresses, last two fields can be written in IPv4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:150.126.25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:FFFF:150.126.25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Pv6 tunneled over IPv4 uses former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(or </a:t>
            </a:r>
            <a:r>
              <a:rPr b="1" i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Pv4-compatible IPv6 address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Pv6 talking to IPv4 uses l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(or </a:t>
            </a:r>
            <a:r>
              <a:rPr b="1" i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Pv4-mapped IPv6 address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ew name/address functions (2)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IPv6 Address Notation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nvert hostname to address(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addrinfo()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(POSIX 1003.1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nvert address to host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nameinf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heck for embedded IPv4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et6_isipv4add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ew name/address functions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nvert address string to address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et_pto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nvert address structure to address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et_ntop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ET_ADDRSTR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ET6_ADDRSTR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ew name/address functions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63640" y="1523880"/>
            <a:ext cx="7416720" cy="46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low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FLOWINFO_FLOWLABEL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24 bit ma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FLOWINFO_PRIORITY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4 bit ma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PRIORITY_*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8 congestion, 8 real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ocket optio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IPPROTO_IPV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ADDR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UNICAST_HOPS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out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MULTICAST_IF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out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MULTICAST_HOPS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out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MULTICAST_LOOP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out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Other feature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  <a:tabLst>
                <a:tab algn="l" pos="188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ADD_MEMBERSHIP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inco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  <a:tabLst>
                <a:tab algn="l" pos="188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DROP_MEMBERSHIP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inco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  <a:tabLst>
                <a:tab algn="l" pos="188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pv6_mreq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  <a:tabLst>
                <a:tab algn="l" pos="1432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128 bit multicast grou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  <a:tabLst>
                <a:tab algn="l" pos="1432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128 bit interface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  <a:tabLst>
                <a:tab algn="l" pos="2352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pecia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  <a:tabLst>
                <a:tab algn="l" pos="188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6addr_any, IN6ADDR_ANY_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  <a:tabLst>
                <a:tab algn="l" pos="188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6addr_loopback, IN6ADDR_LOOPBACK_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Other featur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63640" y="1523880"/>
            <a:ext cx="7416720" cy="44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 API definitions are work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he draft will eventually become an R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 standards have room for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Keep an eye on new RFCs that update or outdate existing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is means things will probably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Further Reading is probably out of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his presentation is probably out of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CO’s plans for IPv6 may well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This is out of dat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63640" y="1523880"/>
            <a:ext cx="7416720" cy="448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IPng Home Page”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playground.sun.com/pub/ipng/html/ipng-mai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Basic Socket Interface Extensions for IPv6”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ds.internic.net/internet-drafts/draft-ietf-ipngwg-bsd-api-05.txt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Internet Protocol, Version 6 (IPv6) Specification”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ds.internic.net/rfc/rfc188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IP Version 6 Addressing Architecture”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ds.internic.net/rfc/rfc1884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Internet Control Message Protocol (ICMPv6) for the Internet Protocol Version 6 (IPv6)”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ds.internic.net/rfc/rfc1885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lus many more…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ds.internic.net/rfc/rfc-index.tx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ds.internic.net/internet-drafts/1id-index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Further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63640" y="1536840"/>
            <a:ext cx="74167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What is IPv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Why is IPv6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When will IPv6 become avail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How do we migrate to IPv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63640" y="1536840"/>
            <a:ext cx="74167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 version of the Internet Protocol (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Larger address space (128 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mproved address hierarchies and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implified head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mproved opt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mpatible with IPv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What is IPv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63640" y="1536840"/>
            <a:ext cx="74167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 Internet is growing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he IPv4 address space will run out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he backbone routers may collapse soo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upport for new and futur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Why is IPv6 nee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63640" y="1536840"/>
            <a:ext cx="741672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rom SCO, partially in Gemini (mid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he user level socket APIs will support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he O/S services will be “IPv6 read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Later on SCO will ship full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Protocol (device and kernel)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dditional IPv6 services and A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ndustry support over next few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When will IPv6 become avail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63640" y="1523880"/>
            <a:ext cx="741672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igrate existing networked applications in mi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dd support for IPv6 address formats and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est using IPv4 node address (::FFFF:d.d.d.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ost migrated applications should “just work” when full implementation ar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pecialised applications may then need more changes an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How do we migrate to IPv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44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Extends existing BSD style socket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44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 address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44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upport in socke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44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 name/addres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44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Other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Flow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ocket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pecial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228600"/>
            <a:ext cx="883908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The IPv6 socket API Draf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 protocol and address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F_INET6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F_INET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 IPv6 address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n6_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128 bits of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ew address data structure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 sockadd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kaddr_in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16 bit family (or 8 bit length, 8 bit fami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16 bit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32 bit flow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128 bi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ew address data structur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ki Nakada, John Lehmann</dc:creator>
  <dc:description/>
  <dc:language>en-US</dc:language>
  <cp:lastModifiedBy>Niki Nakada, John Lehmann</cp:lastModifiedBy>
  <cp:revision>0</cp:revision>
  <dc:subject/>
  <dc:title>Black and White Template</dc:title>
</cp:coreProperties>
</file>